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6B7-10FF-47DD-BEE7-3771BB86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385-E07C-4F8E-8088-4FC33852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B658D8-C9AD-4CE4-A4FE-09415C9B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176DF3-905C-47D1-8AC0-45FBB573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54B39-BD2B-45DE-BC47-6DD91635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6E9F3-C23C-4487-9014-42251937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54ADDC-5D4D-4627-90F4-FA28E38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E7649B-A806-40BD-BA37-CC00EF0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CA31E-9195-4BB1-934E-00B677D5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6E6AB-F9BD-4E11-A43C-E33DCB71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1F73E-A439-4CB8-899B-18E283CA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484B2B-929F-4870-9C8F-773961F5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585-AB04-4739-A0B4-7CB8C402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AC72B-2615-4CF7-BD32-08D8185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D4DE-FF23-42E3-95FF-4F52F26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EBEE6-4702-49BF-A00C-83088716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80061-0C23-4466-BDD4-C038D0A5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052E9-C3A2-4857-B48F-A35E1CC6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76557-3A82-4038-ADF5-484D66A9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BF06D-F379-4DD6-838C-5499C7A2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60616-2DDC-485F-854D-73DD3DF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E3D22-5080-4E70-9B36-1BCB6AD3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7A474-F0BE-4CC5-A492-0E46EDC8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344-0CAD-465D-9D10-4BB8F48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472DF-98F3-4296-B36F-AE9FEA51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01E7-D824-4B9A-BED8-AE9C548BD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826D0-E332-4D3E-AEC7-D2BC7ED4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0A8D8-A95D-41F6-B663-2941D38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A70E5-D444-4A9F-B7B1-862D3D84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056E2-73B8-402C-85CB-B9B80FB1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6A8B2-FEA1-4F6A-B6C7-F1D0D24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F2E4D-6616-45F4-9B1A-419EAD91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43087-CD34-4A68-BA9E-F406F5E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085AB-9151-4066-A015-C24F3844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713C-54D8-4B13-8DCB-1F34825A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C3213-F20B-40F5-BA39-F52478D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2A4A8-5C3E-423C-B832-0D63B48F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57CC3-2263-47E6-85E2-DC38F22A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8FC38E-BCC9-49AC-AAFE-F88673E1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8A0E9-76A5-4E45-8D16-F473B343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B6D4F-71EB-4526-85CD-344E520A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C7282-0EC9-4FE7-A1C9-47F80F54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B934B-F711-41F2-9C07-B3BBE11A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6FB0D-9A37-4F7E-A4BF-91BCB5F2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369A4-EFEE-49CE-97DB-A0A1148A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3860-7346-4380-B237-4F33AA12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F5DF73-13EF-406A-9EA5-66115EA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F0B2B-04DA-4EA0-96E9-6BAE91F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AAAB6-057B-459E-8F17-A3936F0E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D783C-1C41-4EF9-8A47-EF6CE7F9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CA878-DD5C-4AC5-8F89-39915019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6BE9-9E69-48FE-AB10-B344D5F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5C56-77E5-47A9-A8E3-6DB9F98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30FE-C29B-4D5D-B2A7-DE5CB4EA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661E-791D-4D8C-9F57-95578522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B72B-57EC-46B3-86D0-C8AA5C2A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CDE-9670-4886-995F-2A618E69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DC10-803A-402F-9FF6-5836CB16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5083-84D7-4BC0-89D6-9E65C2A9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FB2-EF2B-4103-9CD3-52FA78D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DA70-CB12-4873-AB71-42E149A5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4F59-3734-448D-993F-60C04C2D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35FC-DB1F-412F-9F3D-38722A57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D6E6-9CD9-48C3-96C6-3E04AD5E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4D85-FA8B-449A-BE82-308F7F1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D5FE-F418-4E1A-9B92-A8D43B1C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B0A0-4296-4B18-A03A-CADC99FA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769-04BE-452B-AED0-31377F0D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C966F-0D85-465C-91C2-C3DBD912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5B2D-7CF2-4AAD-A38E-75DD94A6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C8249-44A8-408D-8674-4CB59BAF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56CB-9B39-436F-AFBC-2FC5D96A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9BE0-5D95-46D9-B7B9-54CEE8F7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FA211-A205-42A0-A72B-5719BC12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C07B-F9F7-44C5-BB30-AB3DFBDBA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FFE49-A9FB-4FBB-AB10-7F687BB0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5E67E-DA7C-4799-AAB2-7A9F3D7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3350B-832A-48D1-8D51-6F269965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988-AD2C-4C99-9433-A6D9D999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BD095-C90E-432C-9F96-23ACF9D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BE6A5-23BA-4DFF-9C7A-13B3FD0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A69D-9072-4656-A1DE-BFCFAC70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6E740-53B4-4AF6-925A-927B824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091B-0F2F-44F5-9DFE-4EA928D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A33C-861C-4223-9FE7-3CCFF4D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C87E4-57E4-4974-8A50-AC36ED28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62CF-CAD2-4D72-B21B-90F1543F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44B72-86F4-497C-AF68-910D4610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31EF-9389-481C-9CE8-4CDE8D78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F02-5E8B-4462-849C-9AC9F391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84E4-EA1A-4535-9749-1B74FD7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45A2-3909-476F-8D60-5A672668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A6CCC-5905-4470-A054-B8F5D289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F8762-0B44-4920-96C8-E668879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A9C04-2A7E-4EA6-B053-E4B34617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36B4-35CB-4F5C-9DD5-9651F007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3AB9-16B6-4545-927E-4713E21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A9BD-3829-49CA-B024-A4F11A82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A613-C027-4905-B15A-51931770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266C-0E88-4757-9F0F-7B7452F0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583-BFB2-4771-86BA-8F385259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3E78A-CF8A-455D-B8A5-75FC0866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7E08-2EF3-4A03-9A00-A68B5288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4E57-0BC6-4994-9B95-C8A6FB40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EE9F2-AA42-4E9F-A65D-0CBF2837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5D394-1516-4318-974F-CC9D1F2D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9471C-983F-4FE7-A96E-03787C2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5D112-FD67-4011-A74A-76807315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46DFE-5CD8-4FC2-B883-0190F289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2814-4092-45E1-B1DD-1032CA41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D113B-8627-41A0-B12C-D9978B3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A2A-4F4B-43E4-ADA6-F2F7B4B9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D7FB0-CBE8-45EE-A530-56F6E112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7640D-E2BF-44EF-B142-EA8A3B89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F358E-7D97-4E0E-9B40-C1C38CC2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5350-E3B8-4228-B255-4C076AF1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71BA-3F39-48D4-AFDA-0BF2E292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B80E5-0029-43ED-8C0E-08392AF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C8BC-A864-4073-A4D9-1347835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322EB-3130-4DDA-BBAA-877F3693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3300-0C9E-41E4-8443-C46C2F21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E3F83-9659-4C3C-A15E-0174F24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819-D0D4-4583-9195-2D513D55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8C7C7-EBBA-403B-808C-AFDF419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5228D-B0F0-4A09-A603-DA06AECB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99F23-0E13-42D8-BBD2-8640DF6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4122F-300E-418E-A851-92971C50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FF549-6286-4CEA-97C7-276AA4421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85BF5-1D01-4237-8749-354FE333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183AB-6989-4AD4-B88D-C379B4E5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08DF-6519-427F-B76E-8D7721B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73933-782B-44CD-B0DB-24F65727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EC79E-9E15-4993-A6E3-9E849183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4A3-6F59-41B3-8CC4-7B2E0CF7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1EEC-5F2B-40F8-84DF-8FEF966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875F4-9C1B-447C-BAC0-7D788D2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98B14-B246-436F-AE8A-8BBAEA5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B7566-E4A0-4341-B8EA-92F724C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793D-AB15-47CC-BDAD-4A1F330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01A9-90C5-4DA3-AE6B-C2576800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7A7E0-DCF7-46FF-9AC5-48846E91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72D26-7C01-473F-B37B-45E02743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6792B-CF0A-44A1-849C-4BBBB826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BC661-9CD5-4A01-A74D-C3174807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CD1B-2EEA-421C-BF8A-5705D18ACF2F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E22F-2C29-4FA4-B6F8-893B482DEC8A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6A5-DB2B-4B28-8909-8B186646FA81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DDA-5B20-4227-AF56-C98B2CE3437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3996-36D6-41CC-8100-732E96233E73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2BA7-4FDD-4380-B2D9-8191A3C71BFD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7C7-4B27-469E-904E-93161B9D59AE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4A5-B738-436C-B4C7-19AF7E0A2469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AE9E-992E-4F0E-B0EC-C018B22F2805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256-8DEC-4B7D-8912-05BC30A6D8C9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D4E0-830E-491C-87FB-E1AEE1917B07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0a208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AB9-6BDA-428D-BBEE-DFE8CE5A3C09}" type="slidenum">
              <a:rPr b="0" lang="en-US" sz="1600" spc="-1" strike="noStrike">
                <a:solidFill>
                  <a:srgbClr val="e0a208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e5b6f"/>
                </a:solidFill>
                <a:latin typeface="Georgia"/>
              </a:rPr>
              <a:t>LESSON 1.5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fd13b"/>
                </a:solidFill>
                <a:latin typeface="Georgia"/>
              </a:rPr>
              <a:t>Using a Graphing Calculator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Objectives for the day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raph ordered pairs from expression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graphs to find values, create tables, and select appropriate window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Group Work!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reak up into your groups and work through and answer questions to the activities in section 1.5  on pages 33 –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finished, your group will complete the covering the ideas on page 38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Homework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s 39 – 41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9 – 2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ad section 1.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age 45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 - 9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21:54:11Z</dcterms:created>
  <dc:creator>Laura Helbing</dc:creator>
  <dc:description/>
  <dc:language>en-US</dc:language>
  <cp:lastModifiedBy>Laura Helbing</cp:lastModifiedBy>
  <dcterms:modified xsi:type="dcterms:W3CDTF">2012-08-10T02:26:19Z</dcterms:modified>
  <cp:revision>2</cp:revision>
  <dc:subject/>
  <dc:title>Using a Graphing Calculator</dc:title>
</cp:coreProperties>
</file>