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474-A712-4DC2-9B04-C08C6879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6305-D3E2-487A-940E-47073DBA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2E2CE-BA29-4CE4-8CAA-D5E2E7E0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2D9E3-F322-4BC4-8499-C5F0EB4D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E76BA-1E17-4007-BC93-B1AB882E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ADCF5-1147-4DAF-B328-651141A8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5D10ED-3D6A-4CED-ABE7-6B94BFFD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DB38C-2400-41C7-BD47-5A93EE25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420F7-4C8F-46CF-BE21-E033430A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68375-AA99-4C56-9CE2-AE9A5F8F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10D35-6189-41CF-B264-49882E2D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CCC0C-D4BC-4676-95E5-8D15E650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1CC-D09E-4F67-B2CE-F55FDB41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45AE0-BA29-4308-A74C-23E6C4C7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734F8-F6F2-480C-912C-02F5B312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7B66A-ADEF-4A14-ADDA-1767CA4C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C7D7E-85C4-451E-9461-61856B35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8CE3F-8277-4416-8831-7D754A80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C3BCD-4C6D-40D2-BE66-22CE4226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3033C-7E79-4633-BE9F-5D58EA79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368B5-64A3-4244-AB82-B4C8508C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D4737-8216-4F70-A88A-88AD7AEC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D011C-93FE-4B61-B68B-3CFF4CE8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88D-2C3A-4773-A13A-BE6DB7EB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00AE3-DEFD-4077-B17F-D176BDAA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189C1-DD2C-4E0B-A75C-C4E9B88C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94C36-E200-45CA-848A-6C4154F5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53CD9-5608-48AB-A8DE-15E9BEDC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AA400-E229-4DD0-B7AD-29710940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842F7-4822-4EF6-BA39-BAC955C9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1FC5B-BE97-4708-B58F-847E1A24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78395-C15B-49EA-8181-110D59C6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AFC2C-02E2-4DE8-8F96-963C5BB8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7840A-FB69-4121-AFC9-D3114103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9135-A1AA-4C13-994C-8F0C10E9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7A284-BD22-4F22-BB6C-39C91CE2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69F1E-13C1-40F4-86C8-4BC1CC10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38ED8-AA95-4697-ABA1-21048E77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9EA2D-6F80-442F-A45D-6DAB661F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0F1CA-9A63-4230-B541-49973C8E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40F32-C3D2-4C67-8604-6E10E58B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CB032-3528-4119-B1DD-07F0F7AC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5EC4B-50E9-4166-94C3-25966723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46D0B-FAB2-470A-88EE-C8364CDA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F50EE-BDB1-4FCF-9BD9-703EC2C5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FD12-9383-4A00-99F4-50BBD5DD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44C70-9315-40A3-A705-8C4EFBD0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8777F-0190-489F-B450-3859A624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C5639-E88C-4CD4-851C-B206DA83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4AB6C-348C-4876-8989-ACDAA3C7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EC29E-0D7C-4E8D-8C11-6E07637A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94CF-37AD-4AFC-9059-852E55D3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66ED-E621-4975-B714-ACA8A0FD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D2CB-7304-4885-B218-A2ED4EF7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B342-6879-4C5F-8DB0-27B75EDB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223B-8C95-4EE7-9E6E-DEA83793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61C-57FE-4C8D-863F-744D0523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939B-CC65-4590-B78B-712459C2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D3EC-9D22-4E21-97A8-FA900FD8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1068-6AD5-4B94-9CAB-974A03D2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F41A-B5E2-4F65-807E-5BB8F49B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D343-A7FF-4420-A129-725D5D5C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94206-3E18-4331-B4DF-79E89545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1B3FD-8B8A-4BEB-B648-711924B9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AC0C7-91E1-4FDB-9D72-660EE672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4A007-9A83-44A3-8A6B-A5991EF3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611E-8020-4D9F-ABBA-F893A7DF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B20-4C4C-4E49-AC89-E86721B9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8E6C2-ADD2-4146-AE5A-7D06239D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4FC8B-19A4-4A79-8680-126A79FA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3803C-4608-4AAF-A6FC-355CD3EB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F00D3-9EB3-4077-AB12-9B459383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0B68-F451-4DCC-A8AD-EB9162A2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8C2BF-5B7E-4855-A9DC-BE2AB6EE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9D809-9339-4EE1-A04E-434996DC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122FC-D12D-41DD-A4A6-E5C454F8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95DFC-FB9F-4894-B24B-3395D88F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317A1-9560-4746-B636-D9393E63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01A-DA21-45FD-9A08-946BFAB7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AEE9C-F9DF-4126-8F3E-5994EDFD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7280F-1626-4676-B6F3-4B7BD450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246A0-0971-462E-9E06-6828C261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B1507-FBCF-40D3-9B08-13ED0FB9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DAA75-00D9-44B9-9658-048E18EB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F544D-64F4-47C4-922B-183690E1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3F59C-2D21-4A45-AAD4-B21FE3F7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9800D-EC32-4272-9E53-82AD4315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11F59-3B84-41E5-8FCF-8BB4C5BC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A7C79-9273-4026-B38B-855064E7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CE0-1C75-4859-87C7-C1025B29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2BA10-1C4F-44FE-AE09-1AF7851A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1AC6E-57E9-4A3C-AA62-FCA65C8C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01958-EFC6-4B67-9898-9AB3E9DF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1DB56-D597-469B-A88B-FE82B4FA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3B507-D9FA-45A9-827A-FD4D737E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7F347-B344-4BF6-8AFD-9E4FC7FD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8D494-7F1B-432F-A261-B018A74D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E88B4-2AF1-41E5-8B4C-5F8C116D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A38C0-0F36-45CA-9D91-7F0C24B5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1FD3D-BFE6-4286-A30B-D4039165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C20-714D-49ED-A671-05A3A5AF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99FDC-E65C-4008-B329-2445DD70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3EDA3-40AE-45C1-993F-74BFD9C9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EBD34-EE31-4F0E-BFF7-6B2E7240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B17F6-5C15-43C6-80F2-BC665E70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09FE9-4530-4F4A-8072-2B9B08BA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AF561-E24F-481D-ABEE-10053505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CB722-E89C-45D7-A88D-C2213C6D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AF720-D981-471B-8BFA-C9CF4C6C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ADB6D-EEB6-46AF-94E1-82DD51DC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D62C3-074F-49DD-BD9E-78CEC667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075-0F58-46E1-9FF0-2AFBF64A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DA2EB-758D-42F3-94C7-EE69629D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1055C-5B43-4594-BACA-AF278F8F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358D8-9B02-4A71-8292-14E16FC2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F6629-B468-4BE6-895F-D6334860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4B9D9-BCCE-42DC-ABF6-C5C5C6F7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B775D-1E75-4B4D-BE44-E37D531B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A7103-89C1-492D-844A-89355FE2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B0356-BCE2-4847-91E0-C624517F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47A2D-AE00-4B3C-B499-CA522BDC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0C94D-089A-4C87-A4B8-27D4A6C5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C50-EC48-491A-853C-1C747886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662FC-33C0-4949-97DF-948FE72E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49142-A8E2-42A9-B2DC-590F39E6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C3BF9-9E4A-4846-9402-2F1DCF2E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4E0BC-BD05-4243-9D96-B0763EA9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8E198-23C9-41D0-BACD-8E7362C6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7B01A-6E0F-4F60-BBD3-213558CF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CED14-AEAA-457D-8044-CA333C2F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C5C4C-1AF8-4004-9F02-08A3B766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CC14A-DF3B-4C06-B0C2-4F72D5EC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90988-C1E6-408B-AD93-721DD3DF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43D-B052-40D2-B213-34F8DFCB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9F634-A4E9-4D9A-A0A7-784F432D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15A50-2CEC-4E3B-93A3-51731185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75E73-08C4-4557-951E-EA26640D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66CC7-21B6-4F88-8421-EFF6C681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F557D-0670-4CAA-8306-EBDF81B0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8FCC1-20A5-4EB8-9515-CCC6E807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86017-CAA3-425A-9949-D20DC9F0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6160D-5761-43AC-8A62-B17BC05D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ED0D0-D830-47BE-BC61-B39F24EA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4D623-9181-48AD-92D5-8BBAEA1E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879E-8084-40FA-8BB3-08B2360B231F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D88A-C3BF-4BAA-ACCD-BDEC4E9E2CB6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7C04-FEA7-4001-BE80-CE8B82BA799A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64BC-BE26-41A9-9C70-91DD68E39EE2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87F7-14DB-4C57-BB59-A0332CB92DE4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1D33-32AD-4F5F-B06C-3BDCEFBD3E32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E901-75EC-48B8-864D-2B9B8824587F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e5b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C7BA-E4C5-4D81-B3AC-BF5EC3A3BA85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e5b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85E7-5118-4E77-AFF7-2A747F23F58E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A8DD-11A6-47F3-936A-0AEDC9C0BFCF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3977-172F-4B5D-B8BE-A2F19352B195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E391-D95B-4564-A385-007BA39E52B2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e5b6f"/>
                </a:solidFill>
                <a:latin typeface="Georgia"/>
              </a:rPr>
              <a:t>LESSON 1.5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fd13b"/>
                </a:solidFill>
                <a:latin typeface="Georgia"/>
              </a:rPr>
              <a:t>Using a Graphing Calculator</a:t>
            </a:r>
            <a:endParaRPr b="0" lang="en-US" sz="4200" spc="-1" strike="noStrike">
              <a:solidFill>
                <a:srgbClr val="e0a20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Objectives for the day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raph ordered pairs from expressio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graphs to determine whether expressions seem to be equival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graphs to find values, create tables, and select appropriate window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Group Work!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reak up into your groups and work through and answer questions to the activities in section 1.5  on pages 33 – 38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finished, your group will complete the covering the ideas on page 38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ages 39 – 4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9 – 2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section 1.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age 45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 - 9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21:54:11Z</dcterms:created>
  <dc:creator>Laura Helbing</dc:creator>
  <dc:description/>
  <dc:language>en-US</dc:language>
  <cp:lastModifiedBy>Laura Helbing</cp:lastModifiedBy>
  <dcterms:modified xsi:type="dcterms:W3CDTF">2012-08-10T02:26:19Z</dcterms:modified>
  <cp:revision>2</cp:revision>
  <dc:subject/>
  <dc:title>Using a Graphing Calculator</dc:title>
</cp:coreProperties>
</file>