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B096-040A-41C6-B7AA-0E7098742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AB26-4DDE-4876-8817-052B214F5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7D986C-7EFA-43A0-948A-2C552626F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4258C5-04F5-443E-95A8-9B2A86497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8AFE5E-BC1C-4580-8480-0CE29D17E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57CCC8-F236-49C3-8929-EB6645F0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D93DAE-9C97-4A98-A3AE-6067AAB8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335C14-6FD2-4E55-9D70-A0DCB184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BF4C36-CA61-4555-A4DF-63537D16E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982F2F-1BA3-44D2-BACD-7AE3E9660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1A318A-F6CA-4F46-AE98-5DBA7AD23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61944C-8A79-4A42-9840-329863C5E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EF3F-3178-4DD6-BE4D-91FE0884E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90B449-8B95-4538-AECC-55A9CD598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63AAA8-ED9C-4EDD-85FF-4ABCE104A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092C48-26E8-4DBD-A687-BAA48FDAA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B1ECBE-E6AD-4820-BCA8-9A5B77324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A28C8D-D5BA-4498-A829-E9D506F5B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54F1F3-B3AC-460D-849B-44E72075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7B1AE4-D060-46B4-B706-A083A722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BDA2CA-0AAB-4ED1-A658-5E42EA61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D41F4F-D9D0-4596-A8E8-332FCE514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744CDA-957F-4B18-9DD9-02DD7B0CB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B7FA-9240-48DC-8852-F4A0A499B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D962DD-C94B-4035-952B-5283DB08B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8D4284-546A-4037-AFAE-AB2E932B1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FC2DA3-CAD7-4018-8F34-C86109722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1E2741-CC88-4445-AD32-E9900C282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7567F6-3EFB-4390-8841-1DCEEE140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50E8EC-1A00-4A72-A04F-492A3E571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728E7E-139D-4B1E-84B8-85EE6C316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6ADBD3-4FBC-4090-BBE5-D87A5FE74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1C977F-2953-4419-93EC-4DCDFD42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194235-B84A-4482-937D-5315EEE7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10866-D931-4138-B7F7-2D933A360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611DA0-D7A4-4BF6-8A23-E5151D0F4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595EC6-131B-49E1-B587-E396D9AD8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F0B976-E223-4AAE-809F-2EC3BF5DE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C3C044-79EB-4DB4-9F09-8665AC633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61A38D-B0CE-4F62-9DCE-210F0E195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EB4AE3-D3B8-49F7-86FD-51F7549F7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961103-4086-421E-B664-30F8F81E7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6E2172-DC89-4C5D-B205-FEA8E83D7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26F3EB-574F-474B-8721-4F9DFE349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A2BF18-EE07-47BB-A2E1-53BF4873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4D991-8ACD-49CB-924F-CA52DB607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88777F-DCBF-4208-99A4-3E9564F9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F10A5C-F60F-431A-9D0E-79AE479E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B57601-4C71-488F-AB5A-C9FE9D45A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EAAB6B-4B33-40D0-9C92-2FB1932A1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F8D79A-3367-4535-987E-88D18A3EF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AA81B-3F95-428E-ADA1-5CF2983BB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3426F-8CDE-4396-920B-8E5D1EC3D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8908D-185D-4F6E-8925-108CDEA54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2C1E8-BB2E-45B8-910B-422E4D5B7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9A48A-4AAE-40D0-9855-8D5E6768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E7F7-1A81-4E53-A73A-7E40AC9F8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D8E02-7C7E-4B16-AD15-2C2D163F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27F0C-2A42-4B2A-88D7-4911794B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5553A-6EE5-4EA5-8EE8-8BDDE215D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31D2B-0340-46C4-B42C-2A051E4B2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80B3E-5E8B-47BE-984B-0E62408C0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3FA25-20ED-4592-962D-B50FD80A2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EDEAB-D74E-4B84-8D94-F7801F6D1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127B0-184F-434A-BD97-825E7ADA8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4C62A-FFA0-41F7-949C-2EA469BE3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97AA7-F049-4B77-8421-EE8CC4E7A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9037-AE68-42C3-8F6B-D12A1DAA6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E66DC-6651-4DD6-9E1F-54FB27ED3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45600-517D-4822-A3E7-62727BFD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A3D63-CED3-4C39-A109-76DB15B8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C6A97-31C9-4D88-8A98-3123AADD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61CD1-B91E-485E-8396-565B19557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E8CDB-60C8-4579-B81B-F11474CA9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C5EEE-1E3C-4E25-ABB7-DE9AD9F2E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7773C-897C-4183-9E5D-1DD35C9BD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30655-6FAA-4C29-AEA5-00CCA6362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5AE90-79CF-4353-B2F3-08AEEF776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08F3-E638-4645-8C5A-52BFF7F90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580A3-327C-42C2-8F1B-01C8BEFE3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F7E58-C058-4173-919C-92178F0B8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3B1C1-5C3F-44BD-A274-0EA32DC47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8113C-164B-4697-A4B3-5D1FD978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11518-6E08-4685-A756-B838AE18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764DB-642E-448D-B029-C58F0999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6E3AA-C9BC-437B-8C7F-884FA6D86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E5751-477C-4D13-A3B5-6291D9062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5B428-84F9-46D5-A01B-777BD99A3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E5D14-B053-4AB6-9C80-D7058D57D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49B2-8689-4EBC-9E21-759C592BE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9F8A9-673E-41FD-9D6D-1388BA7C9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2CE74-A8D9-4331-8D3E-1EFE998E3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479B0-7194-451E-BA48-9E43FD5AF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75B96-486D-43B1-B329-85888124D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0F00A-B20E-45B3-BD39-C5F127391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D7254-5A8A-48AA-924C-4B183E6A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25B79-4B47-4C82-819C-4A57C438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36080-070D-4C61-BDD1-323CDB99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7DA48-7E1A-4341-9E8E-5A15C772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398F9-13B0-41A0-B1D2-0C10B643C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826A-5A5E-4F9A-950D-50F19980B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16108-EEBA-4073-ADAD-C9819A197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6ECDC-2464-4224-B59C-01D5A3D6C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AC2A0-B6D1-404B-A471-7055650C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06FEAF-4867-484F-80A1-3E70E7273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B074D-4D13-43DD-9B81-E20904428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B80887-8ADD-4939-8B9A-F7BD48786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3EC4C-D838-4CFA-B42F-011E9FF6E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14D9AB-10F9-4F46-9F2D-F7265BBB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7536C-0D14-4BB9-A7DA-702EE57B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C7185-E8CB-4646-A617-DA88B2FB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BEE2-E523-4C69-8597-5F2C5BED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B8BE4-6DDF-424E-8D76-0C10C89A2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5FCFDD-C801-478D-9E61-5AFD112B9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C9B8C-3BE9-459F-A9EE-E2C940380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9D2567-A889-4A14-B904-DA7853D81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BB394-EAE6-43B5-92D8-A9695B24E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DBBAE-2023-4BC9-8975-1F71ABBB1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A3C155-F38E-466E-8E0C-2AED534F3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A1E60A-A5E1-469F-BDC2-102A5E15A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E4568E-4C8D-4914-B73C-91D6B3C82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86E68-8506-44D2-A19C-6055B430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CB66-9B5F-4096-AEE1-F02AFF63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BB3B4B-5DF1-4005-92B3-1C3065B7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1C27FC-8975-493F-B8D4-2B5D38C9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7371B-341C-428C-B59A-043B7FFCB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065880-31FA-4F47-A715-505831052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7917E6-CE72-4FD4-8830-C10C243A9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8D85CF-EC15-4A3D-8C5C-DB2CA6FF7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327846-A97D-4842-A26E-A714D4FC5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FF0EE2-E4CA-4EBD-8DCB-822CC8FD7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49F63D-FA57-40B8-8063-E90D9B15E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327422-501D-40EC-BF66-101AE4017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B85D-A2CD-417C-8324-2852B6CC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09F64B-5219-446C-A7A4-AC12AF6BD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DF766D-90E1-4C8C-AEA8-6D4034B0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1516C1-4C7E-4E19-96EE-996D05CA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AE108E-CEE9-457F-A42B-2CBF7945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0B12F5-3BCB-40A6-B285-18C3F3AB3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32EC82-C4B4-4308-AB3B-147B4B8EB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2888F3-634F-475D-BA54-386E5C22C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F41D9B-4B6A-4D46-9771-5A11C39F1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EDD460-C3EF-4ADC-A0EB-52B4C92E4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7567D0-5BC2-4D3F-A7A8-270F3BCBC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e0a20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0a208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2A1BB-5677-4519-8CF4-01CA15C358DD}" type="slidenum">
              <a:rPr b="0" lang="en-US" sz="1600" spc="-1" strike="noStrike">
                <a:solidFill>
                  <a:srgbClr val="e0a208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a157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feb80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add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38ac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e0a20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a157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feb80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add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38ac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0a208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DF9E9-1DEB-4F93-AB88-99DA4FE1977B}" type="slidenum">
              <a:rPr b="0" lang="en-US" sz="1600" spc="-1" strike="noStrike">
                <a:solidFill>
                  <a:srgbClr val="e0a208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e0a20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a157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feb80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add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38ac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0a208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70B06-5F50-4016-9DD4-DE8FC228A233}" type="slidenum">
              <a:rPr b="0" lang="en-US" sz="1600" spc="-1" strike="noStrike">
                <a:solidFill>
                  <a:srgbClr val="e0a208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e0a20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a157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feb80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add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38ac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0a208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65FBB-4E29-4DEB-970D-88217833A26A}" type="slidenum">
              <a:rPr b="0" lang="en-US" sz="1600" spc="-1" strike="noStrike">
                <a:solidFill>
                  <a:srgbClr val="e0a208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e0a20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a157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feb80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add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38ac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0a208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272B3-FB40-470A-A2A2-50C3A454949C}" type="slidenum">
              <a:rPr b="0" lang="en-US" sz="1600" spc="-1" strike="noStrike">
                <a:solidFill>
                  <a:srgbClr val="e0a208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e0a20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a157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feb80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add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38ac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0a208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09ED8-699B-4280-9774-8750396A5F8D}" type="slidenum">
              <a:rPr b="0" lang="en-US" sz="1600" spc="-1" strike="noStrike">
                <a:solidFill>
                  <a:srgbClr val="e0a208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e0a20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a157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feb80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add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38ac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0a208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1CE8F-A2F3-452B-978D-F71DFB95B76C}" type="slidenum">
              <a:rPr b="0" lang="en-US" sz="1600" spc="-1" strike="noStrike">
                <a:solidFill>
                  <a:srgbClr val="e0a208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e0a20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4e5b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a157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feb80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add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38ac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0a208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B8ED1-06AA-4B2B-BB4F-621B39FC81E6}" type="slidenum">
              <a:rPr b="0" lang="en-US" sz="1600" spc="-1" strike="noStrike">
                <a:solidFill>
                  <a:srgbClr val="e0a208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4e5b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e0a20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a157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feb80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add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38ac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0a208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54E0E-5CD4-4A0A-8B82-9A4F3A56C678}" type="slidenum">
              <a:rPr b="0" lang="en-US" sz="1600" spc="-1" strike="noStrike">
                <a:solidFill>
                  <a:srgbClr val="e0a208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e0a20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a157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feb80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add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38ac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0a208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1AA73-5B90-4C52-AF80-E9C9C9353BC8}" type="slidenum">
              <a:rPr b="0" lang="en-US" sz="1600" spc="-1" strike="noStrike">
                <a:solidFill>
                  <a:srgbClr val="e0a208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a157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feb80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add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38ac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B3377-A651-4EA1-868A-D5D516629C02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e0a20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a157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feb80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add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38ac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0a208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3605E-4D8E-4837-9FD1-934A56C54DF9}" type="slidenum">
              <a:rPr b="0" lang="en-US" sz="1600" spc="-1" strike="noStrike">
                <a:solidFill>
                  <a:srgbClr val="e0a208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e5b6f"/>
                </a:solidFill>
                <a:latin typeface="Georgia"/>
              </a:rPr>
              <a:t>LESSON 1.5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fd13b"/>
                </a:solidFill>
                <a:latin typeface="Georgia"/>
              </a:rPr>
              <a:t>Using a Graphing Calculator</a:t>
            </a:r>
            <a:endParaRPr b="0" lang="en-US" sz="4200" spc="-1" strike="noStrike">
              <a:solidFill>
                <a:srgbClr val="e0a208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Objectives for the day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Graph ordered pairs from expression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Use graphs to determine whether expressions seem to be equivalent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Use graphs to find values, create tables, and select appropriate window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Group Work!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Break up into your groups and work through and answer questions to the activities in section 1.5  on pages 33 – 38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hen finished, your group will complete the covering the ideas on page 38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Homework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ages 39 – 41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9 – 26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ead section 1.6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age 45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1 - 9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9T21:54:11Z</dcterms:created>
  <dc:creator>Laura Helbing</dc:creator>
  <dc:description/>
  <dc:language>en-US</dc:language>
  <cp:lastModifiedBy>Laura Helbing</cp:lastModifiedBy>
  <dcterms:modified xsi:type="dcterms:W3CDTF">2012-08-10T02:26:19Z</dcterms:modified>
  <cp:revision>2</cp:revision>
  <dc:subject/>
  <dc:title>Using a Graphing Calculator</dc:title>
</cp:coreProperties>
</file>