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4743-DD62-4671-A62B-C7AB5957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9CA7-6302-4286-8B67-D905F1AD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F87B9E-A3C5-4314-AD4C-BA43D831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39D512-E162-4B68-8C08-72511B6C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11356-1E37-4353-92C0-04059189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72F72B-67F2-45E1-9A70-DC9070C8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1B9C0D-AE0A-4BDB-A1A6-F66E80AD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462B9F-FAD0-4DF7-B27B-C9CB76E9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9D2DBA-48B7-46DF-A8C5-E253F36B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46EB82-389B-4E60-9B37-6E778B01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ACFF2-5D7B-43EC-B0A3-40C21540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CE7362-D8E6-4131-8D46-2738DFD7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05F4-5DE6-4D66-A346-A84E0F8D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99DE67-5916-4E38-B023-4BAC2DA8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A7E05-FF2B-4B91-914F-C5A28A9E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6A60E9-994F-4479-91D7-4970EF84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B054CE-E1A6-4F9A-A89B-6E1F71B1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08AAF5-D213-4DDE-B314-2CB47499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7AF00A-2562-4446-9B28-CE4C810D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C2F651-BAF5-48FF-9685-3384F1B5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15203C-4F38-47F8-A097-C433060C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4471C8-FBAD-4B2F-B14E-034FFC48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BCCFB6-0BF5-4214-9FA2-8543C502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DA29-FC3A-4554-A2DB-71BA3899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6DC1F8-1ED7-4BA8-86B7-1574E622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8717F-D84C-4C9F-84C6-388AB48D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C5022-B05A-40E7-8043-309AB9B9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FB24F-DEF3-4CAC-8F81-BB3C267C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4B3B9-701B-43D7-B927-4F17B1B7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4C553-FDA9-43B1-A48E-D5E945C8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E1119-65EC-40C5-953A-182805E6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A1CCD-4BC5-4F2E-A9A7-952286AE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13EA5-29E9-4FB9-9536-07DC3438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0820B-9A19-4455-B878-9871D116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9CD5-2F06-4045-93B1-25BEA2226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ED530-BCF5-4325-93AD-5E1DC75B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E7D43-7570-415E-B023-995E608D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3E122-922B-4C27-AE0F-4B1D4B20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C8E802-3C43-405B-9042-CAE6EA92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DAABCF-BF2C-4673-8BB7-BFE335C1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66C29D-249C-4F3D-A730-B0EBD59D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4863B6-A2DC-4877-8827-4676077F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FC4678-D15C-486A-A1D7-5A132E5D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C0C373-663F-4214-96BC-297B1636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B3BF12-E50A-4725-BD13-DD95DC4B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5CB2-FC1A-4405-98D1-D042EB1C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04A680-B311-401C-AAB4-81D2057D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C3C55C-A99E-4EF2-AB90-F67B5082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9BA2DE-D81C-4C85-AD09-334B4E80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366706-572B-461C-8618-4B5B83AF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C5BE69-31BF-4D51-9AA7-8936BB69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11A5-3C1D-4A6D-8300-857CADAF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7F74-3E2B-4848-8B24-69AEED53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854F-A8DE-4ADF-8BAD-0B8343E2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196F-8556-4D5F-B9B4-5FE5BD91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676F-9F99-4A83-93A3-FABD5E89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66C-24CB-4093-9D8A-4EE43D0B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5082-2A13-44DB-9873-55294254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345B-83EB-4A99-83C7-5E1DDC6B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8F60-8CD2-4B53-BD36-0A4996F1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399D-B239-4618-A423-60307F72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63C9-733E-4C4A-ABBD-503547E3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97446-349C-43CC-AA0D-02950AA6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06344-E1AD-48FF-8E89-57EEC86B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01738-F16B-40E9-8DD9-2AC1CB4B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AFAEB-46F7-4DD7-BE39-EB8E3CAE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E5627-093D-4EA8-AE10-951BB08E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4C58-C5F7-4D62-86E7-40EB8179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448F3-E432-440D-8E7E-6ADDD113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E55AE-A2E6-4261-8671-9180BE42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22933-6661-42EB-9194-8B526B86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504E4-D45A-4746-849E-FD1BED82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1431-1354-48C2-AFCB-530628C8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0ED48-C09A-4A30-B4BB-76E15791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618A4-176E-4435-ACFB-5F82E567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F2CD9-32A2-4CDD-B3FD-B243AB71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29C30-0DC1-4F93-978A-181358B0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A96AF-6F97-4F1D-8832-C00DBC99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1EDA-26C3-4E8C-80C6-3EE283BE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F0BFE-CDA3-4339-BE35-C7F98289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782AE-F5CD-495F-8D8D-42CF60BD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340F9-EB64-4149-8D85-E7A7B0AD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E05E1-6B23-4270-9AE5-663FA676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6F01C-2DCB-4787-9F98-4E3EFCDA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60AC4-5B17-4AB4-AF0C-15F6B1E6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EF540-E5B8-495B-8181-8D9E2870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44776-588A-4309-B739-3733DCF0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2F6FA-2071-453D-8733-2C53D4E1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9E859-CE25-4E6B-B366-AA060515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22C-FEBC-4BA2-8BAC-35FF921D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8F544-A59D-456B-894A-B0D4A9C7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DE8F6-7783-4A63-A515-9438DD3E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CC0FF-FED3-431F-80EB-0AEA97BA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1BA1D-034F-4D74-987D-12EB7DFB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6F1A3-D596-4BD6-9C3C-BA830A17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95E3C-2E78-4C6A-BF53-3873170F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AB49B-F6AF-4A63-B7D1-12A1F4D2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C18CB-72BC-4BC4-8542-EEF96A1E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8F99F-4E91-4C03-B939-4083724B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93EDF-ADB1-4B85-9696-15617F87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FCD8-5B71-4834-9D4D-275B5384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D5C96-F1F8-46B1-986C-CE7E05D0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44045-7B3F-4D37-BFD2-2A88499D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8B03C-FD90-4B61-8FEA-FFE14CAF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4EF29-0A7E-46A6-AD18-CE28502E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E6C39-8AE1-4626-A4A7-C3FC6EFD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DEDC9-7962-4815-98B5-FA251989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E0699-3D75-48D1-800B-9ECDAA65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3E943-084D-4FFE-9459-846EA697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265AA-E052-45AD-9962-30AD658A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21A80-0397-4DE3-BA3D-821FADB0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EA5A-C8DD-4214-91A0-1A8053B5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A9504-D3A4-42A4-9D07-7812C45B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FA998-DFAC-455B-8875-DF47EEA8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04DE8-1DC1-43E0-8C33-2A9F6F62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36732-BEA3-4E79-BE1B-0A3C6A7E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4BF70-6CEB-4AFA-8EA6-9F303F41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0DEEA-D694-4874-B04B-8970E9CE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E7122-7F2F-485E-81AF-6AC9027E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10379-6C67-4B7F-80F2-D8BDC9CB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E0EE1-437C-45FB-8DA2-D2829AC2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7AED2-EBF4-4749-8174-1DFA05C3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AAD8-99FA-4CC5-BA14-BC0DB3F8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BF2A7-113F-441E-BFB7-01560171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A0A25-1579-40C8-8885-45DC7EED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659D8-E352-4B40-B1B8-E43EC4FF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0A9A1-1635-4D56-B488-0D3D4D27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BC30E-F507-4BA3-9168-0ADD2750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C3A17-C048-4D3C-A034-64941DAB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50724-F2A7-44DE-87A0-28460933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2653E-C469-4163-8953-FCBAB457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6E2DA-7E2C-4A12-B328-C97BD91E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FDFF4-C209-4989-8BC0-222EF4E9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D5C3-2BEF-4859-B1D3-C5EA81D9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2CDD1-37D7-4FDF-BC79-91C3D641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8025C-9986-4AA3-8ABB-24D5F8D5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55211-FFF8-4F80-9FCA-F4693B46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3B4E4-E0C6-40CB-BA43-D348004E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54D8B-A07A-4CB3-8EE7-68BEA6C2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D9DB4-13B7-4631-9481-CCDA1DC4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4E4B1-3931-4F61-BBF5-2E4C53B3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C1264-D3F3-439C-AC2F-F59AD82B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51AF16-13A1-4A60-8FBD-AD2F5DB5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0FAEEE-10AC-4EBA-B917-03FCDA00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4C1E-87BB-46FD-AA3B-5E6013557B0F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E447-C39B-42E5-B008-3037C1D32406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5EAD-8C0F-438E-B048-E021B8F1C290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CBF0-87AA-4062-B402-694016DB9390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A598-B7CA-4BF1-B347-4DF5924F0E18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4458-759F-4A37-8E70-6BDC62A79E0F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31DA-5309-4A98-A369-8BBED8086AF1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e5b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BFA7-6B52-4FD0-AFCD-73AFA4588FCC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e5b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08D2-AB21-4442-8F2C-B0AA83CAE9E8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A40A-2AF3-4B3F-AB5D-462683E18F59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D121-C327-4562-AA52-A57F49D01E9F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3822-C145-42E0-8D81-026F75D29938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e5b6f"/>
                </a:solidFill>
                <a:latin typeface="Georgia"/>
              </a:rPr>
              <a:t>LESSON 1.5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fd13b"/>
                </a:solidFill>
                <a:latin typeface="Georgia"/>
              </a:rPr>
              <a:t>Using a Graphing Calculator</a:t>
            </a:r>
            <a:endParaRPr b="0" lang="en-US" sz="4200" spc="-1" strike="noStrike">
              <a:solidFill>
                <a:srgbClr val="e0a20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Objectives for the day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raph ordered pairs from expressio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graphs to determine whether expressions seem to be equivale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graphs to find values, create tables, and select appropriate window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Group Work!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reak up into your groups and work through and answer questions to the activities in section 1.5  on pages 33 – 38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 finished, your group will complete the covering the ideas on page 38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Homework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ages 39 – 41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9 – 2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d section 1.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age 45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 - 9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9T21:54:11Z</dcterms:created>
  <dc:creator>Laura Helbing</dc:creator>
  <dc:description/>
  <dc:language>en-US</dc:language>
  <cp:lastModifiedBy>Laura Helbing</cp:lastModifiedBy>
  <dcterms:modified xsi:type="dcterms:W3CDTF">2012-08-10T02:26:19Z</dcterms:modified>
  <cp:revision>2</cp:revision>
  <dc:subject/>
  <dc:title>Using a Graphing Calculator</dc:title>
</cp:coreProperties>
</file>