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70DD-4653-4F46-BDC7-50CA3827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excel and divide the class into groups of 2.  Have students work on the first two activities (BRING TOOTHPICKS!) and go over with the cla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to think about it on 21 –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question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What does the 3n + 1 stand for? (each new square means three more toothpicks, the 1 is for the first square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How else could we represent this , other than with pictures or with an algebraic expression?  (grap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In terms of graphing, what does the three stand for?  (slope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The 1?  (y-interce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 Why would we try to create a formula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7807-B2A3-46E4-B1E2-EB0F43059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9D2-B722-4907-9862-CB46E27E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E59-988C-4993-904F-D761D852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040-9D63-4317-A4F6-AAC87398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B26-B144-4D59-A64A-4307A704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CF3-F2A4-4035-8BDE-DFD04A3D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636-1E02-49A3-9970-1332E54F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45E-1F9A-4D71-9685-12124D44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D83-F421-4652-AB2F-41E752C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C85-017B-44C0-844F-A668B437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536-9967-4609-89DB-E3E2DA3C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7F4-9B67-4A84-AE70-CDF129B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B3E-D564-4361-ACF9-3DA12FC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C599-5211-4E89-9D8A-B34BA68BD61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642600"/>
            <a:ext cx="90010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stances of a pattern are given.  Describe the pattern using on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2 – 2 ∙ 2) ÷ 5 = 5 ∙ 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3 – 2 ∙ 3) ÷ 5 = 5 ∙ 3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-1 – 2 ∙ -1) ÷ 5 = 5 ∙ -1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works as a salesman in a large appliance story.  He earns $400 a week plus 10% of any sales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xpression for his weekly earnings if he sells a dollars worth of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1760" y="142884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#4 :Using the table, evaluate each expression for 4 different values of the variabl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371484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Use your results to determine whether the exp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9n – 2n + 5 appears to be equivalent to the expression 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 and explain your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equivalent because for each value of n, the expressions give differen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s of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ctivities 1 &amp; 2 on pages 20 –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er: Answer all questions to the activities. Be prepared to hand thes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oard: be prepared to come to the board and show your work / though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eaker: be prepared to defend your work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ilder: draw or use toothpicks to show each step to help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= -3  (bc |-3| ≠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5 Draw the fourth in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6: How many circles and how many triangles will there be in 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circles, 22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: How many circles are needed to make the nth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8: Describe the pattern of triangles using the variable n to represent the number of circ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rcRect l="71680" t="31251" r="10742" b="55629"/>
          <a:stretch/>
        </p:blipFill>
        <p:spPr>
          <a:xfrm>
            <a:off x="6388200" y="1428840"/>
            <a:ext cx="2755800" cy="12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ow are instances of a patter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361320" y="4714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936960" y="6143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rcRect l="25783" t="77819" r="44111" b="8423"/>
          <a:stretch/>
        </p:blipFill>
        <p:spPr>
          <a:xfrm>
            <a:off x="500040" y="500040"/>
            <a:ext cx="6000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ksheet 1.3A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3- 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 – 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9 –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8-30T19:00:38Z</dcterms:modified>
  <cp:revision>100</cp:revision>
  <dc:subject/>
  <dc:title>PRESENTATION  NAME</dc:title>
</cp:coreProperties>
</file>