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5DFF-8C91-48DB-A385-C2F0B5B5D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excel and divide the class into groups of 2.  Have students work on the first two activities (BRING TOOTHPICKS!) and go over with the clas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to think about it on 21 –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question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What does the 3n + 1 stand for? (each new square means three more toothpicks, the 1 is for the first square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How else could we represent this , other than with pictures or with an algebraic expression?  (grap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In terms of graphing, what does the three stand for?  (slope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The 1?  (y-interce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  Why would we try to create a formula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871D-1271-4332-979B-00D29CB80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C7B-70FE-466A-88D9-18ABED12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E0E7-5243-4FA6-BB24-93E481A0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6B3-ADD3-4234-AADB-BF3736A1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42E1-A8C0-427C-A6BA-2AE00DF7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3A4-8C88-4312-97C2-EE37C5FC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D33-A8E2-4663-AF6B-9FDCD52D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092-9C40-42D0-BB6A-251F0A31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C54-E245-4447-B8CA-3529D419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AF2-33DC-4D91-86D1-7D8F2CEE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5CAC-E652-4F3C-A605-A5A20C44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B81-C2FE-4E2D-AF87-ECF5C8F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F4A-9CDC-437C-98A2-9BD89389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DCBF-3A1B-4027-BB0B-1B05A3D75B0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642600"/>
            <a:ext cx="90010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instances of a pattern are given.  Describe the pattern using one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2 – 2 ∙ 2) ÷ 5 = 5 ∙ 2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3 – 2 ∙ 3) ÷ 5 = 5 ∙ 3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7 ∙ -1 – 2 ∙ -1) ÷ 5 = 5 ∙ -1 ÷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 works as a salesman in a large appliance story.  He earns $400 a week plus 10% of any sales he m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expression for his weekly earnings if he sells a dollars worth of appli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7480" y="1773360"/>
            <a:ext cx="640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Verdana"/>
              </a:rPr>
              <a:t>Equivalent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692000" y="2446200"/>
            <a:ext cx="652284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Sectio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for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variables to describe patterns in instances or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two expressions seem equivalent by substituting values or making a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733840" y="214308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terms in a specific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91680" y="3571920"/>
            <a:ext cx="84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s that have the same value for EVERY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an be substituted for the variable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571760" y="1428840"/>
          <a:ext cx="6095880" cy="18540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#4 :Using the table, evaluate each expression for 4 different values of the variable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3714840"/>
            <a:ext cx="91440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1427"/>
                </a:solidFill>
                <a:latin typeface="Arial"/>
              </a:rPr>
              <a:t>Use your results to determine whether the expre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9n – 2n + 5 appears to be equivalent to the expression 5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 and explain your rea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equivalent because for each value of n, the expressions give different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3880" y="1397160"/>
          <a:ext cx="6096240" cy="1854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9n – 2n + 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s of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activities 1 &amp; 2 on pages 20 –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er: Answer all questions to the activities. Be prepared to hand thes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oard: be prepared to come to the board and show your work / thought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peaker: be prepared to defend your work to the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uilder: draw or use toothpicks to show each step to help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#1-3, Consider three instances of the pattern bel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428760" y="1643040"/>
            <a:ext cx="85010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4| = 4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½| = ½  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5.32| = 5.3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1: Describe the pattern using one vari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x|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2: Find another number that is an instance of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|147.2| = 147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#3: Find a number that is a counter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01427"/>
                </a:solidFill>
                <a:latin typeface="Arial"/>
              </a:rPr>
              <a:t>if x = -3  (bc |-3| ≠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5 Draw the fourth in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6: How many circles and how many triangles will there be in th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st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circles, 22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7: How many circles are needed to make the nth desig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8: Describe the pattern of triangles using the variable n to represent the number of circl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rcRect l="71680" t="31251" r="10742" b="55629"/>
          <a:stretch/>
        </p:blipFill>
        <p:spPr>
          <a:xfrm>
            <a:off x="6388200" y="1428840"/>
            <a:ext cx="2755800" cy="1285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ow are instances of a patter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361320" y="4714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3936960" y="614376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rcRect l="25783" t="77819" r="44111" b="8423"/>
          <a:stretch/>
        </p:blipFill>
        <p:spPr>
          <a:xfrm>
            <a:off x="500040" y="500040"/>
            <a:ext cx="60008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orksheet 1.3A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3- 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0 – 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ages 29 –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9:20:27Z</dcterms:created>
  <dc:creator>Mediac</dc:creator>
  <dc:description/>
  <dc:language>en-US</dc:language>
  <cp:lastModifiedBy>Laura Helbing</cp:lastModifiedBy>
  <dcterms:modified xsi:type="dcterms:W3CDTF">2012-08-30T19:00:38Z</dcterms:modified>
  <cp:revision>100</cp:revision>
  <dc:subject/>
  <dc:title>PRESENTATION  NAME</dc:title>
</cp:coreProperties>
</file>