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9D86-33F9-4624-A102-5B766FD0C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excel and divide the class into groups of 2.  Have students work on the first two activities (BRING TOOTHPICKS!) and go over with the cla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to think about it on 21 –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question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What does the 3n + 1 stand for? (each new square means three more toothpicks, the 1 is for the first square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How else could we represent this , other than with pictures or with an algebraic expression?  (grap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In terms of graphing, what does the three stand for?  (slope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The 1?  (y-interce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 Why would we try to create a formula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A52-FF16-41F5-A91A-969441E3C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EC5-3AB4-46ED-93AE-FCDB494A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5F0-E7A4-40E7-B10A-EEF44B11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7A7-6844-4BF9-8243-49BBCDE5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C1E-1B3E-4A0B-A2F7-BF57D97D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EA5-5918-42AE-944E-8CE2404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7DA-55A8-4E4F-BF8E-F1B53E0B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F2D-F1AF-4FB9-A1C2-55883DA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E76-A6BB-463A-A7E0-228F6B05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BBA-34AC-4E76-BF2F-DD59B956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ACC-8E30-48FF-AC15-7C4BF65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C55-25AA-4945-A51A-421F7E3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F6A-D4F7-4C3A-A2E6-468A169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ABDA-651C-4BB0-99D7-255E56A8E3A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642600"/>
            <a:ext cx="90010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stances of a pattern are given.  Describe the pattern using on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2 – 2 ∙ 2) ÷ 5 = 5 ∙ 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3 – 2 ∙ 3) ÷ 5 = 5 ∙ 3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-1 – 2 ∙ -1) ÷ 5 = 5 ∙ -1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works as a salesman in a large appliance story.  He earns $400 a week plus 10% of any sales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xpression for his weekly earnings if he sells a dollars worth of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1760" y="142884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#4 :Using the table, evaluate each expression for 4 different values of the variabl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371484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Use your results to determine whether the exp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9n – 2n + 5 appears to be equivalent to the expression 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 and explain your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equivalent because for each value of n, the expressions give differen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s of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ctivities 1 &amp; 2 on pages 20 –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er: Answer all questions to the activities. Be prepared to hand thes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oard: be prepared to come to the board and show your work / though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eaker: be prepared to defend your work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ilder: draw or use toothpicks to show each step to help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= -3  (bc |-3| ≠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5 Draw the fourth in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6: How many circles and how many triangles will there be in 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circles, 22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: How many circles are needed to make the nth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8: Describe the pattern of triangles using the variable n to represent the number of circ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rcRect l="71680" t="31251" r="10742" b="55629"/>
          <a:stretch/>
        </p:blipFill>
        <p:spPr>
          <a:xfrm>
            <a:off x="6388200" y="1428840"/>
            <a:ext cx="2755800" cy="12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ow are instances of a patter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361320" y="4714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936960" y="6143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rcRect l="25783" t="77819" r="44111" b="8423"/>
          <a:stretch/>
        </p:blipFill>
        <p:spPr>
          <a:xfrm>
            <a:off x="500040" y="500040"/>
            <a:ext cx="6000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ksheet 1.3A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3- 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 – 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9 –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8-30T19:00:38Z</dcterms:modified>
  <cp:revision>100</cp:revision>
  <dc:subject/>
  <dc:title>PRESENTATION  NAME</dc:title>
</cp:coreProperties>
</file>