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0D66-0F22-4F15-A73D-22FAEF569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621B-16A8-4615-BE8B-447F49703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2E6-A8C2-42B0-80E1-17451BA6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5563-A66E-404D-B9A8-C0D40610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B3E5-9AE1-40A5-81ED-E01505FB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59D9-13E7-4580-8BB7-05C96670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8605-DA0F-4E93-BC74-FAE7891D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290E-9E45-4C92-B18B-46A29685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F1A-9A0A-4593-B397-8D6F55F0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29C-3C39-48F4-80DC-7D394543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F90-A74A-47A0-9EBF-4DEBEF1F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EC5-CBC3-4A46-999E-12122F78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34DF-94DB-4C60-8EF8-A2085266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3E4-5C73-47AB-976A-5C80B752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1049-431B-498E-9C40-8EC1E0D61A6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m-up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very lamb has 4 legs.  Every chicken has 2 leg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How many legs do 5 lambs and 20 chickens ha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How many legs do 100 lambs and 27 chickens ha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How many legs do L lambs and C chickens ha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293920" y="289548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 l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513960" y="4495680"/>
            <a:ext cx="178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4 le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598840" y="6273720"/>
            <a:ext cx="14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l + 2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Finish worksheet 1.2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Pages 16 – 1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1 – 22 (ex. Cred: 23)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401427"/>
                </a:solidFill>
                <a:latin typeface="Calibri"/>
              </a:rPr>
              <a:t>Describing Patter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1441440"/>
            <a:ext cx="640080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401427"/>
                </a:solidFill>
                <a:latin typeface="Calibri"/>
              </a:rPr>
              <a:t>Section 1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Objectives for the da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Use variables to describe patterns in instances or t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Identify and apply the associative, commutative, and transitive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Create expression to model real-world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33360" y="76212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Ter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Fa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Inst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14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1427"/>
                </a:solidFill>
                <a:latin typeface="Calibri"/>
              </a:rPr>
              <a:t>Patter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063240" y="4952880"/>
            <a:ext cx="505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roup of terms which a connection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ship can be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3666960" y="37339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term of a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2981520" y="1295280"/>
            <a:ext cx="57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umber, variable, or combination of the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3139200" y="2514600"/>
            <a:ext cx="525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umber of expression that is multipl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If a ∙ b = c, then a and b are factors of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3064680" y="175248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.  5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7x + 8y + 6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6252840" y="17524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valuate each expression #1 -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828800" y="6094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(3 + 8) ÷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(4 + 8) ÷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(5 + 8) ÷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Write another instance of the pattern (#4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2 ( 9 + 8) ÷ 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2748960" y="18288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3051360" y="3124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2901240" y="4114800"/>
            <a:ext cx="8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e two instances of each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 5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 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∙ x ∙ x ∙ x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(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∙ 2 ∙ 2 ∙ 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(-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∙ -3 ∙ -3 ∙ -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commutative property of multiplication to find another expression that gives the same value as 6a ∙ 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 ∙ 6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4893840" y="2895480"/>
            <a:ext cx="35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(4 + 3)  = 7 ∙ 4 +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5104800" y="3429000"/>
            <a:ext cx="39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(11 + 3)  = 7 ∙ 11 +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5198760" y="2209680"/>
            <a:ext cx="35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(x + 3)  = 7 ∙ x +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5715000"/>
            <a:ext cx="44197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Three instances of a pattern are given.  Describe the pattern using one variab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5120" y="20574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3 ∙ 1 – 7 = 3 (1 – 4) +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3 ∙ 11 – 7 = 3 (11 – 4) +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401427"/>
                </a:solidFill>
                <a:latin typeface="Calibri"/>
              </a:rPr>
              <a:t>3 ∙ ¼  – 7 = 3 (¼ – 4) +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2476080" y="5257800"/>
            <a:ext cx="48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∙ x – 7 = 3 (x – 4) 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65437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1427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905120" y="609120"/>
            <a:ext cx="7238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1427"/>
                </a:solidFill>
                <a:latin typeface="Calibri"/>
              </a:rPr>
              <a:t>Jana designs and sells t-shirts online.  She works through a company that pays her a base of $50 every month for her designs, plus a 20% profit for every t-shirt that is sold.  Each shirt costs $2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1427"/>
                </a:solidFill>
                <a:latin typeface="Calibri"/>
              </a:rPr>
              <a:t>#9: write an expression that calculates Jana’s monthly earnings if she sells s t-shir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1427"/>
                </a:solidFill>
                <a:latin typeface="Calibri"/>
              </a:rPr>
              <a:t>#10: How much does Jana make in a month when she sells 30 t-shir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3"/>
          <p:cNvSpPr/>
          <p:nvPr/>
        </p:nvSpPr>
        <p:spPr>
          <a:xfrm>
            <a:off x="3975840" y="449568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+ .2(20s)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2757600" y="6248520"/>
            <a:ext cx="33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 + .2(20 ∙ 30)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7247520" y="61722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7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ak up into groups of 4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1:06:49Z</dcterms:created>
  <dc:creator>Laura Helbing</dc:creator>
  <dc:description/>
  <dc:language>en-US</dc:language>
  <cp:lastModifiedBy>Laura Helbing</cp:lastModifiedBy>
  <dcterms:modified xsi:type="dcterms:W3CDTF">2012-08-29T15:25:12Z</dcterms:modified>
  <cp:revision>93</cp:revision>
  <dc:subject/>
  <dc:title>Difference Quotients and Rates of Change</dc:title>
</cp:coreProperties>
</file>