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D158-C11D-4595-AB64-FED98F19E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2B72-C02F-4D46-961C-8AD10D5BF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324C-CBD5-4AC3-873F-F38C2FE2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CBF5-8137-468E-84A4-2458A2A0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733-6549-4EBF-9244-3AB49FF7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145-9334-4DF1-8A28-6E1BC182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DAFE-36FE-4BDB-B81B-BE54F4DF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BEE4-F2B2-41C7-9DD9-A6000DD2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3CCD-9E10-4FB2-8C02-986A8FCA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18F-D91D-4B90-80EF-8E5ABE2E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BC6-040B-4651-9844-AEFE57E5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2DE-D24C-4165-8871-A5241DB9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0E2F-A172-4C3C-A18A-D256650B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0B2A-794F-42DC-8627-21D4E250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91D3-51A8-4DA6-9FC2-27A04328F9B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very lamb has 4 legs.  Every chicken has 2 leg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How many legs do 5 lambs and 20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How many legs do 100 lambs and 27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How many legs do L lambs and C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93920" y="289548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513960" y="4495680"/>
            <a:ext cx="17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4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598840" y="6273720"/>
            <a:ext cx="14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l + 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inish worksheet 1.2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Pages 16 – 1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 – 22 (ex. Cred: 23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1427"/>
                </a:solidFill>
                <a:latin typeface="Calibri"/>
              </a:rPr>
              <a:t>Describing Patter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1441440"/>
            <a:ext cx="6400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401427"/>
                </a:solidFill>
                <a:latin typeface="Calibri"/>
              </a:rPr>
              <a:t>Section 1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Objectives for the d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Use variables to describe patterns in instances or 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Identify and apply the associative, commutative, and transitive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Create expression to model real-world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Te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Fa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Inst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Patter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063240" y="4952880"/>
            <a:ext cx="505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roup of terms which a connection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can be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666960" y="37339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term of a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2981520" y="129528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ber, variable, or combination of the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139200" y="2514600"/>
            <a:ext cx="52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ber of expression that is multipl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f a ∙ b = c, then a and b are factors of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064680" y="17524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.  5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7x + 8y + 6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6252840" y="17524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valuate each expression #1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828800" y="6094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3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4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5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Write another instance of the pattern (#4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 ( 9 + 8) ÷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2748960" y="18288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3051360" y="3124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2901240" y="41148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e two instances of each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 5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x ∙ x ∙ x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(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2 ∙ 2 ∙ 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-3 ∙ -3 ∙ -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commutative property of multiplication to find another expression that gives the same value as 6a ∙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∙ 6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4893840" y="289548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4 + 3)  = 7 ∙ 4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5104800" y="342900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11 + 3)  = 7 ∙ 11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198760" y="220968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x + 3)  = 7 ∙ x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Three instances of a pattern are given.  Describe the pattern using one variab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5120" y="20574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1 – 7 = 3 (1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11 – 7 = 3 (11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¼  – 7 = 3 (¼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476080" y="5257800"/>
            <a:ext cx="48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∙ x – 7 = 3 (x – 4)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905120" y="609120"/>
            <a:ext cx="7238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Jana designs and sells t-shirts online.  She works through a company that pays her a base of $50 every month for her designs, plus a 20% profit for every t-shirt that is sold.  Each shirt costs $2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#9: write an expression that calculates Jana’s monthly earnings if she sells s t-shi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#10: How much does Jana make in a month when she sells 30 t-shir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3975840" y="44956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+ .2(20s)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2757600" y="6248520"/>
            <a:ext cx="33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+ .2(20 ∙ 30)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7247520" y="61722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7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 up into groups of 4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1:06:49Z</dcterms:created>
  <dc:creator>Laura Helbing</dc:creator>
  <dc:description/>
  <dc:language>en-US</dc:language>
  <cp:lastModifiedBy>Laura Helbing</cp:lastModifiedBy>
  <dcterms:modified xsi:type="dcterms:W3CDTF">2012-08-29T15:25:12Z</dcterms:modified>
  <cp:revision>93</cp:revision>
  <dc:subject/>
  <dc:title>Difference Quotients and Rates of Change</dc:title>
</cp:coreProperties>
</file>