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833-5643-410D-91E2-8FE73144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740-A56F-4716-A69E-3B03306A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070-956A-403B-B3FC-5E747BAD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608-F677-4C00-ADDB-9B3F93BA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F23D-FD96-4A6C-B6B4-881E2186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790-9FCE-46B2-81AF-02480150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2E2-EA47-4236-9310-CC26955A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12A-90EC-4240-BFAA-9034BC27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7B2-614F-4807-B810-3B5EEB26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D01E-CE3F-4639-BF30-E3B97436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DC0-C009-4D02-93B2-2EE37AB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9F2C-7E09-4EAA-B1F2-E5A1EFE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B2CE-5048-40D6-9634-2391A153EE5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100 – 99 – 9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sixty divided by two times th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alue of 8x when x is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575520" y="2357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646800" y="3714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646800" y="5214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1680" y="15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Evaluating Ex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43200" y="136512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642960" y="2413080"/>
            <a:ext cx="8215200" cy="350604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Evaluate numerical and algebraic ex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Apply the Algebraic Definitions of Subtraction and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Identify and apply the associative, commutative, identity, and transitive proper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lgebraic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Evaluating the expr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884960" y="2000160"/>
            <a:ext cx="72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ter or other symbol that can be replaced by an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r other object) in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952560" y="3286080"/>
            <a:ext cx="700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ath problem containing both numbers an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666360" y="4643280"/>
            <a:ext cx="56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a numerical value of a math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428760" y="785880"/>
            <a:ext cx="8501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Paren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Ex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Multiplication (Divi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Addition  (Subt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Re-write the expression using addition instead of s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– 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#10:  8(3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15 + -9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8(3 + 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he first operation performed and evaluate each expres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algebraic expression for the given value of th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a = 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x=4, y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625320" y="2317680"/>
                <a:ext cx="1555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4"/>
              <p:cNvSpPr txBox="1"/>
              <p:nvPr/>
            </p:nvSpPr>
            <p:spPr>
              <a:xfrm>
                <a:off x="5816520" y="2098800"/>
                <a:ext cx="1592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TextBox 5"/>
          <p:cNvSpPr/>
          <p:nvPr/>
        </p:nvSpPr>
        <p:spPr>
          <a:xfrm>
            <a:off x="285840" y="364320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cation,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214960" y="35719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s,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4"/>
              <p:cNvSpPr txBox="1"/>
              <p:nvPr/>
            </p:nvSpPr>
            <p:spPr>
              <a:xfrm>
                <a:off x="4664160" y="5243400"/>
                <a:ext cx="1623960" cy="13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4"/>
              <p:cNvSpPr txBox="1"/>
              <p:nvPr/>
            </p:nvSpPr>
            <p:spPr>
              <a:xfrm>
                <a:off x="1565280" y="6140520"/>
                <a:ext cx="517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4"/>
              <p:cNvSpPr txBox="1"/>
              <p:nvPr/>
            </p:nvSpPr>
            <p:spPr>
              <a:xfrm>
                <a:off x="6634080" y="6107040"/>
                <a:ext cx="519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Review the propert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28760" y="785880"/>
            <a:ext cx="85010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Commut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+ b = b + a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a ∙ b = b ∙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Associativ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addi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+ b) + c = a + (b + 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of multiplication </a:t>
            </a:r>
            <a:r>
              <a:rPr b="0" lang="en-US" sz="3200" spc="-1" strike="noStrike">
                <a:solidFill>
                  <a:srgbClr val="401427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(a ∙ b) ∙ c = a ∙ (b ∙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Transitive Propert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a = b and b = c, then  a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4874040" y="928800"/>
            <a:ext cx="283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commut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4375440" y="321480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to associate wi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097160" y="5500800"/>
            <a:ext cx="51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think of telephone – to 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0" y="785880"/>
            <a:ext cx="8929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+ 58 = y + 15 and y + 15 = w, what conclusion can be made based on the Transitive Property of E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+ 58 =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What property of multiplication are displayed in this example? 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 (6x) ∙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(x ∙ 6) ∙ 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x (6 ∙ 7)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010560" y="528624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Commu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080400" y="59292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1427"/>
                </a:solidFill>
                <a:latin typeface="Arial"/>
              </a:rPr>
              <a:t>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000000"/>
                </a:solidFill>
                <a:latin typeface="Arial"/>
              </a:rPr>
              <a:t>Lesson Master 1.1A and page 12: 21 - 2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1:31:52Z</dcterms:created>
  <dc:creator>Mediac</dc:creator>
  <dc:description/>
  <dc:language>en-US</dc:language>
  <cp:lastModifiedBy>Laura Helbing</cp:lastModifiedBy>
  <dcterms:modified xsi:type="dcterms:W3CDTF">2013-08-27T00:18:59Z</dcterms:modified>
  <cp:revision>25</cp:revision>
  <dc:subject/>
  <dc:title>PRESENTATION NAME</dc:title>
</cp:coreProperties>
</file>