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B107-18F0-4336-B771-4D0B89F8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B9BF-B9BF-4AFB-91D4-20D763D6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BAAA-2F5D-4654-A14F-B134535B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853A-C9A2-4496-9E17-525926D2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662-0D0E-4B53-A382-4265C488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1E70-918E-41B2-8437-752E4D48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024E-7374-442A-9860-C851D8C8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0293-BA21-4830-BEE6-4135C4AC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2D23-01B5-47FC-9B20-374F4511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DA7F-12DC-4774-8D42-7790BFBC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0A9-0B53-4C28-A533-30DEF7D5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C71C-BC7E-4F90-855D-16C42409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0994-E02B-41BA-9F3B-7EB955BA963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s 1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alue of 100 – 99 – 98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alue of sixty divided by two times th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alue of 8x when x is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575520" y="2357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646800" y="3714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646800" y="5214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1680" y="15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Evaluating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43200" y="136512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642960" y="2413080"/>
            <a:ext cx="8215200" cy="3506040"/>
          </a:xfrm>
          <a:prstGeom prst="rect">
            <a:avLst/>
          </a:prstGeom>
          <a:solidFill>
            <a:srgbClr val="ffff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Evaluate numerical and algebraic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Apply the Algebraic Definitions of Subtraction and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Identify and apply the associative, commutative, identity, and transitive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lgebraic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valuating the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884960" y="2000160"/>
            <a:ext cx="72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ter or other symbol that can be replaced by any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r other object) in a math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952560" y="3286080"/>
            <a:ext cx="70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ath problem containing both numbers and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666360" y="4643280"/>
            <a:ext cx="564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 a numerical value of a math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428760" y="785880"/>
            <a:ext cx="85010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Paren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Ex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Multiplication (Divi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Addition  (Subtra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Re-write the expression using addition instead of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15 – 9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#10:  8(3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15 + -9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8(3 + -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the first operation performed and evaluate each express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7120" y="1499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algebraic expression for the given value of the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a = 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x=4, y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625320" y="2317680"/>
                <a:ext cx="1555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4"/>
              <p:cNvSpPr txBox="1"/>
              <p:nvPr/>
            </p:nvSpPr>
            <p:spPr>
              <a:xfrm>
                <a:off x="5816520" y="2098800"/>
                <a:ext cx="15922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TextBox 5"/>
          <p:cNvSpPr/>
          <p:nvPr/>
        </p:nvSpPr>
        <p:spPr>
          <a:xfrm>
            <a:off x="285840" y="364320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ication,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214960" y="357192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s,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14"/>
              <p:cNvSpPr txBox="1"/>
              <p:nvPr/>
            </p:nvSpPr>
            <p:spPr>
              <a:xfrm>
                <a:off x="4664160" y="5243400"/>
                <a:ext cx="1623960" cy="13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4"/>
              <p:cNvSpPr txBox="1"/>
              <p:nvPr/>
            </p:nvSpPr>
            <p:spPr>
              <a:xfrm>
                <a:off x="1565280" y="6140520"/>
                <a:ext cx="517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4"/>
              <p:cNvSpPr txBox="1"/>
              <p:nvPr/>
            </p:nvSpPr>
            <p:spPr>
              <a:xfrm>
                <a:off x="6634080" y="6107040"/>
                <a:ext cx="519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Review the propert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428760" y="785880"/>
            <a:ext cx="850104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Commutative Proper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of addition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a + b = b + a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of multiplication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a ∙ b = b ∙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Associative Proper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of addition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(a + b) + c = a + (b + c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of multiplication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(a ∙ b) ∙ c = a ∙ (b ∙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Transitive Proper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If a = b and b = c, then  a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4874040" y="928800"/>
            <a:ext cx="28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Think commu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4375440" y="3214800"/>
            <a:ext cx="37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think to associate wi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097160" y="5500800"/>
            <a:ext cx="51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think of telephone – to trans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#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0" y="785880"/>
            <a:ext cx="89298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If x + 58 = y + 15 and y + 15 = w, what conclusion can be made based on the Transitive Property of Equa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x + 58 =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What property of multiplication are displayed in this example?  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  (6x) ∙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(x ∙ 6) ∙ 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x (6 ∙ 7)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010560" y="528624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1427"/>
                </a:solidFill>
                <a:latin typeface="Arial"/>
              </a:rPr>
              <a:t>Commu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080400" y="59292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1427"/>
                </a:solidFill>
                <a:latin typeface="Arial"/>
              </a:rPr>
              <a:t>Assoc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Arial"/>
              </a:rPr>
              <a:t>Lesson Master 1.1A and page 12: 21 - 2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21:31:52Z</dcterms:created>
  <dc:creator>Mediac</dc:creator>
  <dc:description/>
  <dc:language>en-US</dc:language>
  <cp:lastModifiedBy>Laura Helbing</cp:lastModifiedBy>
  <dcterms:modified xsi:type="dcterms:W3CDTF">2013-08-27T00:18:59Z</dcterms:modified>
  <cp:revision>25</cp:revision>
  <dc:subject/>
  <dc:title>PRESENTATION NAME</dc:title>
</cp:coreProperties>
</file>