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6C17-761A-4662-BE97-B013275E5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7EFC-059F-4EE6-86D2-020C876B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8D0C-27AF-4B27-B9F7-BD03858EA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CAD6-FF91-4B1C-A587-EBD3227F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E991-34ED-488F-BA9F-D82F4661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711A-7AE7-480B-B92F-EB44681F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80ED-421A-4B1A-AE8D-1C426398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7A86-740E-47E9-89BC-D72095C3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545B-322C-4019-B128-8849A87D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0DFD-020B-480A-A837-F2740EE3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A002-7AD5-4E94-9EF8-4977285F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3A18-FB35-4416-95AE-FAF540ED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BA1A-003E-4A3C-A2B7-09AF5339B9D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s 1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value of 100 – 99 – 98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value of sixty divided by two times th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value of 8x when x is 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575520" y="23572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3646800" y="3714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3646800" y="52149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1680" y="15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Evaluating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43200" y="136512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Section 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642960" y="2413080"/>
            <a:ext cx="8215200" cy="3506040"/>
          </a:xfrm>
          <a:prstGeom prst="rect">
            <a:avLst/>
          </a:prstGeom>
          <a:solidFill>
            <a:srgbClr val="ffff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Evaluate numerical and algebraic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Apply the Algebraic Definitions of Subtraction and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Identify and apply the associative, commutative, identity, and transitive proper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Vari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Algebraic Expre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valuating the expre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1884960" y="2000160"/>
            <a:ext cx="729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ter or other symbol that can be replaced by any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or other object) in a math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952560" y="3286080"/>
            <a:ext cx="700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math problem containing both numbers and vari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666360" y="4643280"/>
            <a:ext cx="564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ing a numerical value of a math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Order of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428760" y="785880"/>
            <a:ext cx="85010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1427"/>
                </a:solidFill>
                <a:latin typeface="Arial"/>
              </a:rPr>
              <a:t>Parenth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1427"/>
                </a:solidFill>
                <a:latin typeface="Arial"/>
              </a:rPr>
              <a:t>Ex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1427"/>
                </a:solidFill>
                <a:latin typeface="Arial"/>
              </a:rPr>
              <a:t>Multiplication (Divi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1427"/>
                </a:solidFill>
                <a:latin typeface="Arial"/>
              </a:rPr>
              <a:t>Addition  (Subtra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1427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Re-write the expression using addition instead of sub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15 – 9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#10:  8(3 –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15 + -9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8(3 + -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the first operation performed and evaluate each express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57120" y="14997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the algebraic expression for the given value of the vari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, a = 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x=4, y=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14"/>
              <p:cNvSpPr txBox="1"/>
              <p:nvPr/>
            </p:nvSpPr>
            <p:spPr>
              <a:xfrm>
                <a:off x="625320" y="2317680"/>
                <a:ext cx="15559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14"/>
              <p:cNvSpPr txBox="1"/>
              <p:nvPr/>
            </p:nvSpPr>
            <p:spPr>
              <a:xfrm>
                <a:off x="5816520" y="2098800"/>
                <a:ext cx="159228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TextBox 5"/>
          <p:cNvSpPr/>
          <p:nvPr/>
        </p:nvSpPr>
        <p:spPr>
          <a:xfrm>
            <a:off x="285840" y="364320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ication, 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214960" y="357192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nents,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14"/>
              <p:cNvSpPr txBox="1"/>
              <p:nvPr/>
            </p:nvSpPr>
            <p:spPr>
              <a:xfrm>
                <a:off x="4664160" y="5243400"/>
                <a:ext cx="1623960" cy="134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14"/>
              <p:cNvSpPr txBox="1"/>
              <p:nvPr/>
            </p:nvSpPr>
            <p:spPr>
              <a:xfrm>
                <a:off x="1565280" y="6140520"/>
                <a:ext cx="517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14"/>
              <p:cNvSpPr txBox="1"/>
              <p:nvPr/>
            </p:nvSpPr>
            <p:spPr>
              <a:xfrm>
                <a:off x="6634080" y="6107040"/>
                <a:ext cx="5191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Review the properti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428760" y="785880"/>
            <a:ext cx="850104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Commutative Proper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of addition </a:t>
            </a:r>
            <a:r>
              <a:rPr b="0" lang="en-US" sz="3200" spc="-1" strike="noStrike">
                <a:solidFill>
                  <a:srgbClr val="401427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a + b = b + a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of multiplication </a:t>
            </a:r>
            <a:r>
              <a:rPr b="0" lang="en-US" sz="3200" spc="-1" strike="noStrike">
                <a:solidFill>
                  <a:srgbClr val="401427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a ∙ b = b ∙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Associative Proper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of addition </a:t>
            </a:r>
            <a:r>
              <a:rPr b="0" lang="en-US" sz="3200" spc="-1" strike="noStrike">
                <a:solidFill>
                  <a:srgbClr val="401427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(a + b) + c = a + (b + c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of multiplication </a:t>
            </a:r>
            <a:r>
              <a:rPr b="0" lang="en-US" sz="3200" spc="-1" strike="noStrike">
                <a:solidFill>
                  <a:srgbClr val="401427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(a ∙ b) ∙ c = a ∙ (b ∙ 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Transitive Propert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If a = b and b = c, then  a =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4874040" y="928800"/>
            <a:ext cx="28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Think commut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4375440" y="3214800"/>
            <a:ext cx="376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think to associate wit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4097160" y="5500800"/>
            <a:ext cx="515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think of telephone – to trans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#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3"/>
          <p:cNvSpPr/>
          <p:nvPr/>
        </p:nvSpPr>
        <p:spPr>
          <a:xfrm>
            <a:off x="0" y="785880"/>
            <a:ext cx="89298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If x + 58 = y + 15 and y + 15 = w, what conclusion can be made based on the Transitive Property of Equa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x + 58 =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What property of multiplication are displayed in this example?   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  (6x) ∙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(x ∙ 6) ∙ 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x (6 ∙ 7)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6010560" y="528624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1427"/>
                </a:solidFill>
                <a:latin typeface="Arial"/>
              </a:rPr>
              <a:t>Commu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080400" y="592920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1427"/>
                </a:solidFill>
                <a:latin typeface="Arial"/>
              </a:rPr>
              <a:t>Assoc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000000"/>
                </a:solidFill>
                <a:latin typeface="Arial"/>
              </a:rPr>
              <a:t>Lesson Master 1.1A and page 12: 21 - 2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21:31:52Z</dcterms:created>
  <dc:creator>Mediac</dc:creator>
  <dc:description/>
  <dc:language>en-US</dc:language>
  <cp:lastModifiedBy>Laura Helbing</cp:lastModifiedBy>
  <dcterms:modified xsi:type="dcterms:W3CDTF">2013-08-27T00:18:59Z</dcterms:modified>
  <cp:revision>25</cp:revision>
  <dc:subject/>
  <dc:title>PRESENTATION NAME</dc:title>
</cp:coreProperties>
</file>