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029-F0B5-42E5-B962-14015751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AEB-0920-48B8-A2FC-6D4E530B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EA5-B2FD-461A-B8BA-78F08B15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6DF-3202-413B-A090-391C830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532-632E-4EA5-9BFB-BA24FE42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C7C7-AB8B-4673-A34B-F52A9789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B894-7B90-45B5-BE02-4C53F87E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7AA-4E56-4BFD-AF96-4BFFAC97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B20D-36C0-4531-8875-0709744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5BDA-44B0-4DC4-BA8A-650CC7E1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F2EE-58DC-4AEB-8A36-8C488ED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D45-A436-4FA8-ABFF-EBCC2989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B805-ADC9-4CC0-A3AC-2FA46BA5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DE4-AB3D-4775-82F4-2ACA0D96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981-7BBD-4481-B9C5-23349738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2A8C-B192-4F01-B778-C0F76C15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7C67-9E66-4C57-A3B1-94E74A25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5B989-C996-438E-B8DB-42DDADAD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CA615-A984-4310-9042-35B512B5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83FF8-A81E-41DD-B844-18B856DC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98559-667C-4FF2-8C92-1DB7ECF4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BD477-59D5-42F9-8AEF-407D533F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CBE-2D96-4470-9479-EA28DBD6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FA074-650B-486E-A944-F4BE982D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48CB3F-33C5-4E78-9251-B416999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1E611-0427-4A6F-B7C4-6258BE9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9A2240-0CFA-49FF-9FCA-F1C9295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9F079-5C09-4A13-B9CF-03AEC004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7AD7BC-3FE1-4901-BC8C-9A62D838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E72B8-77B8-41EB-93EC-D6BA26C7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9BD5-0F90-4A96-B4CB-9F1CAC39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9E654-3F5C-4558-9235-A03378F2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57C5-19DE-4C24-AB00-BE3D561C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726-DC1F-46CF-BF70-087A7213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56D7-03D2-4F8E-95FE-CC8898C6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6D7E-7527-4A20-87FA-F4005FAE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C456-CD77-4916-BC1A-B7B9023F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03CFC-2429-4E5B-8E90-5540A1DE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8BB7-B449-4FAF-862C-F2AA6E2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B3D6-6662-4A1D-AA0E-475D689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7695-1586-4E7F-B520-C34A589B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C3E3E-129D-403E-892F-B35367DC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13809-C1CA-4BCB-82FB-F2753872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442-6E46-4B26-80A5-1E48C10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781-9159-492A-9208-3B0EB179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540-E02B-4A39-B5A2-4C0F3051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269-17AB-4179-866E-14533E0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490-951C-424C-A0C0-33EF23A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BC93-6C08-4561-863E-37FCA59B3B2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2A8-32CF-4D02-B3B2-27BFD4DD346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1AC7-6CE8-4F95-93B7-227D38BBE41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661C-6BE3-4510-96F2-1B6025F124B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bsolute Value and Distance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Georgia"/>
              </a:rPr>
              <a:t>Lesson 1.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Objectives for the day…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e expressions involving absolute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bsolute Valu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calculator:  math, right arrow to num, a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ance from the number to zero, so always pos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NOT IN BOOK!!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| x – 3| =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olve absolute value problems, we write the problem twice! Like th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solve bo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9, and -3 are solutions to this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– graph two equations in your graphing calculator:  y = |x – 3| and y = 6 (see where they intersect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You try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| 7 – x| = 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14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-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- x = -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-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   x =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So, the solutions are -7 and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:  | -89|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2:  - | -16 – 4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3:   | |-73| - |8 ∙ -2| - 100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8: |-m + 6| - |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3| for m = 5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443320" y="22860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94116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9144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73 + -16 + -100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29200" y="4267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914400" y="5638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-(5/8) + 6| + -|(5/8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0" y="5105520"/>
                <a:ext cx="15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7481880" y="599436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 (continued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.  Plot y1 and y2 on the grid and tell whether or not y1 appears to be equivalent to y2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1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2 = |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equival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2: 3 ∙|y| = 3 ∙ |-y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al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0" t="10998" r="81879" b="70005"/>
          <a:stretch/>
        </p:blipFill>
        <p:spPr>
          <a:xfrm>
            <a:off x="609480" y="3124080"/>
            <a:ext cx="221004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rcRect l="0" t="10998" r="82502" b="70005"/>
          <a:stretch/>
        </p:blipFill>
        <p:spPr>
          <a:xfrm>
            <a:off x="3429000" y="31240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rcRect l="3750" t="9000" r="79378" b="72004"/>
          <a:stretch/>
        </p:blipFill>
        <p:spPr>
          <a:xfrm>
            <a:off x="3505320" y="5410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rcRect l="2498" t="10998" r="78752" b="70005"/>
          <a:stretch/>
        </p:blipFill>
        <p:spPr>
          <a:xfrm>
            <a:off x="609480" y="54100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Partner work (to be handed in)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activity on page 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n graph :  y = abs(x) ,  y = abs (x + 3) ,  y = (x – 3)  on your calculators at the same time.  How are these three graphs relate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you make a generalization from thi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Homework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ish up lesson master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45 – 4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– 2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 concepts of mean, median, mode,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1:07:52Z</dcterms:created>
  <dc:creator>Laura Helbing</dc:creator>
  <dc:description/>
  <dc:language>en-US</dc:language>
  <cp:lastModifiedBy>Laura Helbing</cp:lastModifiedBy>
  <dcterms:modified xsi:type="dcterms:W3CDTF">2012-08-27T13:38:32Z</dcterms:modified>
  <cp:revision>3</cp:revision>
  <dc:subject/>
  <dc:title>Absolute Value and Distance</dc:title>
</cp:coreProperties>
</file>