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B02-7F12-4139-B12E-79254A98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DCE-B744-4F59-B698-FDBBABEA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219-AB8F-4021-8F88-69D1C967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1DE-5B71-435E-BB00-02DA3C3E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CE6E-0584-4F4F-A151-603E773F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CD4C-6A75-4152-A29C-E7117DA5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141A-992A-4F8A-BF76-4A25AC2A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B315-C284-4144-AB26-94AFECA7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2733-5FC6-454A-9ECD-51283548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DE8C-D67F-4C19-BCB5-7B31D09D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0CE9-1DD1-4CE7-B255-47A6146F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557-3373-4999-A251-A22D4F67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998C-8213-448A-9F42-6CE56DF2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5AB3-1B92-470F-A13D-405372AC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866F-0307-4DE9-B0C1-535A4E64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7D5F-6E53-41F1-B7A3-57315408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6F0C-18B9-41D2-B7A8-D4691A20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4115B-D748-48A9-A4CB-205FD805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C1C6D-DEC7-46D6-8A01-954D58F0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F2C64-7FF3-44AF-9E66-F4225169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967C3-DE42-4B26-9E15-4F04FDB9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8E8B8-5957-4D58-9330-7B0320CE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F88-3491-4609-B43E-841F16C1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BACDD-2C21-4312-89E5-121EC5EA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D7287-B6D6-44A6-BD09-E1988781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62541-9BAF-4F11-A6F7-7E0147D8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03CB9-43D2-4DCE-8EC5-7F67A6DC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C9105-9AA6-4CC1-BB6C-CAC7F66F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8331D-0B45-4EF9-A5C4-69942892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E1971-C066-4140-A61B-3FCB1AFA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6F220-26E0-4BCC-8790-7CEE0EDF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B2FE0-FBB2-4911-8ADD-4ED30B48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F4786-4937-455A-B3A3-C271837A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50E2-FE68-4264-A575-77997078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8BC16-16B9-4D5C-9988-836B0AE1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4800C-9561-4625-BC29-E635A61E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3D00D-FE45-4DC4-A94E-88F4138B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5C688-CA18-4393-A3CC-3A0C34BF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D511F-30F7-41D9-A83D-26ED7340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01762-F837-42A4-90A7-FA2960AC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2DCDE-FACB-43E4-9454-4E588B1F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46DA6-F6DB-4257-B021-80E1A485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BC2C6-65A0-4931-95F4-11C11DF7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E95-EE64-4D5F-9A94-639F8FCC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5B6-F87D-4513-9770-9B982D6A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533-A237-4850-AD6B-A2643D0C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431-EF49-4B2F-9C9F-410E30BE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E25-909E-4F88-90BD-EB171A34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D47B-A18F-40ED-9713-9635856725E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ac66b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AC6C-1A4A-42F6-BF01-2249AD34222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E28D-E7DE-4E83-A0F8-20B7D3F2727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52D5-DF2D-4768-804C-9E2FD3A48EF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Absolute Value and Distance</a:t>
            </a:r>
            <a:endParaRPr b="0" lang="en-US" sz="44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Georgia"/>
              </a:rPr>
              <a:t>Lesson 1.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Objectives for the day…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aluate expressions involving absolute val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graphs to determine whether expressions seem to be equival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Absolute Value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your calculator:  math, right arrow to num, ab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tance from the number to zero, so always posi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NOT IN BOOK!!!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| x – 3| = 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olve absolute value problems, we write the problem twice! Like thi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– 3 = 6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– 3 = -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solve both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= 9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= - 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th 9, and -3 are solutions to this probl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 – graph two equations in your graphing calculator:  y = |x – 3| and y = 6 (see where they intersect!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You try!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| 7 – x| = 14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7 – x = 14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7 – x = -14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x = 7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  - x = -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x = -7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     x = 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So, the solutions are -7 and 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Lesson Master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1:  | -89|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2:  - | -16 – 4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3:   | |-73| - |8 ∙ -2| - 100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8: |-m + 6| - |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 3| for m = 5/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2443320" y="2286000"/>
            <a:ext cx="9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6941160" y="22096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-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914400" y="42670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| 73 + -16 + -100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029200" y="4267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914400" y="5638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| -(5/8) + 6| + -|(5/8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3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6858000" y="5105520"/>
                <a:ext cx="1538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5"/>
              <p:cNvSpPr txBox="1"/>
              <p:nvPr/>
            </p:nvSpPr>
            <p:spPr>
              <a:xfrm>
                <a:off x="7481880" y="5994360"/>
                <a:ext cx="620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Lesson Master (continued)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86868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9.  Plot y1 and y2 on the grid and tell whether or not y1 appears to be equivalent to y2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1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1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2 = |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1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equivalent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12: 3 ∙|y| = 3 ∙ |-y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qual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rcRect l="0" t="10998" r="81879" b="70005"/>
          <a:stretch/>
        </p:blipFill>
        <p:spPr>
          <a:xfrm>
            <a:off x="609480" y="3124080"/>
            <a:ext cx="2210040" cy="1447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2"/>
          <a:srcRect l="0" t="10998" r="82502" b="70005"/>
          <a:stretch/>
        </p:blipFill>
        <p:spPr>
          <a:xfrm>
            <a:off x="3429000" y="312408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3"/>
          <a:srcRect l="3750" t="9000" r="79378" b="72004"/>
          <a:stretch/>
        </p:blipFill>
        <p:spPr>
          <a:xfrm>
            <a:off x="3505320" y="541008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4"/>
          <a:srcRect l="2498" t="10998" r="78752" b="70005"/>
          <a:stretch/>
        </p:blipFill>
        <p:spPr>
          <a:xfrm>
            <a:off x="609480" y="5410080"/>
            <a:ext cx="2286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Partner work (to be handed in):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 the activity on page 44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n graph :  y = abs(x) ,  y = abs (x + 3) ,  y = (x – 3)  on your calculators at the same time.  How are these three graphs related?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you make a generalization from thi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Homework: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ish up lesson master 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ges 45 – 4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0 – 2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fine concepts of mean, median, mode, ra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0T01:07:52Z</dcterms:created>
  <dc:creator>Laura Helbing</dc:creator>
  <dc:description/>
  <dc:language>en-US</dc:language>
  <cp:lastModifiedBy>Laura Helbing</cp:lastModifiedBy>
  <dcterms:modified xsi:type="dcterms:W3CDTF">2012-08-27T13:38:32Z</dcterms:modified>
  <cp:revision>3</cp:revision>
  <dc:subject/>
  <dc:title>Absolute Value and Distance</dc:title>
</cp:coreProperties>
</file>