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1A1-622C-40CE-8818-E2D7A65B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BBB-AB35-429A-AD92-F69A41E1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CAA61-F3DA-4C4A-BDE5-59BD625C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AB38F-57B4-4211-BFEC-A3893A2D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1B020-3BCD-40F6-A4DA-593ACF35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A8027-CBA0-4296-A7D6-4D30680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221F0-1102-4428-A509-3AEFC05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1C390-7BDA-4416-8225-3E2F932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9CB1B-ED30-4A6A-A01B-DA8615A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B2482-F056-4823-9535-1D47F211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67794-5927-4CDE-B0C8-5371342F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20739-1CFD-4E4E-9292-4AD665BD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D04-F6D0-4C5C-9715-F8305BC0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80687-5B42-4F08-843D-190F23C7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083B9-DC66-4D83-9760-DBA0E9B3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4F16D-A148-4332-9694-AA280561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29E34-09C9-49F0-8BAA-9108F41C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FFCAC-1260-445C-B38B-B749DE77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D5669-FC98-4804-87BB-07C6056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329A1-B636-4E86-BA4B-4E2C4222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2C1AF-DB9E-473D-9201-B6F9BD2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73D2A-B3CB-4DF4-A99F-47A9BA45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FC2FA-91FA-49AD-B598-CD76266F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5C1-276F-4B18-BA86-4AB9913B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29FE7-3CF9-4A32-AAE3-D55E2479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947B9-3AC8-4BF6-B216-546E1147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B9882-27C7-412A-9ED0-B62E2E6F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20B29-4B5C-4F68-9936-5C589A81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F4B8-1B18-4AF9-ABD8-7F74CB3E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129E0-3628-4A74-BFDE-F99CC6D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B0D87-05B8-48CD-9528-4CB59DA9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8632B-EB11-4ED4-A07F-C86A3CD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9C64-B898-4712-9920-CBB3ABF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8F2BB-F938-4B3A-80F7-01EFF1A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4A49-E3C0-4105-B2DA-B7345256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2BC9-7D5A-4147-B85E-988367A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C0B99-EE33-48A7-ACBD-1C0558D3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2CA60-0C2F-46AF-8922-A9A9D7E3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D4E69-263B-477A-ABFF-7E9482A7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CA38C-273B-4EF6-9643-1AE4A9C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6DF89-A235-4C58-8532-4F7FB8B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EFAF6-2B6D-4C6B-97C8-59C2C8E2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BACC0-E27E-40BD-BD35-3FC597B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952BE-9720-41CF-BD48-1288483A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62C46-5C5A-4AE1-912C-3EC70AFC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A3B9-0454-4CE6-9069-250D583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70C51-3385-4FA9-9DBC-F087CD6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FBED7-1FBE-4D7B-BD80-02E417E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3E00A-AD49-4B4F-95A1-A5A8BB5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CE909-DC39-4DF7-9D5D-432644B3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27E1F-6CFA-4CDB-BFFE-79D56FF0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795F-8A37-4E1F-9D86-C023ED69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890C-EA5A-4B1E-990A-DD89CC6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4D18-0CC8-4457-9436-C64E74E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7A7-25C6-4E87-AD39-D57E6B1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A525-7B66-43CC-9E6C-E0F8412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650-F563-4681-81C3-DA0EFD23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9AB7-7A49-4E03-B9B2-7EAF1A5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DBEB-196B-4E23-992A-C29F6B8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CF74-5D25-4317-A626-9FD54A1F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C816-AE7C-483A-8321-775860FE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208-F4A5-4CD9-9684-4D1B7DAC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6988-ADA8-43EF-8E79-A712E6DF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1E19-6D91-4DD1-8A13-CF916022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C41B-D496-4CC9-9761-4C6FC672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A90C-A68D-4395-B4D8-4721E49C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588A-F829-46F2-8A20-A1EC73EB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B86-4AA0-4B79-831B-82D27C41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F903-375D-49DF-B099-2741B13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48C0-E2B2-40FD-88E9-B5F7F59D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10D1-4D77-4845-A335-C4980953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8F30-3F22-41E3-BADA-B5A35BDA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5504-E83B-4DD4-BD28-FD525B2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7719-37B7-49A0-A889-E915A1CF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6876-9156-4E5F-A7BE-B3D88CA2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06C8-7548-4923-B54F-6CD2D8EC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9CB6-BBE4-4D6F-9395-AC956B8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2FF4-FCE9-418B-A71F-1DCD1333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17E-CCF7-48E9-9711-BDA03AE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CD9D-EEDA-421C-9D2B-EDD1471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881B8-C92A-4D5B-8C5C-27DB794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F493-F92D-476D-8B44-3B975ECA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D161-4166-4779-ACEE-FC53627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80F4-1FE2-494B-BCD8-F8362A5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20EA-0807-4CFB-8CBB-3546B9E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A28C-DFA0-44FA-9A4D-E811AA9D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6E45-A67C-44DD-B566-67FC91BD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1171-469F-4A97-AC18-77585BE9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C886-66BE-44D7-8625-5369BA4C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9D8-43CA-4FD7-A4AB-D62B65EA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7C501-4F8D-42D1-91B9-B32E1B7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C155-59E5-44F4-A2FC-BFAEA5CB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2DB38-B96C-4D35-BC12-6343FBE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2A6A-5D42-4891-B818-3CA0638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5332-AB6C-41CD-A6EF-716F8A1B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A03E-A5CB-420A-90CC-56654E7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5C02-547C-46D5-A7E8-2E4381EE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AE67-537C-47AA-A7C6-80CCA46C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5FB6-99F9-4754-A544-E0F02EF5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DA9DA-4E50-456F-BE37-14429134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662-C3CD-4F28-9DEC-B76542AF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C0DA1-827F-4C34-ADC2-90FFF5DA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CFD8-9785-4927-B501-82D251D2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2B09-A5CD-45D3-BF5D-959A8CFD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EB9F-B08D-428A-B10D-5703D0A9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2728-B4DD-424D-9BAF-3E13982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F27B-C5BD-472F-BD0D-F9059AAF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0134-7D57-4ADE-A510-DEC000FD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8465-CDDF-4266-8720-2562945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F17D-0368-4159-AC9D-DEAC3AD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31A13-0FE8-47BE-9A2D-BED9C2D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C95-435F-4308-A405-42D1704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22E4-AB04-4F0E-8FEB-25CE741D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6EEAF-EA88-4793-B4E9-716B22B2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F16DB-93EE-4CF9-B004-2B4FACBA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D00A5-4356-44BB-A146-738A395D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CB10-BA61-41BB-94B2-7094A266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9169-4234-47D0-8461-526EC8CF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DF331-AFF1-4622-BCAE-840A55C6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3638-0FE0-4CEA-8EA7-128A05A9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23E2-BEEA-4772-894F-AF8A8A1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D5CC7-1C77-410C-8085-C6D7237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023-7DA1-498D-AD7C-9307CCE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6AA8-9C4B-4A70-9D63-AE266228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EA6CB-B592-4C58-9520-FB777BE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7104-3D2F-484E-8A08-8C369811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B31E3-D2AC-4E4C-BFAC-4DF13400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F313-5BD3-478F-AED8-E2840961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DB19-BAAA-4AD4-87A1-A746035D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2DD8E-0683-4952-A18F-E33216AC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BABA-8A80-4B9F-9B0A-507647F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7249-46DF-47F2-9230-3A8DD705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90A03-6111-48BD-8E2F-81F9716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572-6F2E-4352-B613-DCC042E3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C525A-00A8-491E-A451-4584818C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BD6A5-C5E7-477D-8F50-AB5541C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06BBB-A94E-42C8-866F-9EC9C32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EFED4-793A-4D51-BF9B-81D6FBD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C48A-D178-44CB-88A9-954DA00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169B0-081C-46F6-95A9-35C0C014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4342-D597-4EB6-AF80-736070F4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ECFB7-F688-4A9E-ACA3-D9F24DC8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C770C-790B-4CB5-AF4B-A7385DA3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EACA0-3092-4ADC-BFF7-2B717292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170A-84DE-4A67-9997-1F5557F28C92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14C6-15C2-48F3-A2F8-83449A892670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696-96E4-422F-A14A-34E84FE6B23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67B-AB5F-4B6E-8190-FE10EA2A60A1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FD05-59D9-4BC9-B24B-3EC4E951DAEF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DF73-D9F1-459B-8BCA-130467E2C9BB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90FF-A012-4107-9D38-163EE8B49F26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E00-CB6A-4EAF-9403-EA7D063ED607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41D-0BC1-4FB1-BDE2-F01ED25B968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3ED9-0739-4B2B-9676-13B9D12972F4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17B-6C19-417A-8B68-4E4EA76A454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644-354A-4F72-9D79-708513A652B4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5b6f"/>
                </a:solidFill>
                <a:latin typeface="Georgia"/>
              </a:rPr>
              <a:t>LESSON 1.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fd13b"/>
                </a:solidFill>
                <a:latin typeface="Georgia"/>
              </a:rPr>
              <a:t>Using a Graphing Calculator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Objectives for the day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ph ordered pairs from express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find values, create tables, and select appropriate windo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Group Work!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eak up into your groups and work through and answer questions to the activities in section 1.5  on pages 33 –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finished, your group will complete the covering the ideas on page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s 39 – 4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9 – 2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section 1.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 45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-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21:54:11Z</dcterms:created>
  <dc:creator>Laura Helbing</dc:creator>
  <dc:description/>
  <dc:language>en-US</dc:language>
  <cp:lastModifiedBy>Laura Helbing</cp:lastModifiedBy>
  <dcterms:modified xsi:type="dcterms:W3CDTF">2012-08-10T02:26:19Z</dcterms:modified>
  <cp:revision>2</cp:revision>
  <dc:subject/>
  <dc:title>Using a Graphing Calculator</dc:title>
</cp:coreProperties>
</file>