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DD8E-6966-4194-9E7B-795A39A2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BE7-3DB1-420C-B6B2-B54FFF16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9EC23D-A33C-4EF6-8BF5-45BF2CCC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829EF-BB34-4B96-8BC1-49D4C127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D2E83-1866-44B6-959F-E191DAD1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190C3-9884-4F79-AC52-545B5C19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406E5-C803-4043-9EA7-5AE196E0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6698E-E543-4FEC-BBBA-191FD14B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0EEB9-4AAE-4E35-8E5D-5FF68BE0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77D29-BECE-4D87-804A-CC27D0B7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748A2C-9C07-437F-B67E-E6252540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BBAC1-56F5-4E06-8B7D-99506AFC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211-CD0E-432B-9554-359F0736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C54F7F-C022-4048-ADB6-0AD4E80D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ADED37-1B5C-4895-B19D-99F83F08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F97FC-6D94-4C5F-B117-E930AF1E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0FF79-9D94-4719-B6AD-CE4AC295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77EFC-F070-4EDA-A60F-169C6C87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5575F-D927-48AB-BF6E-76FEAAC6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8855F8-6C1C-4D7E-B291-3CF5D270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20F1D-7C69-4850-B600-EF5DE6F3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135C7-373D-4F49-BE54-66F45650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4BA36-FA3E-4A59-B2C0-9CEEC57F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D24-57D4-4837-9474-133BAD16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793ED-F073-4B26-937E-3104504A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98382-F4B5-4B7F-BA9E-E8DB76FB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02218-6693-40ED-8486-C7540812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A083D-1548-49B2-83D9-ED3C8B85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9563D-BA8B-48E1-AAD0-AC837A16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FB875-3C66-450F-B909-6DF9C57C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2DE35-D0BC-469B-A18B-61AA24A9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5B43B-5CFE-41EB-8476-D1475E45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36CB4-F155-48E7-853A-D2A77B7B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82860-20D7-424B-B7A1-5CE8D03E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5888-60E3-41BC-92CB-C164F09A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4CBBB-D60D-4424-A1A2-CC983775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51E45-7423-4A53-B618-E95D749A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E7D0A-FF75-4FC1-964B-ABF407B0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1135F-30C3-481C-AB0F-56FE5EEA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56200-0DF3-482A-96E2-9800556C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D80C0C-ABDB-4FDC-989C-449F7296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D220F-DC74-4731-B510-C4854C4F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7799A-2314-4B50-9D4F-BF640E51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FBE3C-F333-449F-8FEE-1A5C4F09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A24D8-891C-4E76-BEC4-F3FA3E33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D320-BE04-4E94-B054-2808A0A9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92AEE-4667-47B8-987C-148F6AFE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2D944-56A4-4662-9F11-031C5945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DA167-7DB2-46AA-9FAE-7FA7E935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DC1DAF-E8E7-49E4-9667-6D27B54E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0CAD90-771C-4B10-9A50-DC510909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E151-6C55-4E61-9A49-027DC8C2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AE71-5869-4375-A69D-B7D259BF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9C02-C457-4CA7-A61A-5078A45E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81D2-7A64-4788-96D3-23407C46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23B0-86BF-4FF0-9F7F-C4CC4409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15C-6B81-4A4F-B31D-A076D9CD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2BD9-DC29-4D3C-BE6C-E5A23A6B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CA0D-1613-482E-8402-E3C90F55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5715-38C4-4FB1-B368-876DC76C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E9FD-AE28-4F9E-9BCB-5A634CA9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A428-87D6-44D7-8472-CBF624B2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AC8DD-CC84-44C9-9034-7D16BB2F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0439E-9996-489B-A82F-EC9F3895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8AB38-A0B1-4B54-B55F-5A133FDB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8476C-B2DD-4136-8C07-EC12526B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E689-E4DE-4C71-8403-B4A677BA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EC6-86E9-453C-AD2E-F0AD38EB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BB11B-E10A-4718-89A3-3D4842B9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B34DA-710A-40ED-9383-B3DED49D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34CC-C8B4-42AA-8494-0C89AC5D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B4D3B-6C3C-4F4C-855F-82F32FD0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0221-9086-4782-BEC8-7AC01E2F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6BFB-CB91-4B90-9422-D3F8C782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FD215-B938-4760-95A2-9D474BF7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CCA8B-CB72-44A4-867D-C4EF5812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DA81E-F81A-477F-8235-9BFEBD53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DAAF8-D7BD-45D4-9628-57F5B499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98E-D1C9-468B-B6C7-0AE9B91E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AF927-799A-4F62-B30C-210E10F3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F7593-84F6-4ACD-AF93-B4976E0E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969D-7EC2-49F4-94CC-61B5E0BE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EA893-08CB-49F5-9D91-404E4BAE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96BB4-A58D-4E6B-8961-4D1F490E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FEB82-F5D6-4530-B117-C9FDE637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434C2-4830-4F31-AE28-8E25DF4B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5B3C6-3E4B-4ABB-8FFD-D4766213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E6AC3-D4E8-4923-AEC0-0080D7F4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84B55-727C-46A9-BB4E-B4265381D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A28-281D-4BD2-B782-2AFBB476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C9646-C3C4-4C6B-B49A-BC1D9CCE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F6FEF-542B-4F70-B8F3-1CD0A3B6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16A19-CD1A-4AE9-B928-FFFFE4EC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3E628-8A38-4D97-BCE2-C8285462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C3FAD-1651-4BE4-A0A3-140290E7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28EF1-3ADA-46AD-B025-17B8B7BB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69280-B634-46DE-92A7-3DE9751D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FA578-44A2-433C-9098-4C9124F8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C9050-173E-48CE-9A7F-D6C4F1FB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051B4-B427-4A06-AFE8-2FD1027E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896-8E23-4B54-B85B-E3A8CEAF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45300-D27F-4BEE-BC16-639CBA42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87F15-EEF7-4DEA-86C9-C5E99BE9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07BB6-7D0F-4958-A33F-FB3D37E7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EE768-EA76-48EE-AFF3-BB808718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01ABE-6861-465A-A568-C4109D07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D38EC-596C-415C-9561-37C602BD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A0CD0-24EF-49DE-A010-19A54CF9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67BA9-D968-43F0-B018-488057E3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7EEBC-72E7-4B8D-941A-EBECA298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B033E-7EF8-4807-92A8-646DCDC7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AC1-CFEE-49E9-B93A-7477FD31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8EA3C-B021-4A20-B685-D1BB9827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321F2-03CA-4F43-9876-BF2DF658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62644-E9D0-412A-B0DE-9B06A225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55499-8DCF-4655-9F4E-26DD0468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57089-ACAF-48FA-B79A-C8C9C58D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81DC9-9E72-4641-9C3C-FA3B6329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C839A-957D-48A3-9B07-9D6EF7CD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7D3A-1C1E-4BCA-AAA3-3DC0DD6A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00196-65C7-47D3-A83F-3240052E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A8B93-19D8-46F3-8227-0D1DB790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546-D757-49AB-B38E-CF353E22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AB2E8-7BF6-48F4-849C-C4D64ABE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0064A-10FD-496B-873C-9F95CE7F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51B19-2901-4414-83A7-16E7AF7C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C6674-7D0A-4431-B92B-48C87CD9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226D0-51E8-4954-B0BC-6E38A39F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EEC49-89ED-43A7-8A82-39A71883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03370-0832-40BE-B02B-33BE65BA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4E686-BDEE-4067-862F-B7403393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0378F-B5D6-4263-9EA0-CDF0D9BE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4E930-0001-44F3-BCCD-FED1165E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D12-B174-4EF3-B175-BAEE29B7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79E36-41F9-45B0-A048-7DEF5063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31475-D0C5-4A17-B4B5-88922B90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F91CA-2BDA-4DC4-9FCA-E8675496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C3FD3-191B-4FFD-A5F8-8A25E5D5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9C969-42D3-4B78-80C3-188A78C8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85B51-25F2-4D5D-A46F-3768BA80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088B7-B317-4379-82E0-8866020E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8D890-F958-4A67-A5A9-007D29CA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CEB69-2F11-4144-999C-71671ED6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132C9C-590A-4FE5-98B3-EE7F179A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F4C5-1508-418D-A976-D4FC1585881D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984C-22A3-4413-85EB-D21C736410ED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9F7A-E576-42AB-BD59-E02F360A9337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FA00-C646-4FB5-B022-FCF852BCE25B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0378-0BB6-492F-B490-6809C501BFC3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B64C-B48C-4010-8FAA-6FAC4A53FC18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9785-051B-4FC0-B4A3-B096946F497A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e5b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F58D-AB23-4199-B409-EDDCC5DD52D8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e5b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527A-07F2-42D5-BE96-0237D5E80F31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D732-6D00-4D64-9DE4-11B730D1FEC3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C75D-1013-48FA-8050-C8909AB5AC00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6F17-F077-4AB2-8514-FA5D97E5F35D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e5b6f"/>
                </a:solidFill>
                <a:latin typeface="Georgia"/>
              </a:rPr>
              <a:t>LESSON 1.5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fd13b"/>
                </a:solidFill>
                <a:latin typeface="Georgia"/>
              </a:rPr>
              <a:t>Using a Graphing Calculator</a:t>
            </a:r>
            <a:endParaRPr b="0" lang="en-US" sz="4200" spc="-1" strike="noStrike">
              <a:solidFill>
                <a:srgbClr val="e0a20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Objectives for the day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raph ordered pairs from express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graphs to determine whether expressions seem to be equival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graphs to find values, create tables, and select appropriate window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Group Work!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reak up into your groups and work through and answer questions to the activities in section 1.5  on pages 33 – 38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finished, your group will complete the covering the ideas on page 38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ges 39 – 4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9 – 2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section 1.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ge 45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 - 9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21:54:11Z</dcterms:created>
  <dc:creator>Laura Helbing</dc:creator>
  <dc:description/>
  <dc:language>en-US</dc:language>
  <cp:lastModifiedBy>Laura Helbing</cp:lastModifiedBy>
  <dcterms:modified xsi:type="dcterms:W3CDTF">2012-08-10T02:26:19Z</dcterms:modified>
  <cp:revision>2</cp:revision>
  <dc:subject/>
  <dc:title>Using a Graphing Calculator</dc:title>
</cp:coreProperties>
</file>