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79D5-C15A-4ED1-81FF-912BC7AE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excel and divide the class into groups of 2.  Have students work on the first two activities (BRING TOOTHPICKS!) and go over with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to think about it on 21 –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What does the 3n + 1 stand for? (each new square means three more toothpicks, the 1 is for the first square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How else could we represent this , other than with pictures or with an algebraic expression?  (grap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In terms of graphing, what does the three stand for?  (slope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The 1?  (y-interce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 Why would we try to create a formula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367-BC8A-4F0C-86E4-B48ACFD6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C52-CB1C-43BA-9B26-77015A30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EA4-5AE4-42FF-8DA9-1315041A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FFB-ECE5-46A8-A991-BC6CF3FE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797-0542-4640-A27B-2D838934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216-9E35-4B1F-8597-5468ECA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A81-8B5B-4B3A-BA7A-2F79CFA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AA5-EC90-4287-847A-62D1819A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670-FEF8-4269-8D5A-153D7D83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746-E884-4DB0-8E6D-A2FDD836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B62-0018-47AC-9C69-AB9CDC7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4F6-AF57-4744-B0CC-F17A4D6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2F8-C380-442B-A331-19AA0695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D406-3916-4A0C-B606-D5BD87E09A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642600"/>
            <a:ext cx="9001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stances of a pattern are given.  Describe the pattern using on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2 – 2 ∙ 2) ÷ 5 = 5 ∙ 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3 – 2 ∙ 3) ÷ 5 = 5 ∙ 3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-1 – 2 ∙ -1) ÷ 5 = 5 ∙ -1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works as a salesman in a large appliance story.  He earns $400 a week plus 10% of any sales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xpression for his weekly earnings if he sells a dollars worth of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1760" y="142884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#4 :Using the table, evaluate each expression for 4 different values of the variabl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371484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Use your results to determine whether the exp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n – 2n + 5 appears to be equivalent to the expression 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 and explain your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equivalent because for each value of n, the expressions give differen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 of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ctivities 1 &amp; 2 on pages 20 –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er: Answer all questions to the activities. Be prepared to hand thes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oard: be prepared to come to the board and show your work / though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eaker: be prepared to defend your work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ilder: draw or use toothpicks to show each step to help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= -3  (bc |-3| ≠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5 Draw the fourth in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6: How many circles and how many triangles will there be in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ircles, 22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: How many circles are needed to make the nth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8: Describe the pattern of triangles using the variable n to represent the number of circ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71680" t="31251" r="10742" b="55629"/>
          <a:stretch/>
        </p:blipFill>
        <p:spPr>
          <a:xfrm>
            <a:off x="6388200" y="1428840"/>
            <a:ext cx="2755800" cy="12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ow are instances of a patter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36132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936960" y="6143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rcRect l="25783" t="77819" r="44111" b="8423"/>
          <a:stretch/>
        </p:blipFill>
        <p:spPr>
          <a:xfrm>
            <a:off x="500040" y="500040"/>
            <a:ext cx="6000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sheet 1.3A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3- 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 – 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9 –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8-30T19:00:38Z</dcterms:modified>
  <cp:revision>100</cp:revision>
  <dc:subject/>
  <dc:title>PRESENTATION  NAME</dc:title>
</cp:coreProperties>
</file>