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C140-CB5E-4DE6-B6DB-6DEC9F32B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excel and divide the class into groups of 2.  Have students work on the first two activities (BRING TOOTHPICKS!) and go over with the clas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to think about it on 21 –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question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What does the 3n + 1 stand for? (each new square means three more toothpicks, the 1 is for the first square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How else could we represent this , other than with pictures or with an algebraic expression?  (grap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In terms of graphing, what does the three stand for?  (slope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The 1?  (y-interce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 Why would we try to create a formula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246B-0F87-4A35-94C8-97C6EE3D9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64D-3648-4CE0-BDBA-81398FEC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6EB-E59F-40E5-90A2-8C722ABD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FB3-1CC2-46D9-BD2D-60884850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B75-8EAD-4638-B205-B7F3A187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B9D-7DBA-4290-9CFC-E4700A9F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73A-B5C7-45CC-B55E-A620AA56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027-7A28-460D-93E9-7ED4BE0E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BA0-FC01-4F88-9D64-280421E8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6F3-DA8D-41E1-8D7D-2D6B73EC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606-5621-41FC-A6CC-39A7AFF4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BEE-E704-4F81-B26C-558CE065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5A0-A40B-4420-B8D7-3309416F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C5D8-CCB6-4D58-BC56-759A2069120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642600"/>
            <a:ext cx="90010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instances of a pattern are given.  Describe the pattern using one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2 – 2 ∙ 2) ÷ 5 = 5 ∙ 2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3 – 2 ∙ 3) ÷ 5 = 5 ∙ 3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-1 – 2 ∙ -1) ÷ 5 = 5 ∙ -1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 works as a salesman in a large appliance story.  He earns $400 a week plus 10% of any sales he m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xpression for his weekly earnings if he sells a dollars worth of appli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7480" y="177336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Verdana"/>
              </a:rPr>
              <a:t>Equivalent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92000" y="2446200"/>
            <a:ext cx="65228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Sectio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for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ables to describe patterns in instances or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wo expressions seem equivalent by substituting values or making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733840" y="214308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terms in a specif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91680" y="357192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that have the same value for EVER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substituted for the variabl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71760" y="1428840"/>
          <a:ext cx="6095880" cy="1854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9n – 2n +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#4 :Using the table, evaluate each expression for 4 different values of the variable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0" y="3714840"/>
            <a:ext cx="91440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Use your results to determine whether the expre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9n – 2n + 5 appears to be equivalent to the expression 5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 and explain your rea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not equivalent because for each value of n, the expressions give different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1854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9n – 2n +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s of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8571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ctivities 1 &amp; 2 on pages 20 –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corder: Answer all questions to the activities. Be prepared to hand thes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oard: be prepared to come to the board and show your work / thought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peaker: be prepared to defend your work to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uilder: draw or use toothpicks to show each step to help you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1-3, Consider three instances of the pattern bel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28760" y="1643040"/>
            <a:ext cx="8501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4| = 4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½| = ½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5.32| = 5.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1: Describe the pattern using on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x|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2: Find another number that is an instance of this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147.2| = 14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3: Find a number that is a counter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x = -3  (bc |-3| ≠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5 Draw the fourth in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6: How many circles and how many triangles will there be in th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circles, 22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7: How many circles are needed to make the nth de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8: Describe the pattern of triangles using the variable n to represent the number of circ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rcRect l="71680" t="31251" r="10742" b="55629"/>
          <a:stretch/>
        </p:blipFill>
        <p:spPr>
          <a:xfrm>
            <a:off x="6388200" y="1428840"/>
            <a:ext cx="2755800" cy="128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ow are instances of a patter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361320" y="4714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936960" y="614376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n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rcRect l="25783" t="77819" r="44111" b="8423"/>
          <a:stretch/>
        </p:blipFill>
        <p:spPr>
          <a:xfrm>
            <a:off x="500040" y="500040"/>
            <a:ext cx="6000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ksheet 1.3A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s 23- 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0 – 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s 29 –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 -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9:20:27Z</dcterms:created>
  <dc:creator>Mediac</dc:creator>
  <dc:description/>
  <dc:language>en-US</dc:language>
  <cp:lastModifiedBy>Laura Helbing</cp:lastModifiedBy>
  <dcterms:modified xsi:type="dcterms:W3CDTF">2012-08-30T19:00:38Z</dcterms:modified>
  <cp:revision>100</cp:revision>
  <dc:subject/>
  <dc:title>PRESENTATION  NAME</dc:title>
</cp:coreProperties>
</file>