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0B53-50C7-4E30-BEB6-3E3D5FAB2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0688-DE0B-4008-AFAB-029C3861A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0E5-52A9-4280-9242-36989EC2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6D6-0035-4F32-A14A-5F75F5FF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DD5-07D4-41FF-85F1-A3D5B8A5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44D-8660-4F5F-B7A5-F9EBF61C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BC7-A70A-4C91-8077-24A261B1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8CC-BCFB-45DC-852D-087816C0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DCC-634A-4F4F-8D61-F929EA91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A4A-7E89-487A-9E62-D3C6B8F6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B78-FB11-44AA-99CA-8F596AAC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F9F-E0AE-4E3D-B9A6-90F9AB6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E87-CCB2-4E6B-9B86-AA4CB850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D95-A844-4F67-920D-A69DB53A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5744-834E-43C5-A1D9-D5881B2E678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ery lamb has 4 legs.  Every chicken has 2 leg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How many legs do 5 lambs and 20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How many legs do 100 lambs and 27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How many legs do L lambs and C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93920" y="28954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513960" y="449568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4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598840" y="627372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l +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inish worksheet 1.2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Pages 16 – 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 – 22 (ex. Cred: 23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escribing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Objectives for the 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Use variables to describe patterns in instances or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dentify and apply the associative, commutative, and transitive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Create expression to model real-world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Fa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nst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Patter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063240" y="4952880"/>
            <a:ext cx="50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roup of terms which a connection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can b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666960" y="37339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term of a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981520" y="12952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, variable, or combination of the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139200" y="2514600"/>
            <a:ext cx="52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 of expression that is multipl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f a ∙ b = c, then a and b are factors of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64680" y="17524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.  5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7x + 8y + 6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252840" y="17524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valuate each expression #1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828800" y="6094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3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4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5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Write another instance of the pattern (#4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 ( 9 + 8) ÷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748960" y="1828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3051360" y="3124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2901240" y="4114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 two instances of each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x ∙ x ∙ x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(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2 ∙ 2 ∙ 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-3 ∙ -3 ∙ 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commutative property of multiplication to find another expression that gives the same value as 6a ∙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∙ 6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893840" y="28954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4 + 3)  = 7 ∙ 4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5104800" y="342900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11 + 3)  = 7 ∙ 11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198760" y="22096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x + 3)  = 7 ∙ x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Three instances of a pattern are given.  Describe the pattern using one variab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5120" y="20574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 – 7 = 3 (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1 – 7 = 3 (1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¼  – 7 = 3 (¼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476080" y="5257800"/>
            <a:ext cx="48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∙ x – 7 = 3 (x – 4)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05120" y="609120"/>
            <a:ext cx="7238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Jana designs and sells t-shirts online.  She works through a company that pays her a base of $50 every month for her designs, plus a 20% profit for every t-shirt that is sold.  Each shirt costs $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9: write an expression that calculates Jana’s monthly earnings if she sells s t-shi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10: How much does Jana make in a month when she sells 30 t-shi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3975840" y="44956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s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2757600" y="624852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 ∙ 30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247520" y="61722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7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 up into groups of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2-08-29T15:25:12Z</dcterms:modified>
  <cp:revision>93</cp:revision>
  <dc:subject/>
  <dc:title>Difference Quotients and Rates of Change</dc:title>
</cp:coreProperties>
</file>