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F58F-D7D8-4D36-9AFF-E54A01092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244C-880A-4D67-B5C8-53741EA9B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6B37-6915-4E51-98D2-72BD158D0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9C92-7C34-4C73-A327-21BD0A71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8EDA-10B3-4113-8B57-69E8DB8D0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E77A-8EA1-4FA8-9496-36D034486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064A-8925-43DD-8CE3-F4A833A3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2455-D95B-4422-BEB7-5BE8D0BE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267E-7DB3-4F82-993A-4ED8C5E5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A80D-D7F5-45D4-8BB6-622A5A3B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6B08-F2A7-4536-B5BC-8CFB1E2B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E104-D1C5-410F-9DCB-69F5C0DE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3DFB-F2ED-432F-888F-A9E80BEE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6FEC-B077-4C91-ABFE-BAD9636D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6190-22E5-4D81-92D5-45F2057EF23C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rm-up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very lamb has 4 legs.  Every chicken has 2 leg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 How many legs do 5 lambs and 20 chickens hav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. How many legs do 100 lambs and 27 chickens hav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How many legs do L lambs and C chickens hav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2293920" y="2895480"/>
            <a:ext cx="155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 le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3513960" y="4495680"/>
            <a:ext cx="178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54 le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2598840" y="6273720"/>
            <a:ext cx="14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l + 2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5715000"/>
            <a:ext cx="441972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itle 1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Finish worksheet 1.2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Pages 16 – 17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1 – 22 (ex. Cred: 23)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401427"/>
                </a:solidFill>
                <a:latin typeface="Calibri"/>
              </a:rPr>
              <a:t>Describing Patter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1441440"/>
            <a:ext cx="6400800" cy="9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401427"/>
                </a:solidFill>
                <a:latin typeface="Calibri"/>
              </a:rPr>
              <a:t>Section 1.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43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Objectives for the da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133360" y="76212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Use variables to describe patterns in instances or t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Identify and apply the associative, commutative, and transitive 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Create expression to model real-world situ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43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133360" y="76212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Ter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Fa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Inst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Patter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3063240" y="4952880"/>
            <a:ext cx="505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group of terms which a connection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ionship can be f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3666960" y="373392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term of a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2981520" y="1295280"/>
            <a:ext cx="57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number, variable, or combination of the tw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3139200" y="2514600"/>
            <a:ext cx="525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number of expression that is multipl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If a ∙ b = c, then a and b are factors of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3064680" y="1752480"/>
            <a:ext cx="31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.  5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7x + 8y + 6 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6252840" y="175248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Evaluate each expression #1 -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828800" y="60948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2(3 + 8) ÷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2(4 + 8) ÷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2(5 + 8) ÷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Write another instance of the pattern (#4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2 ( 9 + 8) ÷ 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7"/>
          <p:cNvSpPr/>
          <p:nvPr/>
        </p:nvSpPr>
        <p:spPr>
          <a:xfrm>
            <a:off x="2748960" y="182880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3051360" y="31240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0"/>
          <p:cNvSpPr/>
          <p:nvPr/>
        </p:nvSpPr>
        <p:spPr>
          <a:xfrm>
            <a:off x="2901240" y="411480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ive two instances of each patter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# 5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# 6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4 ∙ x ∙ x ∙ x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(2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4 ∙ 2 ∙ 2 ∙ 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(-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4 ∙ -3 ∙ -3 ∙ -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he commutative property of multiplication to find another expression that gives the same value as 6a ∙ b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 ∙ 6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4893840" y="2895480"/>
            <a:ext cx="35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 (4 + 3)  = 7 ∙ 4 +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5104800" y="3429000"/>
            <a:ext cx="391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 (11 + 3)  = 7 ∙ 11 +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5198760" y="2209680"/>
            <a:ext cx="35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 (x + 3)  = 7 ∙ x +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0" y="5715000"/>
            <a:ext cx="441972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33360" y="761760"/>
            <a:ext cx="6543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Three instances of a pattern are given.  Describe the pattern using one variab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905120" y="20574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1427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401427"/>
                </a:solidFill>
                <a:latin typeface="Calibri"/>
              </a:rPr>
              <a:t>3 ∙ 1 – 7 = 3 (1 – 4) + 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1427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401427"/>
                </a:solidFill>
                <a:latin typeface="Calibri"/>
              </a:rPr>
              <a:t>3 ∙ 11 – 7 = 3 (11 – 4) + 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1427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401427"/>
                </a:solidFill>
                <a:latin typeface="Calibri"/>
              </a:rPr>
              <a:t>3 ∙ ¼  – 7 = 3 (¼ – 4) + 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2476080" y="5257800"/>
            <a:ext cx="48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∙ x – 7 = 3 (x – 4) +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43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905120" y="609120"/>
            <a:ext cx="72388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1427"/>
                </a:solidFill>
                <a:latin typeface="Calibri"/>
              </a:rPr>
              <a:t>Jana designs and sells t-shirts online.  She works through a company that pays her a base of $50 every month for her designs, plus a 20% profit for every t-shirt that is sold.  Each shirt costs $2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1427"/>
                </a:solidFill>
                <a:latin typeface="Calibri"/>
              </a:rPr>
              <a:t>#9: write an expression that calculates Jana’s monthly earnings if she sells s t-shir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1427"/>
                </a:solidFill>
                <a:latin typeface="Calibri"/>
              </a:rPr>
              <a:t>#10: How much does Jana make in a month when she sells 30 t-shir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3"/>
          <p:cNvSpPr/>
          <p:nvPr/>
        </p:nvSpPr>
        <p:spPr>
          <a:xfrm>
            <a:off x="3975840" y="4495680"/>
            <a:ext cx="29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 + .2(20s) doll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4"/>
          <p:cNvSpPr/>
          <p:nvPr/>
        </p:nvSpPr>
        <p:spPr>
          <a:xfrm>
            <a:off x="2757600" y="6248520"/>
            <a:ext cx="334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 + .2(20 ∙ 30) doll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5"/>
          <p:cNvSpPr/>
          <p:nvPr/>
        </p:nvSpPr>
        <p:spPr>
          <a:xfrm>
            <a:off x="7247520" y="617220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17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eak up into groups of 4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01:06:49Z</dcterms:created>
  <dc:creator>Laura Helbing</dc:creator>
  <dc:description/>
  <dc:language>en-US</dc:language>
  <cp:lastModifiedBy>Laura Helbing</cp:lastModifiedBy>
  <dcterms:modified xsi:type="dcterms:W3CDTF">2012-08-29T15:25:12Z</dcterms:modified>
  <cp:revision>93</cp:revision>
  <dc:subject/>
  <dc:title>Difference Quotients and Rates of Change</dc:title>
</cp:coreProperties>
</file>