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101-EC03-4D03-AFFA-46CD5C4D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3FE-4738-430C-9778-2792838D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D4D-1AC9-402A-A949-8A1D34E7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2BE-2C80-4E41-8D68-E858791C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E81-F975-4DB2-93D5-A607DA27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F7D-F288-4AC6-BFB9-EC7FB93F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F96-A334-4E0A-9159-B29B44EC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F2A-2D2B-4E92-AEB2-79C1981B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EE2-AE34-499D-940C-7FB9FDBB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632-6A51-46D9-908D-34C9F30A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201-DB32-4C88-94CF-787AD43B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B59-E298-4058-B9E5-80B61D06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4671-6711-46C6-8D41-547A753D135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s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100 – 99 – 9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sixty divided by two times th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8x when x is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575520" y="2357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646800" y="3714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646800" y="521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1680" y="15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Evaluating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43200" y="1365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642960" y="2413080"/>
            <a:ext cx="8215200" cy="3506040"/>
          </a:xfrm>
          <a:prstGeom prst="rect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Evaluate numerical and algebraic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Apply the Algebraic Definitions of Subtraction and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Identify and apply the associative, commutative, identity, and transitive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lgebraic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valuating the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884960" y="2000160"/>
            <a:ext cx="72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ter or other symbol that can be replaced by an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 other object) in a math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952560" y="3286080"/>
            <a:ext cx="70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ath problem containing both numbers and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66360" y="4643280"/>
            <a:ext cx="56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a numerical value of a math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28760" y="785880"/>
            <a:ext cx="85010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Ex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Multiplication (Div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Addition  (Subtra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Re-write the expression using addition instead of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15 – 9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#10:  8(3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15 + -9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8(3 + 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the first operation performed and evaluate each expres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algebraic expression for the given value of the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a = 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x=4, y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625320" y="2317680"/>
                <a:ext cx="1555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4"/>
              <p:cNvSpPr txBox="1"/>
              <p:nvPr/>
            </p:nvSpPr>
            <p:spPr>
              <a:xfrm>
                <a:off x="5816520" y="2098800"/>
                <a:ext cx="1592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TextBox 5"/>
          <p:cNvSpPr/>
          <p:nvPr/>
        </p:nvSpPr>
        <p:spPr>
          <a:xfrm>
            <a:off x="285840" y="364320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ication,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214960" y="35719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s,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4"/>
              <p:cNvSpPr txBox="1"/>
              <p:nvPr/>
            </p:nvSpPr>
            <p:spPr>
              <a:xfrm>
                <a:off x="4664160" y="5243400"/>
                <a:ext cx="162396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4"/>
              <p:cNvSpPr txBox="1"/>
              <p:nvPr/>
            </p:nvSpPr>
            <p:spPr>
              <a:xfrm>
                <a:off x="1565280" y="6140520"/>
                <a:ext cx="517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4"/>
              <p:cNvSpPr txBox="1"/>
              <p:nvPr/>
            </p:nvSpPr>
            <p:spPr>
              <a:xfrm>
                <a:off x="6634080" y="6107040"/>
                <a:ext cx="519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Review the propert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28760" y="785880"/>
            <a:ext cx="850104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Commutativ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addi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a + b = b + a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multiplica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a ∙ b = b ∙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Associativ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addi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(a + b) + c = a + (b + c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multiplica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(a ∙ b) ∙ c = a ∙ (b ∙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Transitive Proper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a = b and b = c, then  a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874040" y="928800"/>
            <a:ext cx="28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commu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4375440" y="321480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to associate wi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097160" y="5500800"/>
            <a:ext cx="51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of telephone – to trans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0" y="785880"/>
            <a:ext cx="89298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x + 58 = y + 15 and y + 15 = w, what conclusion can be made based on the Transitive Property of Equ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x + 58 =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What property of multiplication are displayed in this example? 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  (6x) ∙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(x ∙ 6) ∙ 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x (6 ∙ 7)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010560" y="52862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1427"/>
                </a:solidFill>
                <a:latin typeface="Arial"/>
              </a:rPr>
              <a:t>Commu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080400" y="59292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1427"/>
                </a:solidFill>
                <a:latin typeface="Arial"/>
              </a:rPr>
              <a:t>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Arial"/>
              </a:rPr>
              <a:t>Lesson Master 1.1A and page 12: 21 - 2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1:31:52Z</dcterms:created>
  <dc:creator>Mediac</dc:creator>
  <dc:description/>
  <dc:language>en-US</dc:language>
  <cp:lastModifiedBy>Laura Helbing</cp:lastModifiedBy>
  <dcterms:modified xsi:type="dcterms:W3CDTF">2013-08-27T00:18:59Z</dcterms:modified>
  <cp:revision>25</cp:revision>
  <dc:subject/>
  <dc:title>PRESENTATION NAME</dc:title>
</cp:coreProperties>
</file>