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1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0" descr="ujytjnfb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EAACED0C-874E-415E-A69A-C145CD1EED53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16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15" descr="zertbtyyoiu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4733280" y="3209760"/>
            <a:ext cx="326844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Division of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Algebrai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Lesson 5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951840" y="0"/>
            <a:ext cx="4062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jective:   Divide algebraic fr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7"/>
          <p:cNvSpPr/>
          <p:nvPr/>
        </p:nvSpPr>
        <p:spPr>
          <a:xfrm>
            <a:off x="5124240" y="18900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Warm- U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132000" y="1413000"/>
            <a:ext cx="5688000" cy="51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4"/>
              <p:cNvSpPr txBox="1"/>
              <p:nvPr/>
            </p:nvSpPr>
            <p:spPr>
              <a:xfrm>
                <a:off x="3857760" y="1428840"/>
                <a:ext cx="23922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7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TextBox 5"/>
          <p:cNvSpPr/>
          <p:nvPr/>
        </p:nvSpPr>
        <p:spPr>
          <a:xfrm>
            <a:off x="2879280" y="857160"/>
            <a:ext cx="5531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p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the fraction that is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qual to the other th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6"/>
              <p:cNvSpPr txBox="1"/>
              <p:nvPr/>
            </p:nvSpPr>
            <p:spPr>
              <a:xfrm>
                <a:off x="2500200" y="4857840"/>
                <a:ext cx="591984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5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3445920" y="785880"/>
            <a:ext cx="396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ividing Fra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ultiply by the reciproca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Think  « Kiss and Flip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2"/>
              <p:cNvSpPr txBox="1"/>
              <p:nvPr/>
            </p:nvSpPr>
            <p:spPr>
              <a:xfrm>
                <a:off x="2500200" y="3313080"/>
                <a:ext cx="765360" cy="32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2"/>
              <p:cNvSpPr txBox="1"/>
              <p:nvPr/>
            </p:nvSpPr>
            <p:spPr>
              <a:xfrm>
                <a:off x="3786120" y="3857760"/>
                <a:ext cx="1420920" cy="17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2"/>
              <p:cNvSpPr txBox="1"/>
              <p:nvPr/>
            </p:nvSpPr>
            <p:spPr>
              <a:xfrm>
                <a:off x="6383160" y="3857760"/>
                <a:ext cx="655920" cy="17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4913280" y="1890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132000" y="1413000"/>
            <a:ext cx="56880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Simplif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Me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Rational numbers are clos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4"/>
              <p:cNvSpPr txBox="1"/>
              <p:nvPr/>
            </p:nvSpPr>
            <p:spPr>
              <a:xfrm>
                <a:off x="4214880" y="2286000"/>
                <a:ext cx="285732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nal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5"/>
              <p:cNvSpPr txBox="1"/>
              <p:nvPr/>
            </p:nvSpPr>
            <p:spPr>
              <a:xfrm>
                <a:off x="2965320" y="4000680"/>
                <a:ext cx="1892520" cy="25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5572080" y="3643200"/>
                <a:ext cx="2906640" cy="21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7"/>
              <p:cNvSpPr txBox="1"/>
              <p:nvPr/>
            </p:nvSpPr>
            <p:spPr>
              <a:xfrm>
                <a:off x="4368960" y="3225960"/>
                <a:ext cx="1631880" cy="16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4913280" y="1890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357280" y="1413000"/>
            <a:ext cx="657252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Simpl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5"/>
              <p:cNvSpPr txBox="1"/>
              <p:nvPr/>
            </p:nvSpPr>
            <p:spPr>
              <a:xfrm>
                <a:off x="3720960" y="1395360"/>
                <a:ext cx="1128960" cy="25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7"/>
              <p:cNvSpPr txBox="1"/>
              <p:nvPr/>
            </p:nvSpPr>
            <p:spPr>
              <a:xfrm>
                <a:off x="1643040" y="5357880"/>
                <a:ext cx="34243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8"/>
              <p:cNvSpPr txBox="1"/>
              <p:nvPr/>
            </p:nvSpPr>
            <p:spPr>
              <a:xfrm>
                <a:off x="5340240" y="5357880"/>
                <a:ext cx="31734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4884120" y="189000"/>
            <a:ext cx="13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You tr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857680" y="1413000"/>
            <a:ext cx="542916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valuate x ÷ y and y ÷ x 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From this, is division commutative?  Why or 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4214880" y="2143080"/>
                <a:ext cx="339552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and 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5051520" y="18900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nd of the day proble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132000" y="1413000"/>
            <a:ext cx="56880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Simplif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8"/>
              <p:cNvSpPr txBox="1"/>
              <p:nvPr/>
            </p:nvSpPr>
            <p:spPr>
              <a:xfrm>
                <a:off x="4429080" y="1285920"/>
                <a:ext cx="1119240" cy="27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2143080" y="1413000"/>
            <a:ext cx="621504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HOMEWORK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LM 5.2A Eve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5.2 revie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5.3 note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eeDigitalPhotos.net </dc:description>
  <dc:language>en-US</dc:language>
  <cp:lastModifiedBy>Laura Helbing</cp:lastModifiedBy>
  <dcterms:modified xsi:type="dcterms:W3CDTF">2012-12-03T02:27:03Z</dcterms:modified>
  <cp:revision>35</cp:revision>
  <dc:subject/>
  <dc:title>Christmas Balls</dc:title>
</cp:coreProperties>
</file>