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62F3581-FC9A-4C72-B938-FE2EA7127075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ational numbers are clo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4214880" y="2286000"/>
                <a:ext cx="28573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nal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2965320" y="4000680"/>
                <a:ext cx="18925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5572080" y="3643200"/>
                <a:ext cx="290664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368960" y="3225960"/>
                <a:ext cx="163188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643040" y="5357880"/>
                <a:ext cx="3424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5340240" y="5357880"/>
                <a:ext cx="3173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aura Helbing</cp:lastModifiedBy>
  <dcterms:modified xsi:type="dcterms:W3CDTF">2012-12-03T02:27:03Z</dcterms:modified>
  <cp:revision>35</cp:revision>
  <dc:subject/>
  <dc:title>Christmas Balls</dc:title>
</cp:coreProperties>
</file>