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52CADF33-D876-498B-B229-10EA13623C95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33280" y="3209760"/>
            <a:ext cx="3268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Divis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51840" y="0"/>
            <a:ext cx="406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  Divide algebraic fr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124240" y="1890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arm- 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132000" y="1413000"/>
            <a:ext cx="56880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857760" y="1428840"/>
                <a:ext cx="2392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Box 5"/>
          <p:cNvSpPr/>
          <p:nvPr/>
        </p:nvSpPr>
        <p:spPr>
          <a:xfrm>
            <a:off x="2879280" y="857160"/>
            <a:ext cx="553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fraction that i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al to the othe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2500200" y="4857840"/>
                <a:ext cx="5919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445920" y="785880"/>
            <a:ext cx="39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viding F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ltiply by the recipro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hink  « Kiss and Flip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500200" y="3313080"/>
                <a:ext cx="76536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3786120" y="3857760"/>
                <a:ext cx="1420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6383160" y="3857760"/>
                <a:ext cx="655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ational numbers are clo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4214880" y="2286000"/>
                <a:ext cx="285732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nal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2965320" y="4000680"/>
                <a:ext cx="189252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5572080" y="3643200"/>
                <a:ext cx="290664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4368960" y="3225960"/>
                <a:ext cx="163188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357280" y="1413000"/>
            <a:ext cx="65725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3720960" y="1395360"/>
                <a:ext cx="1128960" cy="25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1643040" y="5357880"/>
                <a:ext cx="34243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5340240" y="5357880"/>
                <a:ext cx="31734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884120" y="1890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You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857680" y="1413000"/>
            <a:ext cx="5429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valuate x ÷ y and y ÷ x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From this, is division commutative? 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4214880" y="2143080"/>
                <a:ext cx="3395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nd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051520" y="1890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nd of the day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4429080" y="1285920"/>
                <a:ext cx="11192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143080" y="1413000"/>
            <a:ext cx="62150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LM 5.2A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2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3 not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Laura Helbing</cp:lastModifiedBy>
  <dcterms:modified xsi:type="dcterms:W3CDTF">2012-12-03T02:27:03Z</dcterms:modified>
  <cp:revision>35</cp:revision>
  <dc:subject/>
  <dc:title>Christmas Balls</dc:title>
</cp:coreProperties>
</file>