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16A-52A3-4F18-9EB5-05E586D4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43A-8407-45FE-A542-107F3ADB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4F8-D2EF-4615-8E6F-48A2609C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A6C-D26F-4EC3-9667-A8D0EA6F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4EA-1174-4716-BC1D-3C5DB052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344-84C1-4BCC-BB60-C2E0A821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B14-D6FC-48D5-B57E-35716D8A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29E-DF03-4A64-950B-FF4D4DDD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BAD-3A32-462D-ABBA-8FE7F5E0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94A-C9EA-48C5-9C3C-39DCF330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7F1-228B-43D8-963D-09BD6B2D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A3B-FD39-42B2-A55A-FCCFC7F5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3922-CE12-4407-AF21-080FC7A73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59a1"/>
                </a:solidFill>
                <a:latin typeface="Calibri"/>
              </a:rPr>
              <a:t>Acceleration and Decele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70000"/>
            <a:ext cx="640080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ef59a1"/>
                </a:solidFill>
                <a:latin typeface="Calibri"/>
              </a:rPr>
              <a:t>Section 7.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34272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79040" y="1338120"/>
            <a:ext cx="70693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Acceleration is the rate of change of the rate of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In other words, acceleration = f’’(x) = second derivative of the fun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*If f’’(x) is negative, the object i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decelerating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34272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79400" y="1338120"/>
            <a:ext cx="73123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Find the instantaneous vertical acceleration at time t of a projectile whose height at time t is given b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(t) = 4 + 55t - 16 t</a:t>
            </a:r>
            <a:r>
              <a:rPr b="1" lang="en-US" sz="3000" spc="-1" strike="noStrike" baseline="30000">
                <a:solidFill>
                  <a:srgbClr val="ef59a1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’(t) = 55 – 32t feet per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’’(t) = -32 feet per second per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067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95280" y="590400"/>
            <a:ext cx="7848720" cy="45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 ball is dropped from the Leaning Tower of Pisa, 56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bove the ground. The height (in meters) of the ball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the ground at time </a:t>
            </a:r>
            <a:r>
              <a:rPr b="1" i="1" lang="en-US" sz="2400" spc="-1" strike="noStrike">
                <a:solidFill>
                  <a:srgbClr val="ef59a1"/>
                </a:solidFill>
                <a:latin typeface="Calibri"/>
              </a:rPr>
              <a:t>t seconds is given by h(t) = –4.9t</a:t>
            </a:r>
            <a:r>
              <a:rPr b="1" i="1" lang="en-US" sz="2400" spc="-1" strike="noStrike" baseline="30000">
                <a:solidFill>
                  <a:srgbClr val="ef59a1"/>
                </a:solidFill>
                <a:latin typeface="Calibri"/>
              </a:rPr>
              <a:t>2</a:t>
            </a:r>
            <a:r>
              <a:rPr b="1" i="1" lang="en-US" sz="2400" spc="-1" strike="noStrike">
                <a:solidFill>
                  <a:srgbClr val="ef59a1"/>
                </a:solidFill>
                <a:latin typeface="Calibri"/>
              </a:rPr>
              <a:t> + 5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. What is the instantaneous velocity of the ball 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= 3 sec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b. What is the acceleration of the ball 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= 3 secon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c. At wh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does the ball hit the </a:t>
            </a: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d. What is the instantaneous velocity of the ball at the moment it hits the 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987920" y="234324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t) = -9.8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742920" y="23432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) = -9.8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880960" y="234324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) = -29.4 m/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832040" y="302904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t) = -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739680" y="310500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3) = -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420880" y="310500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3) = -9.8 m/sec /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461240" y="37908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3060360" y="3790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4431960" y="3790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5870880" y="379080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43= 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7320960" y="37908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.38 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202560" y="4552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3060720" y="447660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.38) = -9.8(3.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348160" y="4552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.38) = -33.13 m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ages 442 – 44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 – 6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8 – 9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1:56:37Z</dcterms:created>
  <dc:creator>Laura Helbing</dc:creator>
  <dc:description/>
  <dc:language>en-US</dc:language>
  <cp:lastModifiedBy>Laura Helbing</cp:lastModifiedBy>
  <dcterms:modified xsi:type="dcterms:W3CDTF">2011-01-27T02:31:21Z</dcterms:modified>
  <cp:revision>4</cp:revision>
  <dc:subject/>
  <dc:title>Acceleration and Deceleration</dc:title>
</cp:coreProperties>
</file>