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3C7-B71C-4480-B5CC-737DDB21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9A8-973E-4C66-A7A9-30D5502A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AED-EEA7-415E-917F-56A275FB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113-ABA9-4B2A-BB3A-434F42A1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6F0-E6C1-4D99-A2BD-D72BA823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A32-8BFF-4676-8B92-92743B13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1AF-5B72-4341-9F7A-653FB6C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626-B28F-49F0-AE3E-7DAF0788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B40-5CE4-4C1C-9690-E0F6B58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B2A-35CA-47D8-8BB5-C2E805B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BF3-9A88-4930-9E75-3F25EF5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E4E-D729-4E63-AE96-6C323BE2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1069-C584-471E-A1EB-B5ECF23BD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59a1"/>
                </a:solidFill>
                <a:latin typeface="Calibri"/>
              </a:rPr>
              <a:t>Acceleration and Decele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170000"/>
            <a:ext cx="6400800" cy="4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ef59a1"/>
                </a:solidFill>
                <a:latin typeface="Calibri"/>
              </a:rPr>
              <a:t>Section 7.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79040" y="1338120"/>
            <a:ext cx="7069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Acceleration is the rate of change of the rate of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In other words, acceleration = f’’(x) = second derivative of the fun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*If f’’(x) is negative, the object is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ef59a1"/>
                </a:solidFill>
                <a:latin typeface="Calibri"/>
              </a:rPr>
              <a:t>decelerating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9280" y="342720"/>
            <a:ext cx="7067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9400" y="1338120"/>
            <a:ext cx="73123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Find the instantaneous vertical acceleration at time t of a projectile whose height at time t is given b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(t) = 4 + 55t - 16 t</a:t>
            </a:r>
            <a:r>
              <a:rPr b="1" lang="en-US" sz="30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(t) = 55 – 32t feet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ef59a1"/>
                </a:solidFill>
                <a:latin typeface="Calibri"/>
              </a:rPr>
              <a:t>h’’(t) = -32 feet per second per sec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70675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f59a1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95280" y="590400"/>
            <a:ext cx="7848720" cy="45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 ball is dropped from the Leaning Tower of Pisa, 56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bove the ground. The height (in meters) of the ball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the ground at time 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t seconds is given by h(t) = –4.9t</a:t>
            </a:r>
            <a:r>
              <a:rPr b="1" i="1" lang="en-US" sz="2400" spc="-1" strike="noStrike" baseline="30000">
                <a:solidFill>
                  <a:srgbClr val="ef59a1"/>
                </a:solidFill>
                <a:latin typeface="Calibri"/>
              </a:rPr>
              <a:t>2</a:t>
            </a:r>
            <a:r>
              <a:rPr b="1" i="1" lang="en-US" sz="2400" spc="-1" strike="noStrike">
                <a:solidFill>
                  <a:srgbClr val="ef59a1"/>
                </a:solidFill>
                <a:latin typeface="Calibri"/>
              </a:rPr>
              <a:t> + 5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59a1"/>
                </a:solidFill>
                <a:latin typeface="Calibri"/>
              </a:rPr>
              <a:t>a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. What is the instantaneous velocity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.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b. What is the acceleration of the ball 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= 3 secon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c. At what time </a:t>
            </a:r>
            <a:r>
              <a:rPr b="1" i="1" lang="en-US" sz="2000" spc="-1" strike="noStrike">
                <a:solidFill>
                  <a:srgbClr val="ef59a1"/>
                </a:solidFill>
                <a:latin typeface="Calibri"/>
              </a:rPr>
              <a:t>t does the ball hit the </a:t>
            </a: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59a1"/>
                </a:solidFill>
                <a:latin typeface="Calibri"/>
              </a:rPr>
              <a:t>d. What is the instantaneous velocity of the ball at the moment it hits the groun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87920" y="234324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t) = -9.8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742920" y="23432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9.8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880960" y="234324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) = -29.4 m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832040" y="302904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t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3739680" y="310500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420880" y="3105000"/>
            <a:ext cx="25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’(3) = -9.8 m/sec /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461240" y="37908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30603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431960" y="379080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6= -4.9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5870880" y="379080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43= 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7320960" y="37908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 3.38 s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02560" y="4552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3060720" y="447660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9.8(3.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348160" y="45529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’(3.38) = -33.13 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ages 442 – 44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 – 6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 – 9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1:56:37Z</dcterms:created>
  <dc:creator>Laura Helbing</dc:creator>
  <dc:description/>
  <dc:language>en-US</dc:language>
  <cp:lastModifiedBy>Laura Helbing</cp:lastModifiedBy>
  <dcterms:modified xsi:type="dcterms:W3CDTF">2011-01-27T02:31:21Z</dcterms:modified>
  <cp:revision>4</cp:revision>
  <dc:subject/>
  <dc:title>Acceleration and Deceleration</dc:title>
</cp:coreProperties>
</file>