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546-A88D-4A0B-949F-CF25980F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6FD-2EE5-4201-A9EE-D6CE3A01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7A0-5FE8-4359-A5CF-5987DD32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231-7ABB-4597-8CA2-B4C0F95A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C87-8F71-4DDC-82EB-9A87EC75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DCF-7A42-40A0-8381-8284FCA8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F25-1119-4935-9C53-0BBD80F2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1BF-BA09-448F-A413-13C52792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769-EDFF-4940-81E3-43E55F36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F30-8B0B-4569-8D44-66B70E4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095-6C53-4316-A2E4-F86EAD6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499-8C35-43E2-A3BD-F36B28D0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741D-DDB0-4CAA-A1F3-BEAF905A7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59a1"/>
                </a:solidFill>
                <a:latin typeface="Calibri"/>
              </a:rPr>
              <a:t>Acceleration and Decel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ef59a1"/>
                </a:solidFill>
                <a:latin typeface="Calibri"/>
              </a:rPr>
              <a:t>Section 7.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9040" y="1338120"/>
            <a:ext cx="7069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Acceleration is the rate of change of the rate of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In other words, acceleration = f’’(x) = second derivative of the fu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*If f’’(x) is negative, the object i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decelerating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9400" y="1338120"/>
            <a:ext cx="7312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Find the instantaneous vertical acceleration at time t of a projectile whose height at time t is given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(t) = 4 + 55t - 16 t</a:t>
            </a:r>
            <a:r>
              <a:rPr b="1" lang="en-US" sz="30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(t) = 55 – 32t feet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’(t) = -32 feet per second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067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590400"/>
            <a:ext cx="784872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 ball is dropped from the Leaning Tower of Pisa, 5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bove the ground. The height (in meters) of the ball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the ground at time 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t seconds is given by h(t) = –4.9t</a:t>
            </a:r>
            <a:r>
              <a:rPr b="1" i="1" lang="en-US" sz="24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 + 5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. What is the instantaneous velocity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b. What is the acceleration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on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c. At wh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does the ball hit the 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d. What is the instantaneous velocity of the ball at the moment it hits the 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87920" y="234324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t) = -9.8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742920" y="23432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9.8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880960" y="234324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29.4 m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832040" y="302904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t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739680" y="310500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420880" y="3105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 m/sec /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61240" y="37908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30603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4319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5870880" y="37908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43= 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7320960" y="3790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.38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02560" y="455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3060720" y="44766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9.8(3.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48160" y="4552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33.13 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ages 442 – 44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 – 6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8 – 9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56:37Z</dcterms:created>
  <dc:creator>Laura Helbing</dc:creator>
  <dc:description/>
  <dc:language>en-US</dc:language>
  <cp:lastModifiedBy>Laura Helbing</cp:lastModifiedBy>
  <dcterms:modified xsi:type="dcterms:W3CDTF">2011-01-27T02:31:21Z</dcterms:modified>
  <cp:revision>4</cp:revision>
  <dc:subject/>
  <dc:title>Acceleration and Deceleration</dc:title>
</cp:coreProperties>
</file>