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8D3E-43D5-4A5C-B418-9D9D80AC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6C8-37E4-464E-B3C5-0580BD8E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7257-9384-41D2-936A-4FE585EE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E43B-D1F4-44D1-94AC-341979CE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2271-E503-4045-A321-A8CB0172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7F0-DF72-4F0E-910E-6A4F49C4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D09-ED1A-426B-A122-9807973D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382-8DCC-46CE-BCFC-3EE4F140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7411-3B0E-464E-B67E-FACC2678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EC14-4AF8-464A-8452-8000A3A5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717E-9FBA-4381-912E-DD8C04D2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BACA-F8EC-44F6-A8D6-23174FEB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9D61-FDDD-4DE0-9494-969298EA5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712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59a1"/>
                </a:solidFill>
                <a:latin typeface="Calibri"/>
              </a:rPr>
              <a:t>Acceleration and Decele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170000"/>
            <a:ext cx="6400800" cy="4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ef59a1"/>
                </a:solidFill>
                <a:latin typeface="Calibri"/>
              </a:rPr>
              <a:t>Section 7.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19280" y="342720"/>
            <a:ext cx="7067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f59a1"/>
                </a:solidFill>
                <a:latin typeface="Calibri"/>
              </a:rPr>
              <a:t>Accel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79040" y="1338120"/>
            <a:ext cx="70693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Acceleration is the rate of change of the rate of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In other words, acceleration = f’’(x) = second derivative of the fun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*If f’’(x) is negative, the object is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decelerating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342720"/>
            <a:ext cx="7067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f59a1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79400" y="1338120"/>
            <a:ext cx="73123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Find the instantaneous vertical acceleration at time t of a projectile whose height at time t is given b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h(t) = 4 + 55t - 16 t</a:t>
            </a:r>
            <a:r>
              <a:rPr b="1" lang="en-US" sz="3000" spc="-1" strike="noStrike" baseline="30000">
                <a:solidFill>
                  <a:srgbClr val="ef59a1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 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h’(t) = 55 – 32t feet per sec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h’’(t) = -32 feet per second per sec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7067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f59a1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95280" y="590400"/>
            <a:ext cx="7848720" cy="45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9a1"/>
                </a:solidFill>
                <a:latin typeface="Calibri"/>
              </a:rPr>
              <a:t>A ball is dropped from the Leaning Tower of Pisa, 56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9a1"/>
                </a:solidFill>
                <a:latin typeface="Calibri"/>
              </a:rPr>
              <a:t>above the ground. The height (in meters) of the ball ab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9a1"/>
                </a:solidFill>
                <a:latin typeface="Calibri"/>
              </a:rPr>
              <a:t>the ground at time </a:t>
            </a:r>
            <a:r>
              <a:rPr b="1" i="1" lang="en-US" sz="2400" spc="-1" strike="noStrike">
                <a:solidFill>
                  <a:srgbClr val="ef59a1"/>
                </a:solidFill>
                <a:latin typeface="Calibri"/>
              </a:rPr>
              <a:t>t seconds is given by h(t) = –4.9t</a:t>
            </a:r>
            <a:r>
              <a:rPr b="1" i="1" lang="en-US" sz="2400" spc="-1" strike="noStrike" baseline="30000">
                <a:solidFill>
                  <a:srgbClr val="ef59a1"/>
                </a:solidFill>
                <a:latin typeface="Calibri"/>
              </a:rPr>
              <a:t>2</a:t>
            </a:r>
            <a:r>
              <a:rPr b="1" i="1" lang="en-US" sz="2400" spc="-1" strike="noStrike">
                <a:solidFill>
                  <a:srgbClr val="ef59a1"/>
                </a:solidFill>
                <a:latin typeface="Calibri"/>
              </a:rPr>
              <a:t> + 5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9a1"/>
                </a:solidFill>
                <a:latin typeface="Calibri"/>
              </a:rPr>
              <a:t>a</a:t>
            </a: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. What is the instantaneous velocity of the ball at time </a:t>
            </a:r>
            <a:r>
              <a:rPr b="1" i="1" lang="en-US" sz="2000" spc="-1" strike="noStrike">
                <a:solidFill>
                  <a:srgbClr val="ef59a1"/>
                </a:solidFill>
                <a:latin typeface="Calibri"/>
              </a:rPr>
              <a:t>t = 3 sec.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b. What is the acceleration of the ball at time </a:t>
            </a:r>
            <a:r>
              <a:rPr b="1" i="1" lang="en-US" sz="2000" spc="-1" strike="noStrike">
                <a:solidFill>
                  <a:srgbClr val="ef59a1"/>
                </a:solidFill>
                <a:latin typeface="Calibri"/>
              </a:rPr>
              <a:t>t = 3 second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c. At what time </a:t>
            </a:r>
            <a:r>
              <a:rPr b="1" i="1" lang="en-US" sz="2000" spc="-1" strike="noStrike">
                <a:solidFill>
                  <a:srgbClr val="ef59a1"/>
                </a:solidFill>
                <a:latin typeface="Calibri"/>
              </a:rPr>
              <a:t>t does the ball hit the </a:t>
            </a: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groun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d. What is the instantaneous velocity of the ball at the moment it hits the groun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987920" y="234324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t) = -9.8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3742920" y="234324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3) = -9.8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880960" y="234324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3) = -29.4 m/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1832040" y="302904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’(t) = -9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3739680" y="310500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’(3) = -9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420880" y="3105000"/>
            <a:ext cx="25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’(3) = -9.8 m/sec /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1461240" y="37908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= -4.9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3060360" y="379080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6= -4.9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4431960" y="379080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6= -4.9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5870880" y="379080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43= 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7320960" y="37908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3.38 s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3202560" y="4552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3060720" y="4476600"/>
            <a:ext cx="22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3.38) = -9.8(3.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5348160" y="455292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3.38) = -33.13 m/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ages 442 – 44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4 – 6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8 – 9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1:56:37Z</dcterms:created>
  <dc:creator>Laura Helbing</dc:creator>
  <dc:description/>
  <dc:language>en-US</dc:language>
  <cp:lastModifiedBy>Laura Helbing</cp:lastModifiedBy>
  <dcterms:modified xsi:type="dcterms:W3CDTF">2011-01-27T02:31:21Z</dcterms:modified>
  <cp:revision>4</cp:revision>
  <dc:subject/>
  <dc:title>Acceleration and Deceleration</dc:title>
</cp:coreProperties>
</file>