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87A7-F5C7-44A4-8487-AC4C1411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3342-9129-4ED5-AFA3-07253A04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CD52-7D7B-4950-9312-D708B5415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E9DC-95D9-4606-83D8-E0913C29F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E129-EBA2-48C5-88E2-ABB2E64D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7E70-EBDA-4B1E-B064-EB0E35D7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8EB0-02D0-4F85-B827-347784F8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F0DE-4E1F-4F01-AFF0-1F81BE5C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B560-FFA7-4B59-85D1-A6A5FE88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45FF-9C36-4A19-92D2-E4001324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D6C3-B4C8-4535-92C0-3C13ABDC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9BCA-2E3C-4830-86AE-A93527C8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C5A8-E7E8-406E-8D73-E74B1A73BE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712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59a1"/>
                </a:solidFill>
                <a:latin typeface="Calibri"/>
              </a:rPr>
              <a:t>Acceleration and Deceler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170000"/>
            <a:ext cx="6400800" cy="4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ef59a1"/>
                </a:solidFill>
                <a:latin typeface="Calibri"/>
              </a:rPr>
              <a:t>Section 7.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19280" y="342720"/>
            <a:ext cx="70675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f59a1"/>
                </a:solidFill>
                <a:latin typeface="Calibri"/>
              </a:rPr>
              <a:t>Accel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679040" y="1338120"/>
            <a:ext cx="70693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f59a1"/>
                </a:solidFill>
                <a:latin typeface="Calibri"/>
              </a:rPr>
              <a:t>Acceleration is the rate of change of the rate of chan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f59a1"/>
                </a:solidFill>
                <a:latin typeface="Calibri"/>
              </a:rPr>
              <a:t>In other words, acceleration = f’’(x) = second derivative of the fun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f59a1"/>
                </a:solidFill>
                <a:latin typeface="Calibri"/>
              </a:rPr>
              <a:t>*If f’’(x) is negative, the object is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ef59a1"/>
                </a:solidFill>
                <a:latin typeface="Calibri"/>
              </a:rPr>
              <a:t>decelerating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19280" y="342720"/>
            <a:ext cx="70675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f59a1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679400" y="1338120"/>
            <a:ext cx="73123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Find the instantaneous vertical acceleration at time t of a projectile whose height at time t is given b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h(t) = 4 + 55t - 16 t</a:t>
            </a:r>
            <a:r>
              <a:rPr b="1" lang="en-US" sz="3000" spc="-1" strike="noStrike" baseline="30000">
                <a:solidFill>
                  <a:srgbClr val="ef59a1"/>
                </a:solidFill>
                <a:latin typeface="Calibri"/>
              </a:rPr>
              <a:t>2</a:t>
            </a: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 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h’(t) = 55 – 32t feet per seco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h’’(t) = -32 feet per second per seco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-360"/>
            <a:ext cx="70675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f59a1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95280" y="590400"/>
            <a:ext cx="7848720" cy="45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59a1"/>
                </a:solidFill>
                <a:latin typeface="Calibri"/>
              </a:rPr>
              <a:t>A ball is dropped from the Leaning Tower of Pisa, 56 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59a1"/>
                </a:solidFill>
                <a:latin typeface="Calibri"/>
              </a:rPr>
              <a:t>above the ground. The height (in meters) of the ball abo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59a1"/>
                </a:solidFill>
                <a:latin typeface="Calibri"/>
              </a:rPr>
              <a:t>the ground at time </a:t>
            </a:r>
            <a:r>
              <a:rPr b="1" i="1" lang="en-US" sz="2400" spc="-1" strike="noStrike">
                <a:solidFill>
                  <a:srgbClr val="ef59a1"/>
                </a:solidFill>
                <a:latin typeface="Calibri"/>
              </a:rPr>
              <a:t>t seconds is given by h(t) = –4.9t</a:t>
            </a:r>
            <a:r>
              <a:rPr b="1" i="1" lang="en-US" sz="2400" spc="-1" strike="noStrike" baseline="30000">
                <a:solidFill>
                  <a:srgbClr val="ef59a1"/>
                </a:solidFill>
                <a:latin typeface="Calibri"/>
              </a:rPr>
              <a:t>2</a:t>
            </a:r>
            <a:r>
              <a:rPr b="1" i="1" lang="en-US" sz="2400" spc="-1" strike="noStrike">
                <a:solidFill>
                  <a:srgbClr val="ef59a1"/>
                </a:solidFill>
                <a:latin typeface="Calibri"/>
              </a:rPr>
              <a:t> + 56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59a1"/>
                </a:solidFill>
                <a:latin typeface="Calibri"/>
              </a:rPr>
              <a:t>a</a:t>
            </a:r>
            <a:r>
              <a:rPr b="1" lang="en-US" sz="2000" spc="-1" strike="noStrike">
                <a:solidFill>
                  <a:srgbClr val="ef59a1"/>
                </a:solidFill>
                <a:latin typeface="Calibri"/>
              </a:rPr>
              <a:t>. What is the instantaneous velocity of the ball at time </a:t>
            </a:r>
            <a:r>
              <a:rPr b="1" i="1" lang="en-US" sz="2000" spc="-1" strike="noStrike">
                <a:solidFill>
                  <a:srgbClr val="ef59a1"/>
                </a:solidFill>
                <a:latin typeface="Calibri"/>
              </a:rPr>
              <a:t>t = 3 sec.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59a1"/>
                </a:solidFill>
                <a:latin typeface="Calibri"/>
              </a:rPr>
              <a:t>b. What is the acceleration of the ball at time </a:t>
            </a:r>
            <a:r>
              <a:rPr b="1" i="1" lang="en-US" sz="2000" spc="-1" strike="noStrike">
                <a:solidFill>
                  <a:srgbClr val="ef59a1"/>
                </a:solidFill>
                <a:latin typeface="Calibri"/>
              </a:rPr>
              <a:t>t = 3 second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59a1"/>
                </a:solidFill>
                <a:latin typeface="Calibri"/>
              </a:rPr>
              <a:t>c. At what time </a:t>
            </a:r>
            <a:r>
              <a:rPr b="1" i="1" lang="en-US" sz="2000" spc="-1" strike="noStrike">
                <a:solidFill>
                  <a:srgbClr val="ef59a1"/>
                </a:solidFill>
                <a:latin typeface="Calibri"/>
              </a:rPr>
              <a:t>t does the ball hit the </a:t>
            </a:r>
            <a:r>
              <a:rPr b="1" lang="en-US" sz="2000" spc="-1" strike="noStrike">
                <a:solidFill>
                  <a:srgbClr val="ef59a1"/>
                </a:solidFill>
                <a:latin typeface="Calibri"/>
              </a:rPr>
              <a:t>groun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59a1"/>
                </a:solidFill>
                <a:latin typeface="Calibri"/>
              </a:rPr>
              <a:t>d. What is the instantaneous velocity of the ball at the moment it hits the groun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987920" y="234324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’(t) = -9.8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3742920" y="2343240"/>
            <a:ext cx="15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’(3) = -9.8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5880960" y="234324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’(3) = -29.4 m/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1832040" y="3029040"/>
            <a:ext cx="12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’’(t) = -9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3739680" y="3105000"/>
            <a:ext cx="13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’’(3) = -9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5420880" y="3105000"/>
            <a:ext cx="25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’’(3) = -9.8 m/sec / 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1461240" y="379080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= -4.9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3060360" y="379080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6= -4.9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4431960" y="379080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6= -4.9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5870880" y="379080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43= 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4"/>
          <p:cNvSpPr/>
          <p:nvPr/>
        </p:nvSpPr>
        <p:spPr>
          <a:xfrm>
            <a:off x="7320960" y="379080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= 3.38 se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3202560" y="4552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6"/>
          <p:cNvSpPr/>
          <p:nvPr/>
        </p:nvSpPr>
        <p:spPr>
          <a:xfrm>
            <a:off x="3060720" y="4476600"/>
            <a:ext cx="22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’(3.38) = -9.8(3.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7"/>
          <p:cNvSpPr/>
          <p:nvPr/>
        </p:nvSpPr>
        <p:spPr>
          <a:xfrm>
            <a:off x="5348160" y="455292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’(3.38) = -33.13 m/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Pages 442 – 44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4 – 6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8 – 9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1:56:37Z</dcterms:created>
  <dc:creator>Laura Helbing</dc:creator>
  <dc:description/>
  <dc:language>en-US</dc:language>
  <cp:lastModifiedBy>Laura Helbing</cp:lastModifiedBy>
  <dcterms:modified xsi:type="dcterms:W3CDTF">2011-01-27T02:31:21Z</dcterms:modified>
  <cp:revision>4</cp:revision>
  <dc:subject/>
  <dc:title>Acceleration and Deceleration</dc:title>
</cp:coreProperties>
</file>