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852-B964-4A76-96EF-EC1AFDB0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524-819D-4784-A3C9-4C018D8C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E45-5C6A-426A-B2D8-183E6559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DBE-60E9-4196-9639-DAD5F4FF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B1B9-9EDB-4D2A-A531-09EADE88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7CDC-CBF3-4C53-9364-057DF798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EF36-E47C-4717-B533-C864E739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602C-C1F5-406A-819E-E9E37F68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B419-ADB6-44A6-A146-A9C17557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0EBB-F46C-453E-A035-661A0F5B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DF18-CF0B-4983-8C31-01DE5C16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8E6-6792-4358-9D36-A156E0D3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E721-183D-44ED-BAC7-DD2062B0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6D3F-6FF8-4CAB-B587-5E7DA8BA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D04E-FF65-4E91-B1F6-F5BB495B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F73A-1FA5-4599-A50F-BA05EFCE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588B-71EF-4148-8463-5748C0E6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1FBC9-DA2C-424A-8FD6-5B5C9FA8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2373-91A1-4503-9031-D734A64C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9D0B-2F43-4A19-8079-74225219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0E2C-EDAC-4C73-B984-F7734366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03E0-9399-486B-AB8A-3A48ED3C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9FE-A2AA-4E97-B00F-7618F3E5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F171-15C0-4479-B32B-E496D33F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C1EF-4EB9-4310-8DE7-334EE9FF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DAFA-0B5E-4700-A5DD-C9DD345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6408-4724-46DB-A12E-7381D9E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2DA5-4316-4367-8510-E92C6BE9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DB78-6868-4677-9D02-BC533CB4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B5C4-0B05-44F0-888B-0C25E428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30B0-E4E3-4670-9522-E60C0F22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AD79D-3897-4D08-BE56-62D90277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76F6-CB85-45C5-B108-7594DE05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3B7-5A0C-435D-B0EE-3C2C162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0B4A-3F6C-40B0-A1D7-AC32837F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EA8E-C393-42EB-91D7-48FDD3F9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D08C-060C-4674-A8D9-591C76FE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0D831-DF98-466F-B951-CFC29910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4936-632D-4F4D-9ACA-EE94B954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D779-62D2-4BB4-9E0D-B3F7CF11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F9AE-C7D3-4677-B9EC-6D829FA7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5B87E-8664-41C3-B371-3F5D68E4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5DE1-FE72-43D6-AEE4-D149C264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3974-028B-494A-92D8-5EC7D15E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48D-543B-4398-9438-9B3B592F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904B-5789-4EBC-BEB4-C05E1185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EBF5A-2CCC-4F86-BBD4-4E966775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759F8-4771-4595-AD26-D817C66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2C31-5AB4-4B5C-9C5A-F2250EC4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8569-C0DD-4B18-A026-862D75B9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D5E18-887B-4DF3-93C8-696FF10C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6A0D0-79B7-49A7-98E0-93A2CEB7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F79C-290B-4F64-A021-095DA6DA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7B8E-45BB-4B55-B59F-2CDC5477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4E247-1A6B-40C3-B6EB-F26847C3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B45-823C-40DB-ABF8-0A977310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12395-57A9-4CB8-819F-ABB837EA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657-50B3-400E-AACA-E09A8DB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447-ACF7-4FD7-B3BC-94C946B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5F1-18E3-45A8-8925-3436938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D4EB-B4FE-4FBA-AA36-4FF635ACB6B9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5783-6842-46CF-9C14-B42D21247C9E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C2B3-FDCB-4E1C-B874-1984E31E7823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F516-1DA7-45FF-ADDB-9F13A917EED6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7C8-59FA-42B2-BDE3-A4DEC8875CE6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5e"/>
                </a:solidFill>
                <a:latin typeface="Verdana"/>
              </a:rPr>
              <a:t>A Review of Basic Function Ideas</a:t>
            </a:r>
            <a:endParaRPr b="1" lang="en-US" sz="45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89"/>
                </a:solidFill>
                <a:latin typeface="Verdana"/>
              </a:rPr>
              <a:t>Lesson 2.1</a:t>
            </a:r>
            <a:endParaRPr b="0" lang="en-US" sz="2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Definitions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o x’s repeat (it is okay if the y’s repeat).  On a graph, you can use the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ertical line test 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– each vertical line can only touch one point on the line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x’s 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y’s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countable set (days of week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Non-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umbers between 1 and 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83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1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volume V of a sphere is a function of its radius r.  Suppose V = g(r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a. Find a formula that defines g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g = 4/3 ∏ r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b. use the formula to estimate the volume of Earth, if it has a radius of 6380 km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4/3 * ∏ 6380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1,088,000,000,000 km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Interval Notation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3520" y="1447920"/>
          <a:ext cx="8153280" cy="441936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Graph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 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Set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a,b]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≤ x 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a,b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 &lt; x &lt;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b, ∞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-∞, a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&lt; a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cxnSp>
        <p:nvCxnSpPr>
          <p:cNvPr id="228" name="Straight Arrow Connector 5"/>
          <p:cNvCxnSpPr/>
          <p:nvPr/>
        </p:nvCxnSpPr>
        <p:spPr>
          <a:xfrm>
            <a:off x="2666520" y="2514600"/>
            <a:ext cx="175356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TextBox 8"/>
          <p:cNvSpPr/>
          <p:nvPr/>
        </p:nvSpPr>
        <p:spPr>
          <a:xfrm>
            <a:off x="2826000" y="2514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389016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 flipV="1">
            <a:off x="2980440" y="2513160"/>
            <a:ext cx="1070280" cy="288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895480" y="24382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3962520" y="2438280"/>
            <a:ext cx="15228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34" name="Straight Arrow Connector 14"/>
          <p:cNvCxnSpPr/>
          <p:nvPr/>
        </p:nvCxnSpPr>
        <p:spPr>
          <a:xfrm>
            <a:off x="2657520" y="327816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2816280" y="3278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880440" y="3278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7" name="Straight Connector 17"/>
          <p:cNvSpPr/>
          <p:nvPr/>
        </p:nvSpPr>
        <p:spPr>
          <a:xfrm flipV="1">
            <a:off x="2971800" y="3276720"/>
            <a:ext cx="1069920" cy="144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2886120" y="3201840"/>
            <a:ext cx="15228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3952800" y="3201840"/>
            <a:ext cx="15264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0" name="Straight Arrow Connector 20"/>
          <p:cNvCxnSpPr/>
          <p:nvPr/>
        </p:nvCxnSpPr>
        <p:spPr>
          <a:xfrm>
            <a:off x="2657520" y="4115880"/>
            <a:ext cx="1753200" cy="252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1" name="TextBox 22"/>
          <p:cNvSpPr/>
          <p:nvPr/>
        </p:nvSpPr>
        <p:spPr>
          <a:xfrm flipH="1">
            <a:off x="304812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3124080" y="40384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>
            <a:off x="2733840" y="518328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588120" y="5334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3657600" y="5105520"/>
            <a:ext cx="152280" cy="152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6" name="Straight Arrow Connector 34"/>
          <p:cNvCxnSpPr>
            <a:stCxn id="242" idx="6"/>
          </p:cNvCxnSpPr>
          <p:nvPr/>
        </p:nvCxnSpPr>
        <p:spPr>
          <a:xfrm>
            <a:off x="3276360" y="4114800"/>
            <a:ext cx="1067400" cy="216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  <p:cxnSp>
        <p:nvCxnSpPr>
          <p:cNvPr id="247" name="Straight Arrow Connector 35"/>
          <p:cNvCxnSpPr/>
          <p:nvPr/>
        </p:nvCxnSpPr>
        <p:spPr>
          <a:xfrm flipH="1" flipV="1">
            <a:off x="2742840" y="5180760"/>
            <a:ext cx="915120" cy="252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Vertical Line Tes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*If you draw a vertical line through the graph of a function, it will intersect the graph at no more than one point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819600" cy="316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3505320" cy="348480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11"/>
          <p:cNvCxnSpPr/>
          <p:nvPr/>
        </p:nvCxnSpPr>
        <p:spPr>
          <a:xfrm flipH="1">
            <a:off x="5714640" y="3200040"/>
            <a:ext cx="21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3" name="Straight Arrow Connector 13"/>
          <p:cNvCxnSpPr/>
          <p:nvPr/>
        </p:nvCxnSpPr>
        <p:spPr>
          <a:xfrm flipH="1">
            <a:off x="3350520" y="3277800"/>
            <a:ext cx="39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2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Use interval notation to describe the domain of the real function t with rule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Bottom: (2x - 3)(2x - 3) so x ≠ 3/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Domain: (-∞, 3/2) U (3/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286080" cy="8193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62" name="Cloud Callout 11"/>
          <p:cNvSpPr/>
          <p:nvPr/>
        </p:nvSpPr>
        <p:spPr>
          <a:xfrm>
            <a:off x="4038480" y="3733920"/>
            <a:ext cx="182880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Verdana"/>
              </a:rPr>
              <a:t>Union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3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escribe the set in interval notation: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set of points on the number line that are at least 3 units away from the point -1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(-∞, -4] U [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Homework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Any other notes on 2.1, 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2 - 21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40:56Z</dcterms:created>
  <dc:creator>teacher</dc:creator>
  <dc:description/>
  <dc:language>en-US</dc:language>
  <cp:lastModifiedBy>Laura Helbing</cp:lastModifiedBy>
  <dcterms:modified xsi:type="dcterms:W3CDTF">2012-09-14T17:47:52Z</dcterms:modified>
  <cp:revision>6</cp:revision>
  <dc:subject/>
  <dc:title>A Review of Basic Function Ideas</dc:title>
</cp:coreProperties>
</file>