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735-6878-43D8-9B58-0F382D6B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B7F-036B-44C8-90DF-25E5E03D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DF7-65ED-42BC-8DAC-1BB24521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F0C-9D25-4438-A811-35278D01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6D3D-269B-4207-AEEC-2AC60B97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2147-3B8C-4BE6-916F-27B42EC5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2B25-8DE2-4A7B-9B09-3818F9E8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F2FA-2E89-4925-BA7B-515CAAA1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C007-5075-41C2-9061-B7794133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7846-9889-4677-8E1D-443BE5B3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07C1-3D69-47F9-A285-AFAB7E68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42E-7E9E-4C5E-B0A0-F7863621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12BB-0E2D-4E74-84D4-6B1845F4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0473-7782-4DEC-B529-814721F1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EE9E-B552-4856-ABAB-1AA61102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6697-B0D0-465A-AB60-CA6072C5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3CED-58F7-42C0-A5ED-176F5A8D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13AEE-BCEE-4C1A-8FE1-CAED0947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0E69-39D4-4C7D-95C0-5BA7C784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3F46-8427-41BE-8C6C-7612603B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A40E-BFCF-4832-95BB-643E5B33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7519-0D16-4B5D-93C7-2BA3FC5B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F64-176B-4DF6-9A44-0A2C9502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7227E-D6D2-4E52-80DE-0DD63BFE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0E1F-1F82-4EB2-88C7-A90CC551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7A18-96D2-40E7-80F4-5E858924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94602-D4B1-4213-9073-1A41B6E0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5E11-2BA1-42B6-B6BB-D0BD83D5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A3DA7-A2C6-4EF7-A7EF-882E05BF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0759-0EB0-4A74-B73C-494F1E4A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1649-D293-42B4-800F-575C121A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D31F0-CDA3-4532-B884-01B564AF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C60C-6792-4BBA-B9FF-EDD0E6E3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ABB-03BA-4995-935C-DF1E345D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FAD2-4B52-4640-8C80-41D91A49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E394-AC95-4E9A-9F35-399A01D2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FE147-14D7-41ED-B3A1-D1F0A332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758EA-DC26-4673-A8ED-0B256491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4466B-33F2-4AB0-8545-E5B51520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86557-2E7F-49A5-97D2-4681CB3F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45577-653C-409B-B1D3-27F59E64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3239-D6E5-4C33-B70D-A5649B6C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ADE5-35EB-4F2C-8633-A8D2443B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1C5A-1032-4713-A275-47EE1B75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8FB-DA6B-4709-9A90-E4C22D7C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EE66-0699-46B1-842A-6785905A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21163-CE5D-4903-A091-B6AD5DE5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17611-86B9-4535-AD79-2B224D8D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9CD3B-3B5A-4A52-A5CE-8D16A730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F1A2D-93EC-4188-94E4-028BD64E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081A-A205-45D0-BCF2-9CD4DBC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C5B12-0805-40E4-8B3C-603ACBCC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B0AA-48DD-4FDC-86EC-3A671E7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C9C07-FB04-4FB8-8842-C5AB2E07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60CE8-DA03-4CF7-8CCA-FDFB6BB6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85B-B3B9-43CA-917C-E4E3ECC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8EE18-BBCB-475B-8818-0C21BF57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6DD-69C6-49FA-87D9-DE223068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4E0-ACD4-4D29-AB12-D86005D4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D1E-5638-4098-82E0-60601ADB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408F-81AA-4C80-A9E2-E4879E0D92D3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4081-8823-43DC-9134-7075DA9BB82A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66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DBB3-8532-44F2-B057-CBE00DCD4C1C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46B2-8435-487F-8AE1-58C4B14CB31F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bef5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3f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cc66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5bcbc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5bcbc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E428-E39E-4E81-ABC5-9C7BD40445D3}" type="slidenum">
              <a:rPr b="0" lang="en-US" sz="1000" spc="-1" strike="noStrike">
                <a:solidFill>
                  <a:srgbClr val="95bcbc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5e"/>
                </a:solidFill>
                <a:latin typeface="Verdana"/>
              </a:rPr>
              <a:t>A Review of Basic Function Ideas</a:t>
            </a:r>
            <a:endParaRPr b="1" lang="en-US" sz="45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8989"/>
                </a:solidFill>
                <a:latin typeface="Verdana"/>
              </a:rPr>
              <a:t>Lesson 2.1</a:t>
            </a:r>
            <a:endParaRPr b="0" lang="en-US" sz="2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Definitions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Functio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o x’s repeat (it is okay if the y’s repeat).  On a graph, you can use the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ertical line test 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– each vertical line can only touch one point on the line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omain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x’s  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Range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y’s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countable set (days of week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Non-discrete set</a:t>
            </a:r>
            <a:r>
              <a:rPr b="0" lang="en-US" sz="2800" spc="-1" strike="noStrike">
                <a:solidFill>
                  <a:srgbClr val="9effff"/>
                </a:solidFill>
                <a:latin typeface="Verdana"/>
              </a:rPr>
              <a:t>: Numbers between 1 and 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83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1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volume V of a sphere is a function of its radius r.  Suppose V = g(r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a. Find a formula that defines g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g = 4/3 ∏ r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b. use the formula to estimate the volume of Earth, if it has a radius of 6380 km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4/3 * ∏ 6380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V = 1,088,000,000,000 km</a:t>
            </a:r>
            <a:r>
              <a:rPr b="1" lang="en-US" sz="2800" spc="-1" strike="noStrike" baseline="30000">
                <a:solidFill>
                  <a:srgbClr val="59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Interval Notation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533520" y="1447920"/>
          <a:ext cx="8153280" cy="441936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Graph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Interval 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Set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Verdana"/>
                        </a:rPr>
                        <a:t>Notatio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a,b]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≤ x 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a,b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a &lt; x &lt;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Closed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[b, ∞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≤ b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Open infinite interval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(-∞, a)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Verdana"/>
                        </a:rPr>
                        <a:t>{x: x&lt; a}</a:t>
                      </a:r>
                      <a:endParaRPr b="0" lang="en-US" sz="1800" spc="-1" strike="noStrike">
                        <a:solidFill>
                          <a:srgbClr val="cc66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</a:tbl>
          </a:graphicData>
        </a:graphic>
      </p:graphicFrame>
      <p:cxnSp>
        <p:nvCxnSpPr>
          <p:cNvPr id="228" name="Straight Arrow Connector 5"/>
          <p:cNvCxnSpPr/>
          <p:nvPr/>
        </p:nvCxnSpPr>
        <p:spPr>
          <a:xfrm>
            <a:off x="2666520" y="2514600"/>
            <a:ext cx="175356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29" name="TextBox 8"/>
          <p:cNvSpPr/>
          <p:nvPr/>
        </p:nvSpPr>
        <p:spPr>
          <a:xfrm>
            <a:off x="2826000" y="2514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389016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 flipV="1">
            <a:off x="2980440" y="2513160"/>
            <a:ext cx="1070280" cy="288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895480" y="24382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3962520" y="2438280"/>
            <a:ext cx="15228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34" name="Straight Arrow Connector 14"/>
          <p:cNvCxnSpPr/>
          <p:nvPr/>
        </p:nvCxnSpPr>
        <p:spPr>
          <a:xfrm>
            <a:off x="2657520" y="327816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2816280" y="3278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3880440" y="3278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7" name="Straight Connector 17"/>
          <p:cNvSpPr/>
          <p:nvPr/>
        </p:nvSpPr>
        <p:spPr>
          <a:xfrm flipV="1">
            <a:off x="2971800" y="3276720"/>
            <a:ext cx="1069920" cy="1440"/>
          </a:xfrm>
          <a:prstGeom prst="line">
            <a:avLst/>
          </a:prstGeom>
          <a:ln w="381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8" name="Oval 18"/>
          <p:cNvSpPr/>
          <p:nvPr/>
        </p:nvSpPr>
        <p:spPr>
          <a:xfrm>
            <a:off x="2886120" y="3201840"/>
            <a:ext cx="15228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3952800" y="3201840"/>
            <a:ext cx="152640" cy="1526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0" name="Straight Arrow Connector 20"/>
          <p:cNvCxnSpPr/>
          <p:nvPr/>
        </p:nvCxnSpPr>
        <p:spPr>
          <a:xfrm>
            <a:off x="2657520" y="4115880"/>
            <a:ext cx="1753200" cy="252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1" name="TextBox 22"/>
          <p:cNvSpPr/>
          <p:nvPr/>
        </p:nvSpPr>
        <p:spPr>
          <a:xfrm flipH="1">
            <a:off x="304812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3124080" y="4038480"/>
            <a:ext cx="152640" cy="152640"/>
          </a:xfrm>
          <a:prstGeom prst="ellipse">
            <a:avLst/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>
            <a:off x="2733840" y="5183280"/>
            <a:ext cx="1753200" cy="2160"/>
          </a:xfrm>
          <a:prstGeom prst="straightConnector1">
            <a:avLst/>
          </a:prstGeom>
          <a:ln w="38160">
            <a:solidFill>
              <a:srgbClr val="0073bf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588120" y="53341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ff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45" name="Oval 30"/>
          <p:cNvSpPr/>
          <p:nvPr/>
        </p:nvSpPr>
        <p:spPr>
          <a:xfrm>
            <a:off x="3657600" y="5105520"/>
            <a:ext cx="152280" cy="15228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cxnSp>
        <p:nvCxnSpPr>
          <p:cNvPr id="246" name="Straight Arrow Connector 34"/>
          <p:cNvCxnSpPr>
            <a:stCxn id="242" idx="6"/>
          </p:cNvCxnSpPr>
          <p:nvPr/>
        </p:nvCxnSpPr>
        <p:spPr>
          <a:xfrm>
            <a:off x="3276360" y="4114800"/>
            <a:ext cx="1067400" cy="216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  <p:cxnSp>
        <p:nvCxnSpPr>
          <p:cNvPr id="247" name="Straight Arrow Connector 35"/>
          <p:cNvCxnSpPr/>
          <p:nvPr/>
        </p:nvCxnSpPr>
        <p:spPr>
          <a:xfrm flipH="1" flipV="1">
            <a:off x="2742840" y="5180760"/>
            <a:ext cx="915120" cy="2520"/>
          </a:xfrm>
          <a:prstGeom prst="straightConnector1">
            <a:avLst/>
          </a:prstGeom>
          <a:ln w="38160">
            <a:solidFill>
              <a:srgbClr val="99ff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Vertical Line Test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*If you draw a vertical line through the graph of a function, it will intersect the graph at no more than one point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819600" cy="3162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3505320" cy="3484800"/>
          </a:xfrm>
          <a:prstGeom prst="rect">
            <a:avLst/>
          </a:prstGeom>
          <a:ln w="0">
            <a:noFill/>
          </a:ln>
        </p:spPr>
      </p:pic>
      <p:cxnSp>
        <p:nvCxnSpPr>
          <p:cNvPr id="252" name="Straight Arrow Connector 11"/>
          <p:cNvCxnSpPr/>
          <p:nvPr/>
        </p:nvCxnSpPr>
        <p:spPr>
          <a:xfrm flipH="1">
            <a:off x="5714640" y="3200040"/>
            <a:ext cx="21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  <p:cxnSp>
        <p:nvCxnSpPr>
          <p:cNvPr id="253" name="Straight Arrow Connector 13"/>
          <p:cNvCxnSpPr/>
          <p:nvPr/>
        </p:nvCxnSpPr>
        <p:spPr>
          <a:xfrm flipH="1">
            <a:off x="3350520" y="3277800"/>
            <a:ext cx="3960" cy="3353400"/>
          </a:xfrm>
          <a:prstGeom prst="straightConnector1">
            <a:avLst/>
          </a:prstGeom>
          <a:ln w="57240">
            <a:solidFill>
              <a:srgbClr val="ffff30"/>
            </a:solidFill>
            <a:prstDash val="lgDash"/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2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1828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Use interval notation to describe the domain of the real function t with rule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Bottom: (2x - 3)(2x - 3) so x ≠ 3/2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ffff"/>
                </a:solidFill>
                <a:latin typeface="Verdana"/>
              </a:rPr>
              <a:t>Domain: (-∞, 3/2) U (3/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3286080" cy="8193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0" y="1276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  <p:sp>
        <p:nvSpPr>
          <p:cNvPr id="262" name="Cloud Callout 11"/>
          <p:cNvSpPr/>
          <p:nvPr/>
        </p:nvSpPr>
        <p:spPr>
          <a:xfrm>
            <a:off x="4038480" y="3733920"/>
            <a:ext cx="1828800" cy="1222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bef59"/>
          </a:solidFill>
          <a:ln w="42480">
            <a:solidFill>
              <a:srgbClr val="b9b0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Verdana"/>
              </a:rPr>
              <a:t>Union</a:t>
            </a:r>
            <a:endParaRPr b="0" lang="en-US" sz="1800" spc="-1" strike="noStrike">
              <a:solidFill>
                <a:srgbClr val="cc66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Example 3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bef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Describe the set in interval notation: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The set of points on the number line that are at least 3 units away from the point -1.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59ffff"/>
                </a:solidFill>
                <a:latin typeface="Verdana"/>
              </a:rPr>
              <a:t>(-∞, -4] U [2, ∞)</a:t>
            </a: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5e"/>
                </a:solidFill>
                <a:latin typeface="Verdana"/>
              </a:rPr>
              <a:t>Homework</a:t>
            </a:r>
            <a:endParaRPr b="1" lang="en-US" sz="3600" spc="-1" strike="noStrike">
              <a:solidFill>
                <a:srgbClr val="ffff5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52388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Any other notes on 2.1, 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9ffff"/>
                </a:solidFill>
                <a:latin typeface="Verdana"/>
              </a:rPr>
              <a:t>2 - 21</a:t>
            </a: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cc6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40:56Z</dcterms:created>
  <dc:creator>teacher</dc:creator>
  <dc:description/>
  <dc:language>en-US</dc:language>
  <cp:lastModifiedBy>Laura Helbing</cp:lastModifiedBy>
  <dcterms:modified xsi:type="dcterms:W3CDTF">2012-09-14T17:47:52Z</dcterms:modified>
  <cp:revision>6</cp:revision>
  <dc:subject/>
  <dc:title>A Review of Basic Function Ideas</dc:title>
</cp:coreProperties>
</file>