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228-D19D-445B-A478-E61DB12F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F06-917D-4814-AE64-7CBB596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779-5673-4252-B592-6EB4B16D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852-AB86-4669-BFA8-F819A8C4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FBC4-0EE5-4A24-8900-E760914D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5A63-C9EA-4425-994E-83DEF4E6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C0B6-A412-4704-8DD9-3BFFC76F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F3D8-73FE-40D8-BFF1-3158F557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50AE-70BB-44E3-A131-28883931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216F-C9EF-474F-9392-25DC79A3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4CF3-B5A6-46D6-9292-056603C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7B4-6BC0-4A47-B264-C869650A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5F0E-5FC0-4317-9907-EA4798F3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45AB-820B-497C-A05E-B4660FFA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88CD-9245-4829-B981-A2166D79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1B19-DB7E-4D23-A385-58C9F03B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4858-9D91-41F2-9FCD-F69FFD64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65CE-44A8-46CC-9352-637E5D0E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F1AC-FC93-439E-B104-0AC12669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1A958-BED0-41CD-8D27-B59F6B63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A4D73-5855-4572-A9FC-0FCAFBFF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52D3-DBEE-41EE-98EC-D6F0C52D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1A2-1C8F-4F17-BBE7-34938D1F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81B2-4B08-4C0B-9343-A864F5E9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AD53-E45E-438D-918A-81DA9162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F739-6C99-40D1-BE23-6D93C5F8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48FF-AF46-4C1A-A3F1-065218A4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482F-C6B7-409E-BF1B-7E2E1DF8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DDC8E-6AA8-4840-9D96-A5C485CA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9099-AF81-4F7E-BFFA-1CE27CAC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1C14E-B077-46BC-BDCA-DD6D21A5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3FCA-CE7F-4968-9CBB-B66259C3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1EBE5-BC03-4EB6-8DBC-5C6EBEF0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3E1-FFBE-4AA1-A982-675BD4C7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56FAF-CFBD-46F4-B1E2-25D3ED43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A2E9-8E88-4BC7-8AAE-3E840BC0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A81C-DB31-45F8-8E64-81D202E9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A8D17-A064-410C-9C78-BE2BB3C3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53C4-7900-48F9-B726-27CE0104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E90B-2488-4F64-AB92-A9F9956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9E34-E11E-477C-AF6C-C6DABE3E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BCA24-0D74-4283-8DF9-8058A13C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7202A-25B5-4EDF-980C-5345AFCC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B9E40-BD7A-462A-8F1A-0920A34D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64D-89F5-488D-B500-4AFD2C25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C1D20-8EE6-4B42-9D5C-7EF4B89D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CF0B-EFE1-4248-837B-867953AA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A18BF-8760-4151-9289-DF38CF39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A23A-C9CE-4EB4-B312-A47CDF17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C1D0A-9ED2-4AC2-A033-3D375E43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323D-E10C-4A0F-BE04-7F34E9D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B60A7-195E-44B4-937C-4923371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7177C-98C6-4B5A-BEF3-A0BFE0E6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B8843-4FAF-4F47-BA3D-7DB0CD9A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104E7-625D-4853-BFA4-F6866D2D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F73-51B9-4719-B28E-514F193B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F0AD3-F277-47AE-BE5D-29DF22A3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25B-DE29-4E59-A67C-49BC8FCB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270-AC34-4893-8274-B6D962F1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30A-407A-4872-853D-B55F7EC7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704C-5FAD-4CF3-AE49-015E450B5671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E83A-E8F7-4790-AA84-20840872B42E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0826-2926-4AE1-8D01-4C522953B16F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78E8-4689-47C9-BE5A-852D21561AFD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4101-F434-4759-84A6-5CA28A96DA56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5e"/>
                </a:solidFill>
                <a:latin typeface="Verdana"/>
              </a:rPr>
              <a:t>A Review of Basic Function Ideas</a:t>
            </a:r>
            <a:endParaRPr b="1" lang="en-US" sz="45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89"/>
                </a:solidFill>
                <a:latin typeface="Verdana"/>
              </a:rPr>
              <a:t>Lesson 2.1</a:t>
            </a:r>
            <a:endParaRPr b="0" lang="en-US" sz="2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Definitions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o x’s repeat (it is okay if the y’s repeat).  On a graph, you can use the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ertical line test 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– each vertical line can only touch one point on the line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omai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x’s 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y’s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countable set (days of week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Non-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umbers between 1 and 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83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1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volume V of a sphere is a function of its radius r.  Suppose V = g(r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a. Find a formula that defines g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g = 4/3 ∏ r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b. use the formula to estimate the volume of Earth, if it has a radius of 6380 km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4/3 * ∏ 6380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1,088,000,000,000 km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Interval Notation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3520" y="1447920"/>
          <a:ext cx="8153280" cy="441936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Graph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 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Set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a,b]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≤ x 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a,b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 &lt; x &lt;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b, ∞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-∞, a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&lt; a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</a:tbl>
          </a:graphicData>
        </a:graphic>
      </p:graphicFrame>
      <p:cxnSp>
        <p:nvCxnSpPr>
          <p:cNvPr id="228" name="Straight Arrow Connector 5"/>
          <p:cNvCxnSpPr/>
          <p:nvPr/>
        </p:nvCxnSpPr>
        <p:spPr>
          <a:xfrm>
            <a:off x="2666520" y="2514600"/>
            <a:ext cx="175356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29" name="TextBox 8"/>
          <p:cNvSpPr/>
          <p:nvPr/>
        </p:nvSpPr>
        <p:spPr>
          <a:xfrm>
            <a:off x="2826000" y="2514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389016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1" name="Straight Connector 11"/>
          <p:cNvSpPr/>
          <p:nvPr/>
        </p:nvSpPr>
        <p:spPr>
          <a:xfrm flipV="1">
            <a:off x="2980440" y="2513160"/>
            <a:ext cx="1070280" cy="288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2895480" y="24382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3962520" y="2438280"/>
            <a:ext cx="15228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34" name="Straight Arrow Connector 14"/>
          <p:cNvCxnSpPr/>
          <p:nvPr/>
        </p:nvCxnSpPr>
        <p:spPr>
          <a:xfrm>
            <a:off x="2657520" y="327816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2816280" y="3278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3880440" y="3278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7" name="Straight Connector 17"/>
          <p:cNvSpPr/>
          <p:nvPr/>
        </p:nvSpPr>
        <p:spPr>
          <a:xfrm flipV="1">
            <a:off x="2971800" y="3276720"/>
            <a:ext cx="1069920" cy="144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2886120" y="3201840"/>
            <a:ext cx="15228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3952800" y="3201840"/>
            <a:ext cx="15264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0" name="Straight Arrow Connector 20"/>
          <p:cNvCxnSpPr/>
          <p:nvPr/>
        </p:nvCxnSpPr>
        <p:spPr>
          <a:xfrm>
            <a:off x="2657520" y="4115880"/>
            <a:ext cx="1753200" cy="252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1" name="TextBox 22"/>
          <p:cNvSpPr/>
          <p:nvPr/>
        </p:nvSpPr>
        <p:spPr>
          <a:xfrm flipH="1">
            <a:off x="304812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2" name="Oval 25"/>
          <p:cNvSpPr/>
          <p:nvPr/>
        </p:nvSpPr>
        <p:spPr>
          <a:xfrm>
            <a:off x="3124080" y="40384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>
            <a:off x="2733840" y="518328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588120" y="5334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5" name="Oval 30"/>
          <p:cNvSpPr/>
          <p:nvPr/>
        </p:nvSpPr>
        <p:spPr>
          <a:xfrm>
            <a:off x="3657600" y="5105520"/>
            <a:ext cx="152280" cy="1522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6" name="Straight Arrow Connector 34"/>
          <p:cNvCxnSpPr>
            <a:stCxn id="242" idx="6"/>
          </p:cNvCxnSpPr>
          <p:nvPr/>
        </p:nvCxnSpPr>
        <p:spPr>
          <a:xfrm>
            <a:off x="3276360" y="4114800"/>
            <a:ext cx="1067400" cy="216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  <p:cxnSp>
        <p:nvCxnSpPr>
          <p:cNvPr id="247" name="Straight Arrow Connector 35"/>
          <p:cNvCxnSpPr/>
          <p:nvPr/>
        </p:nvCxnSpPr>
        <p:spPr>
          <a:xfrm flipH="1" flipV="1">
            <a:off x="2742840" y="5180760"/>
            <a:ext cx="915120" cy="252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Vertical Line Tes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*If you draw a vertical line through the graph of a function, it will intersect the graph at no more than one point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819600" cy="316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3505320" cy="348480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11"/>
          <p:cNvCxnSpPr/>
          <p:nvPr/>
        </p:nvCxnSpPr>
        <p:spPr>
          <a:xfrm flipH="1">
            <a:off x="5714640" y="3200040"/>
            <a:ext cx="21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3" name="Straight Arrow Connector 13"/>
          <p:cNvCxnSpPr/>
          <p:nvPr/>
        </p:nvCxnSpPr>
        <p:spPr>
          <a:xfrm flipH="1">
            <a:off x="3350520" y="3277800"/>
            <a:ext cx="39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2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1828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Use interval notation to describe the domain of the real function t with rule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Bottom: (2x - 3)(2x - 3) so x ≠ 3/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Domain: (-∞, 3/2) U (3/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3286080" cy="8193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62" name="Cloud Callout 11"/>
          <p:cNvSpPr/>
          <p:nvPr/>
        </p:nvSpPr>
        <p:spPr>
          <a:xfrm>
            <a:off x="4038480" y="3733920"/>
            <a:ext cx="1828800" cy="122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Verdana"/>
              </a:rPr>
              <a:t>Union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3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escribe the set in interval notation: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set of points on the number line that are at least 3 units away from the point -1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(-∞, -4] U [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Homework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Any other notes on 2.1, 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2 - 21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40:56Z</dcterms:created>
  <dc:creator>teacher</dc:creator>
  <dc:description/>
  <dc:language>en-US</dc:language>
  <cp:lastModifiedBy>Laura Helbing</cp:lastModifiedBy>
  <dcterms:modified xsi:type="dcterms:W3CDTF">2012-09-14T17:47:52Z</dcterms:modified>
  <cp:revision>6</cp:revision>
  <dc:subject/>
  <dc:title>A Review of Basic Function Ideas</dc:title>
</cp:coreProperties>
</file>