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B5C-21B4-4EC6-8B24-26B1F1C9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044-484A-4F27-9979-9B9E0971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2601-7721-463C-A32C-5ECB0BF7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525-E8F6-4D71-A92E-8CDF7079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1419-4EC2-4E27-A449-C637A85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9E06-9442-4BFB-A4D9-3DE4ECA3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1F20-8646-4E1F-AB31-D0E40F0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BC5-6446-468F-BDE3-E9064FF9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97C2-49C6-48BF-84EF-6F2E4F0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4BC4-1E88-471A-8CA0-CDCE1191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CE00-2FF2-499A-AD17-ABAAED2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040-1FD3-4C99-AFA5-900ABFB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DBFB-4FAD-4E97-82B4-14FCABB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A379-864C-47C5-8169-01122B84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CA4C-DC39-4AFC-948C-4D6B8280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44C8-107A-4927-8328-AE3554CF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DB30-8140-4EBE-95B5-FF894AFC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A9DDD-6B82-48C8-8005-97FE7C5D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1A2A-463E-4CA3-A2D7-33EFED8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2266-2C08-43A9-A370-EFF32769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B1D9-034C-416F-B774-3147CAAB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C898-B93F-47B4-A065-54044AA0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D65-15BA-42BC-9826-BBF9D85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846A-219F-4D3E-AD64-5D8F4BF7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FCEE-6F90-4168-A670-16C33EB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AFF72-FCE8-4B97-8469-D4BDD15D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DD9BE-56B5-4C3D-AEDC-95D7659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959E-7617-4448-A603-044B8E92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B032-0C69-4F6C-98EC-BA2D21B6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664C-0A58-4425-AA2B-D533B138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D8602-E13B-4F9B-A3D9-2BC78E29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42820-FD38-458F-BC90-8AFD4D64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046C-8933-493D-99BA-B6DA93EC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606-9E0B-4499-8B56-DB7C1719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243F8-D6B8-4D64-84EB-EAF7B442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44E1-8394-44F2-B231-B89746C5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E5D1-17BC-4EF5-972A-54169C2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2AAD-0668-4220-9543-DC9801FB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38D2-AF84-49CC-941A-AD983F1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E213-5838-469F-A4DF-D423745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328F-2FE5-4A88-AF54-660871CF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185D-3C8C-443B-B2ED-CEDE3572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F249E-90F8-415B-B49B-A56DEB9D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077DA-E456-4A03-910E-6D42323B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2D0-306B-46BC-B6DA-05C05B5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E6C70-A5A5-4B3B-A4BE-E49A3F71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7CC73-FFB9-4674-96F0-7A379F28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3307B-4B86-4317-B56A-FE0EF16A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BAD4-EC2C-4B6F-BC30-462AF2D8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4141B-6F1B-433A-9A74-FC596A82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1E43-06BA-4E1A-BC57-3FB0AED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0A982-0B3F-477F-AEFC-51833FD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18F24-FCF9-4CD7-BF49-5A6184AA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E22D7-EBA0-4D6A-95ED-27C1BB96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60710-4CF2-4B93-B8D7-7DBBAEE0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E2E-5B66-4F59-9665-C318958C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E29A9-6F0F-4190-AB07-12EA06FB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531-31CF-467A-BB39-4F773C0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6A1-B9F7-4C66-AED1-8CA0874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F65-4D51-4ABC-B3E4-7082D54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7370-F402-4FB6-80FD-B4879E205F7A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70DE-7D82-479F-8DF4-952C0F69D1EA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44EE-FD71-4F5E-9E5A-D2D6B412C9E3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0A6-F250-485B-8C8D-C19DE7B34B1E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850-7BFC-4A5F-B25A-E4CFBAEE7458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5e"/>
                </a:solidFill>
                <a:latin typeface="Verdana"/>
              </a:rPr>
              <a:t>A Review of Basic Function Ideas</a:t>
            </a:r>
            <a:endParaRPr b="1" lang="en-US" sz="45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89"/>
                </a:solidFill>
                <a:latin typeface="Verdana"/>
              </a:rPr>
              <a:t>Lesson 2.1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o x’s repeat (it is okay if the y’s repeat).  On a graph, you can use the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ertical line test 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– each vertical line can only touch one point on the line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x’s 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y’s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countable set (days of week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Non-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umbers between 1 and 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1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volume V of a sphere is a function of its radius r.  Suppose V = g(r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a. Find a formula that defines g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g = 4/3 ∏ r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b. use the formula to estimate the volume of Earth, if it has a radius of 6380 km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4/3 * ∏ 6380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1,088,000,000,000 km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Interval Notation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520" y="1447920"/>
          <a:ext cx="8153280" cy="441936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Graph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 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Set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a,b]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≤ x 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a,b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 &lt; x &lt;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b, ∞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-∞, a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&lt; a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cxnSp>
        <p:nvCxnSpPr>
          <p:cNvPr id="228" name="Straight Arrow Connector 5"/>
          <p:cNvCxnSpPr/>
          <p:nvPr/>
        </p:nvCxnSpPr>
        <p:spPr>
          <a:xfrm>
            <a:off x="2666520" y="2514600"/>
            <a:ext cx="175356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8"/>
          <p:cNvSpPr/>
          <p:nvPr/>
        </p:nvSpPr>
        <p:spPr>
          <a:xfrm>
            <a:off x="282600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9016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 flipV="1">
            <a:off x="2980440" y="2513160"/>
            <a:ext cx="1070280" cy="28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962520" y="2438280"/>
            <a:ext cx="15228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2657520" y="327816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2816280" y="327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880440" y="327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7" name="Straight Connector 17"/>
          <p:cNvSpPr/>
          <p:nvPr/>
        </p:nvSpPr>
        <p:spPr>
          <a:xfrm flipV="1">
            <a:off x="2971800" y="3276720"/>
            <a:ext cx="1069920" cy="14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886120" y="3201840"/>
            <a:ext cx="15228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3952800" y="3201840"/>
            <a:ext cx="15264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0" name="Straight Arrow Connector 20"/>
          <p:cNvCxnSpPr/>
          <p:nvPr/>
        </p:nvCxnSpPr>
        <p:spPr>
          <a:xfrm>
            <a:off x="2657520" y="4115880"/>
            <a:ext cx="1753200" cy="252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TextBox 22"/>
          <p:cNvSpPr/>
          <p:nvPr/>
        </p:nvSpPr>
        <p:spPr>
          <a:xfrm flipH="1">
            <a:off x="30481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124080" y="40384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>
            <a:off x="2733840" y="518328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588120" y="5334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6" name="Straight Arrow Connector 34"/>
          <p:cNvCxnSpPr>
            <a:stCxn id="242" idx="6"/>
          </p:cNvCxnSpPr>
          <p:nvPr/>
        </p:nvCxnSpPr>
        <p:spPr>
          <a:xfrm>
            <a:off x="3276360" y="4114800"/>
            <a:ext cx="1067400" cy="216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  <p:cxnSp>
        <p:nvCxnSpPr>
          <p:cNvPr id="247" name="Straight Arrow Connector 35"/>
          <p:cNvCxnSpPr/>
          <p:nvPr/>
        </p:nvCxnSpPr>
        <p:spPr>
          <a:xfrm flipH="1" flipV="1">
            <a:off x="2742840" y="5180760"/>
            <a:ext cx="915120" cy="252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Vertical Line Tes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*If you draw a vertical line through the graph of a function, it will intersect the graph at no more than one point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819600" cy="316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505320" cy="348480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11"/>
          <p:cNvCxnSpPr/>
          <p:nvPr/>
        </p:nvCxnSpPr>
        <p:spPr>
          <a:xfrm flipH="1">
            <a:off x="5714640" y="3200040"/>
            <a:ext cx="21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3" name="Straight Arrow Connector 13"/>
          <p:cNvCxnSpPr/>
          <p:nvPr/>
        </p:nvCxnSpPr>
        <p:spPr>
          <a:xfrm flipH="1">
            <a:off x="3350520" y="3277800"/>
            <a:ext cx="39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2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Use interval notation to describe the domain of the real function t with rule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Bottom: (2x - 3)(2x - 3) so x ≠ 3/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Domain: (-∞, 3/2) U (3/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286080" cy="819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62" name="Cloud Callout 11"/>
          <p:cNvSpPr/>
          <p:nvPr/>
        </p:nvSpPr>
        <p:spPr>
          <a:xfrm>
            <a:off x="4038480" y="3733920"/>
            <a:ext cx="182880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Verdana"/>
              </a:rPr>
              <a:t>Union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3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escribe the set in interval notation: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set of points on the number line that are at least 3 units away from the point -1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(-∞, -4] U [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Homework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Any other notes on 2.1, 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2 - 21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0:56Z</dcterms:created>
  <dc:creator>teacher</dc:creator>
  <dc:description/>
  <dc:language>en-US</dc:language>
  <cp:lastModifiedBy>Laura Helbing</cp:lastModifiedBy>
  <dcterms:modified xsi:type="dcterms:W3CDTF">2012-09-14T17:47:52Z</dcterms:modified>
  <cp:revision>6</cp:revision>
  <dc:subject/>
  <dc:title>A Review of Basic Function Ideas</dc:title>
</cp:coreProperties>
</file>