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5D4-14BF-496A-BD9D-5FCCAE9E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32B-360F-4F1E-A293-A7E345C9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2D8-7532-4A15-A0E7-CCBFF12B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4BB-9406-44C9-A99F-02085017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A8B3-7FFF-440E-AEDE-82719A0C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0D9E-47D1-4E43-9BEE-E4752025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D135-09E3-4346-8F40-4C934077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D4EA-852B-4CFF-A96B-29986A06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26D4-C040-419E-9A77-7CDE4F97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2BEA-458A-40F7-ACC0-A31E2C6D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475A-9050-48CB-BBDF-9685528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835-74D1-4FD6-A7C2-861DDBD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9907-0AB9-407A-9150-8E2DBFF6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18A2-4345-4D4C-AA2D-9E5F6DD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2E20-D1B3-4401-8E91-1DEC6C56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765-C04A-48FD-9F75-722C35C5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001B-56F2-437D-AEEC-6647639C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51C9-9526-4B1D-A2F3-12456D29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F110-9E7C-4FAA-B3CD-09D3750B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3A95-FDA0-400E-B6A8-69A0ABBC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8495E-0145-456C-8A41-797FE680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7C37-C011-4E25-BF45-434307D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458-B969-48FB-9220-4C6EBBEF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89A6-51EE-4C42-9D2E-A7EA72F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A241-2121-4D99-86B7-323962E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8CFDD-92F3-4076-9A7A-A05F1EA0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73E8-21D0-457E-B6C1-830BC9A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2CA3-8C25-479A-B52B-BC1ECF21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E0923-D9C9-4540-A61B-B3B4B956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9EFF-977F-4E20-B20A-18089A02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AE487-D19F-48F9-8930-CD3827C5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C763-E1E5-4615-AD3E-68E9F3FF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BC13F-E256-4B2F-8562-12724D8F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6A1-9042-4725-AEB4-F4F5543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B062-5739-4E63-AE16-0868C8C4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20CF-3055-4DE9-88CC-50E415B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28C74-78EB-408A-8192-96A84E8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C253-A256-4A74-A385-6DA6FE3B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E8DC0-7B5F-44FE-9783-C6CCA38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4E6D-2D0B-48BA-B821-8B30559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2ACD-EE14-4342-A49C-FD44D7DD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536B-EEFC-4813-B12E-80533BED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CE1BF-E6A1-4771-B831-FA336F89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BD3A5-D6D7-4FD5-A25F-E7FEB31B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EA3-7158-4C84-84CD-CCB7A599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2828-3A4C-459A-A859-DE9F54AD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02EA7-B254-4CBE-8218-54E48E8D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5DD9-FC7B-41CD-9B62-3A92AC6E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CBE21-EC32-4169-BCC7-48E8D9D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EDD6D-1BFB-49F7-B24F-3DBC02FF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68E63-B12D-42F5-AD71-FFE4B07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3387A-EAF3-46CE-8F84-EA789734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A5F17-3EBA-4F70-8A36-041B5950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D024-F25F-4E07-8E89-8F30FA7D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31CA7-B73E-4A9C-AA98-77A880BF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84AD-02F5-4DE8-BC38-2ABCC9DB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04C0-AD3E-4C4D-B6FE-95DB2958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D49-F85C-4E4B-9014-99E96689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D8E-BCFE-40CE-A83D-4012BC7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E42-6ECC-4A09-8339-88C01FD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74C-14FB-435A-ADC8-B937D6C64020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77B7-53C7-48A6-9E7E-47F23FFCAF04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49AD-A8F7-42BE-B0CE-9932DC349124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F680-1646-4549-BB69-742F51CAB6C9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9199-FB65-4498-A1CA-D13859513E3A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5e"/>
                </a:solidFill>
                <a:latin typeface="Verdana"/>
              </a:rPr>
              <a:t>A Review of Basic Function Ideas</a:t>
            </a:r>
            <a:endParaRPr b="1" lang="en-US" sz="45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89"/>
                </a:solidFill>
                <a:latin typeface="Verdana"/>
              </a:rPr>
              <a:t>Lesson 2.1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o x’s repeat (it is okay if the y’s repeat).  On a graph, you can use the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ertical line test 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– each vertical line can only touch one point on the line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x’s 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y’s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countable set (days of week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Non-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umbers between 1 and 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1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volume V of a sphere is a function of its radius r.  Suppose V = g(r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a. Find a formula that defines g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g = 4/3 ∏ r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b. use the formula to estimate the volume of Earth, if it has a radius of 6380 km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4/3 * ∏ 6380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1,088,000,000,000 km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Interval Notation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520" y="1447920"/>
          <a:ext cx="8153280" cy="441936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Graph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 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Set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a,b]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≤ x 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a,b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 &lt; x &lt;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b, ∞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-∞, a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&lt; a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cxnSp>
        <p:nvCxnSpPr>
          <p:cNvPr id="228" name="Straight Arrow Connector 5"/>
          <p:cNvCxnSpPr/>
          <p:nvPr/>
        </p:nvCxnSpPr>
        <p:spPr>
          <a:xfrm>
            <a:off x="2666520" y="2514600"/>
            <a:ext cx="175356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8"/>
          <p:cNvSpPr/>
          <p:nvPr/>
        </p:nvSpPr>
        <p:spPr>
          <a:xfrm>
            <a:off x="282600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9016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 flipV="1">
            <a:off x="2980440" y="2513160"/>
            <a:ext cx="1070280" cy="28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962520" y="2438280"/>
            <a:ext cx="15228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2657520" y="327816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2816280" y="327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880440" y="327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7" name="Straight Connector 17"/>
          <p:cNvSpPr/>
          <p:nvPr/>
        </p:nvSpPr>
        <p:spPr>
          <a:xfrm flipV="1">
            <a:off x="2971800" y="3276720"/>
            <a:ext cx="1069920" cy="14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886120" y="3201840"/>
            <a:ext cx="15228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3952800" y="3201840"/>
            <a:ext cx="15264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0" name="Straight Arrow Connector 20"/>
          <p:cNvCxnSpPr/>
          <p:nvPr/>
        </p:nvCxnSpPr>
        <p:spPr>
          <a:xfrm>
            <a:off x="2657520" y="4115880"/>
            <a:ext cx="1753200" cy="252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TextBox 22"/>
          <p:cNvSpPr/>
          <p:nvPr/>
        </p:nvSpPr>
        <p:spPr>
          <a:xfrm flipH="1">
            <a:off x="30481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124080" y="40384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>
            <a:off x="2733840" y="518328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588120" y="5334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6" name="Straight Arrow Connector 34"/>
          <p:cNvCxnSpPr>
            <a:stCxn id="242" idx="6"/>
          </p:cNvCxnSpPr>
          <p:nvPr/>
        </p:nvCxnSpPr>
        <p:spPr>
          <a:xfrm>
            <a:off x="3276360" y="4114800"/>
            <a:ext cx="1067400" cy="216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  <p:cxnSp>
        <p:nvCxnSpPr>
          <p:cNvPr id="247" name="Straight Arrow Connector 35"/>
          <p:cNvCxnSpPr/>
          <p:nvPr/>
        </p:nvCxnSpPr>
        <p:spPr>
          <a:xfrm flipH="1" flipV="1">
            <a:off x="2742840" y="5180760"/>
            <a:ext cx="915120" cy="252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Vertical Line Tes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*If you draw a vertical line through the graph of a function, it will intersect the graph at no more than one point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819600" cy="316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505320" cy="348480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11"/>
          <p:cNvCxnSpPr/>
          <p:nvPr/>
        </p:nvCxnSpPr>
        <p:spPr>
          <a:xfrm flipH="1">
            <a:off x="5714640" y="3200040"/>
            <a:ext cx="21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3" name="Straight Arrow Connector 13"/>
          <p:cNvCxnSpPr/>
          <p:nvPr/>
        </p:nvCxnSpPr>
        <p:spPr>
          <a:xfrm flipH="1">
            <a:off x="3350520" y="3277800"/>
            <a:ext cx="39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2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Use interval notation to describe the domain of the real function t with rule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Bottom: (2x - 3)(2x - 3) so x ≠ 3/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Domain: (-∞, 3/2) U (3/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286080" cy="819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62" name="Cloud Callout 11"/>
          <p:cNvSpPr/>
          <p:nvPr/>
        </p:nvSpPr>
        <p:spPr>
          <a:xfrm>
            <a:off x="4038480" y="3733920"/>
            <a:ext cx="182880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Verdana"/>
              </a:rPr>
              <a:t>Union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3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escribe the set in interval notation: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set of points on the number line that are at least 3 units away from the point -1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(-∞, -4] U [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Homework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Any other notes on 2.1, 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2 - 21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0:56Z</dcterms:created>
  <dc:creator>teacher</dc:creator>
  <dc:description/>
  <dc:language>en-US</dc:language>
  <cp:lastModifiedBy>Laura Helbing</cp:lastModifiedBy>
  <dcterms:modified xsi:type="dcterms:W3CDTF">2012-09-14T17:47:52Z</dcterms:modified>
  <cp:revision>6</cp:revision>
  <dc:subject/>
  <dc:title>A Review of Basic Function Ideas</dc:title>
</cp:coreProperties>
</file>