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233-45F9-4885-9172-D7203509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764-8E76-470E-B7D6-50A8697E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266-B0D2-4210-96E1-5DC0A988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B96-9F24-49F2-86C3-858DE38F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BE30-D19C-49C5-B3C2-0721D137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DC2-B603-433A-9113-FF69DB5B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DA9A-9DA1-4BAE-9B7F-CC4501D8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C97E-8C3F-4425-9EA1-BB6BC199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4AED-7535-498A-8465-56526C8D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0DA1-AA6C-4EBD-BD26-91FA3911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6FD7-0095-41E4-A022-F41649F3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824-642E-4D4F-A813-FF74B7CE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7A3D-D137-4540-8A4E-CE1C1D50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D8EC-9B45-4F34-8A36-996DD8B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A66D-8E91-48F6-B9F5-DB3671C6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0684-2CE0-41D1-9688-7A6432B8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A290-40C1-42F9-80F0-5C6F20F0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34BE-2169-4D5B-A484-090ED68E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A0E4E-5863-42E8-B3A8-35F37CF4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2C0D-3808-439D-8917-DC5C3042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38C0-4A0D-4DB9-91EC-E0A61668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844F-81AE-4543-884C-B3F641F5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DDC-5D21-4C4A-A4E5-C809509C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4FAA-F83C-4678-9066-D814947B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8CA9-C749-4D97-BA36-A8A483A1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5FDC-E825-4823-839A-96646425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6566-2AFB-4703-8DE9-9F085E98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FA76-8A97-40B4-B4F3-429290AD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B52A-881C-4C8C-AC20-2FE52CBD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BDCC-6852-4076-8527-D546E37D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7EF21-CA74-4CDC-952D-AA382B8D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23E8-0B04-4597-A5FA-B24A71FB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EC9F-BA5E-4F73-98F7-EB04AB03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033-9E1C-46F7-9FB3-49007417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C7E4-6D98-4B8D-842D-7FFA1BE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AC41-53D6-4EFC-8061-DCFD9A48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4AEF-45ED-48F4-B1FF-4A4B1014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51BB5-DD97-434B-A5A5-112F0171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40A4-36E9-4220-B1B0-932CBC6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820E-7590-4D47-97A5-DB39D21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2459-60D5-45C5-8CC8-D594BADF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284A-1F0C-42ED-9AA4-507B8E58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B3FB6-C5F7-4C7A-B9B3-B367896C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15C2A-6698-46D8-BC06-9BA76D65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BB8-8ABA-4C08-A507-DAFB08E5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084E5-06EC-444A-9EB6-FF9F256A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B09AE-16F6-4714-8E78-0D243C6C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376D1-D93A-419B-A457-8822872A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C676-935D-43B5-BD28-9A45AC7C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6234-A445-4902-B81B-1852ED53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DBAB-4338-4302-9A7E-361B4F34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C008-BA16-4BF2-BE50-0F11E3B1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734AA-390B-4AFF-91E9-DC7989A4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32AFD-4B4F-477D-9C1D-ADBEB2FA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9EA4-8A5D-40B5-A034-71B82262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C7C-1B2E-4839-891B-26FE968D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D93EF-DBD7-4246-914D-42060EF6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706-26C3-4636-8D9D-73F30815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7B3-9716-4B2C-9A31-FD0002D4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F12-997F-4504-95BF-D92EFAA7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CC67-B4DD-461F-BEB1-27EAD9533E25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3811-87D6-49C2-9696-F99FA95CD912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4224-E403-4700-942C-8DECC568DB18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A185-56A6-4D4D-A211-395BE653FACA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EA6A-C504-457D-AA87-EF64320981C0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5e"/>
                </a:solidFill>
                <a:latin typeface="Verdana"/>
              </a:rPr>
              <a:t>A Review of Basic Function Ideas</a:t>
            </a:r>
            <a:endParaRPr b="1" lang="en-US" sz="45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89"/>
                </a:solidFill>
                <a:latin typeface="Verdana"/>
              </a:rPr>
              <a:t>Lesson 2.1</a:t>
            </a:r>
            <a:endParaRPr b="0" lang="en-US" sz="2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Definitions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o x’s repeat (it is okay if the y’s repeat).  On a graph, you can use the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ertical line test 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– each vertical line can only touch one point on the line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x’s 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y’s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countable set (days of week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Non-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umbers between 1 and 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83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1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volume V of a sphere is a function of its radius r.  Suppose V = g(r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a. Find a formula that defines g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g = 4/3 ∏ r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b. use the formula to estimate the volume of Earth, if it has a radius of 6380 km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4/3 * ∏ 6380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1,088,000,000,000 km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Interval Notation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3520" y="1447920"/>
          <a:ext cx="8153280" cy="441936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Graph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 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Set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a,b]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≤ x 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a,b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 &lt; x &lt;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b, ∞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-∞, a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&lt; a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cxnSp>
        <p:nvCxnSpPr>
          <p:cNvPr id="228" name="Straight Arrow Connector 5"/>
          <p:cNvCxnSpPr/>
          <p:nvPr/>
        </p:nvCxnSpPr>
        <p:spPr>
          <a:xfrm>
            <a:off x="2666520" y="2514600"/>
            <a:ext cx="175356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TextBox 8"/>
          <p:cNvSpPr/>
          <p:nvPr/>
        </p:nvSpPr>
        <p:spPr>
          <a:xfrm>
            <a:off x="2826000" y="2514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389016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 flipV="1">
            <a:off x="2980440" y="2513160"/>
            <a:ext cx="1070280" cy="288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895480" y="24382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3962520" y="2438280"/>
            <a:ext cx="15228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34" name="Straight Arrow Connector 14"/>
          <p:cNvCxnSpPr/>
          <p:nvPr/>
        </p:nvCxnSpPr>
        <p:spPr>
          <a:xfrm>
            <a:off x="2657520" y="327816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2816280" y="3278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880440" y="3278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7" name="Straight Connector 17"/>
          <p:cNvSpPr/>
          <p:nvPr/>
        </p:nvSpPr>
        <p:spPr>
          <a:xfrm flipV="1">
            <a:off x="2971800" y="3276720"/>
            <a:ext cx="1069920" cy="144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2886120" y="3201840"/>
            <a:ext cx="15228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3952800" y="3201840"/>
            <a:ext cx="15264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0" name="Straight Arrow Connector 20"/>
          <p:cNvCxnSpPr/>
          <p:nvPr/>
        </p:nvCxnSpPr>
        <p:spPr>
          <a:xfrm>
            <a:off x="2657520" y="4115880"/>
            <a:ext cx="1753200" cy="252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1" name="TextBox 22"/>
          <p:cNvSpPr/>
          <p:nvPr/>
        </p:nvSpPr>
        <p:spPr>
          <a:xfrm flipH="1">
            <a:off x="304812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3124080" y="40384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>
            <a:off x="2733840" y="518328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588120" y="5334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3657600" y="5105520"/>
            <a:ext cx="152280" cy="152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6" name="Straight Arrow Connector 34"/>
          <p:cNvCxnSpPr>
            <a:stCxn id="242" idx="6"/>
          </p:cNvCxnSpPr>
          <p:nvPr/>
        </p:nvCxnSpPr>
        <p:spPr>
          <a:xfrm>
            <a:off x="3276360" y="4114800"/>
            <a:ext cx="1067400" cy="216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  <p:cxnSp>
        <p:nvCxnSpPr>
          <p:cNvPr id="247" name="Straight Arrow Connector 35"/>
          <p:cNvCxnSpPr/>
          <p:nvPr/>
        </p:nvCxnSpPr>
        <p:spPr>
          <a:xfrm flipH="1" flipV="1">
            <a:off x="2742840" y="5180760"/>
            <a:ext cx="915120" cy="252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Vertical Line Tes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*If you draw a vertical line through the graph of a function, it will intersect the graph at no more than one point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819600" cy="316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3505320" cy="348480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11"/>
          <p:cNvCxnSpPr/>
          <p:nvPr/>
        </p:nvCxnSpPr>
        <p:spPr>
          <a:xfrm flipH="1">
            <a:off x="5714640" y="3200040"/>
            <a:ext cx="21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3" name="Straight Arrow Connector 13"/>
          <p:cNvCxnSpPr/>
          <p:nvPr/>
        </p:nvCxnSpPr>
        <p:spPr>
          <a:xfrm flipH="1">
            <a:off x="3350520" y="3277800"/>
            <a:ext cx="39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2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Use interval notation to describe the domain of the real function t with rule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Bottom: (2x - 3)(2x - 3) so x ≠ 3/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Domain: (-∞, 3/2) U (3/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286080" cy="8193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62" name="Cloud Callout 11"/>
          <p:cNvSpPr/>
          <p:nvPr/>
        </p:nvSpPr>
        <p:spPr>
          <a:xfrm>
            <a:off x="4038480" y="3733920"/>
            <a:ext cx="182880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Verdana"/>
              </a:rPr>
              <a:t>Union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3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escribe the set in interval notation: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set of points on the number line that are at least 3 units away from the point -1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(-∞, -4] U [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Homework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Any other notes on 2.1, 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2 - 21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40:56Z</dcterms:created>
  <dc:creator>teacher</dc:creator>
  <dc:description/>
  <dc:language>en-US</dc:language>
  <cp:lastModifiedBy>Laura Helbing</cp:lastModifiedBy>
  <dcterms:modified xsi:type="dcterms:W3CDTF">2012-09-14T17:47:52Z</dcterms:modified>
  <cp:revision>6</cp:revision>
  <dc:subject/>
  <dc:title>A Review of Basic Function Ideas</dc:title>
</cp:coreProperties>
</file>