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101-4FCE-45DB-B309-16F6A416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260-20D9-40F2-8A40-76B36DE3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85D-89A9-415B-8EEA-EEC48DE8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F1D-B316-41A8-B60F-E1FAB0A7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B650-BB5F-4B4C-B509-26FE4AED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B76E-529D-407A-963B-E45542BC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B472-1945-4C9E-BD03-CBF6E484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1153-F828-4FF5-92A6-52945C77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2FAA-3026-4447-B6E4-1137EE70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D64F-43BC-4F60-86BB-CC5C1736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D415-C22B-4C32-883C-68D5969F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69C-119E-4EED-A209-30DA973E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9128-D55A-4BA8-B9D2-7A148F4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6177-4B65-4DE7-8891-DCBE5231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D7E0-8604-4709-AFDB-2ACA71F9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080F-F600-442A-B3A7-D5858B5F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80A5-5AF6-4330-9306-083B1684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AAB14-502B-439B-B35D-C97C994D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93203-91E7-4F2D-9E4D-B84C4300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D9362-C9E5-4270-B663-1D6995DF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21028-447A-4393-A664-4CED31AE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A0102-58C8-4616-A89E-0A47B32E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BD5-0F06-4295-946C-D54584C2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BE093-92EA-4FE0-A965-931B821F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BBA2A-F27C-4211-AB0C-A1E3BEE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7E30E-8654-4733-B7A7-094DA7A7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391E5-6113-4C46-8EEA-AB8589C9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10F72-81D8-4C37-AD9B-D373ADD1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08787-7F08-405A-8580-F49C521A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4F6F9-177A-4E53-9108-0D801094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29CA-1460-4D96-81C0-2F48926B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8A71C-2874-4E3F-985C-1937E9DD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E566A-9025-4E72-B4C7-0A43FE94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566B-C9B1-4E14-AF5F-B6FA7633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89F65-8F09-4CB1-BC7E-07638824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2A6F-1E03-4D28-BC1D-B28B4ABC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330C-A45D-4592-A816-F0A2FD66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A9FC9-B2D7-4E07-99F1-39A0AB92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5785C-3C47-488B-92C6-C45C76FE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8C57-9C48-4A1A-9650-77750851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CFDF5-220B-4152-B527-E196CD08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1C8EF-862A-46C3-9D8C-A79DCD9D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1D356-7EE4-48A7-853C-2E5F36C9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78750-F454-4F1C-A84F-9C116152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29C-BE98-42E2-B346-32EE0C44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7C37C-36FC-4490-B7BC-84BB0EDF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79DE2-2C05-4E43-B87D-47567F4B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164BE-1385-4976-AAA4-26A21C52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8199C-FFE8-482F-809A-4DA96074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B92A4-95F2-475D-BCDF-F89E8C3C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E752C-51AB-4DFB-9C49-7D4AA6B4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38B73-FA72-4E52-AA04-2CCD3FAA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2AC08-11E7-4F37-B093-E24E8DF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018A0-4515-48BC-A8AB-63310DA3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6CC5C-EB11-4ED1-B954-11655F07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8CD-3D5B-4F8B-85D9-EB7489DA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80258-27B4-428A-B676-DE988E25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CD6B18-661A-457E-9DC6-A669BC04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8FC34-A109-498E-88FC-671A9DEE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9A81E-1320-460C-BBD7-1544A234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A58A9-E2E4-4F4A-8E85-CA04EDC2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11F95-0B1A-4F54-831C-C2B2F119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E6899-03B5-45E6-A1DA-95F6C5D1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E4C45-7087-4EB2-B468-6A1A3B1B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21E77-17A3-4541-B860-C0A99689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C2963-AED6-4BA9-B84A-C8E814A0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AFE-3842-409B-8BDF-2E6EF850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C31E5-CDD3-4014-8E7F-4925F043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BFE84-6592-478A-9EF4-2696F1BF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8C5C5-6716-47B2-8790-20EAB47E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33DF5-7CED-47FC-8B38-31945A68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E488A-4582-4F9C-B795-730A56FE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6E804-E46A-4AEE-96AE-E90A1918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247FD-9117-4546-8410-F146B992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9C6C4-EB68-4DB1-867E-3EB08473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5205A-A4AB-4453-BA1B-63AAA3CA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DFDCB-8053-4B34-9CFE-C24CF126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9FB-8987-4C5E-88AE-0BB719A3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4F356-5593-4DAE-8105-0EFCC56E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1DE60-EC58-4607-83AD-652C621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CA61E-868A-4F4F-B6A6-FB4A5084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93DEE-E7CB-4707-9AA4-51A8DDB2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27435-024C-4450-859D-02640658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A68-9350-4FBB-8EFB-2EF2906D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0292-A768-4B1D-89D1-D546E0BC61E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EBF1-CE07-421B-984A-0207D8D9516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96E2-E4E6-4DA5-810E-C3A8810FE7F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BE54-6773-445F-96F8-32E06DB17F0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E311-B249-4D6D-AAC0-F743B87A6C4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CCF-4734-4EFA-82C8-4ABACBB3C9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0B16-5491-4770-B91D-9C0033A5376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THE NUMBER OF ZEROS OF A POLYNOMI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9.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NONREAL ZEROS OF POLYNOMIALS WITH REAL COEFFICI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971800" y="243828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Lesson 9.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OS THEORY IN PRESENT DAY 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utterfly Eff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berty Mutual Commer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rectv Commerci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ine the complex zeros of polynomials with real coeffici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e that they occur in conjugate pai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w they change continuously as the constant coefficient of the polynomial changes continuousl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roduce some discrete dynamical systems, iterating functions from a set onto itsel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OALS FOR THE DAY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(x) is a polynomial with real coefficients.  If the nonreal number z = a + bi is a zero of p(x), then its complex conjugate z = a – bi is also a z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JUGATE ZEROS THEOR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 the equation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8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68t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Verify that 2i is a solu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 8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68(2i)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0 +-136i +-32 + 136i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8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. Find the remaining solutions and their multiplic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- 2i  so x + 2i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4  divide throug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x – 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5x – 3) (x + 4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3/5, x = -4, x = 2i, x = -2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 polynomial of smallest degree that has real coefficients and zeros i + 1 and 3i +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nge them: 1 + i and 1 + 3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 also 1 – i and 1 – 3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– (1+i))(x - (1-i)) (x – (1+3i)) (x - (1-3i)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- 1- i)(x-1+i)(x-1-3i)(x-1+3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24x + 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urve on the next slide is the graph of y = k(x) for a polynomial k(x) of degree 5 with real coefficients.   The x-axis has been removed.  Sketch in the x-axis so tha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k(x) has exactly one real zero, which is positi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(x) has exactly two real zeros, one simple and one with multiplicity 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5" name="Straight Arrow Connector 4"/>
          <p:cNvCxnSpPr/>
          <p:nvPr/>
        </p:nvCxnSpPr>
        <p:spPr>
          <a:xfrm>
            <a:off x="3808800" y="304920"/>
            <a:ext cx="2520" cy="6199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86" name="Freeform 17"/>
          <p:cNvSpPr/>
          <p:nvPr/>
        </p:nvSpPr>
        <p:spPr>
          <a:xfrm>
            <a:off x="304920" y="1371600"/>
            <a:ext cx="8339040" cy="51674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457200" y="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k(x) has exactly one real zero, which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Arrow Connector 20"/>
          <p:cNvCxnSpPr/>
          <p:nvPr/>
        </p:nvCxnSpPr>
        <p:spPr>
          <a:xfrm>
            <a:off x="380880" y="1752120"/>
            <a:ext cx="83826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9" name="Straight Arrow Connector 3"/>
          <p:cNvCxnSpPr/>
          <p:nvPr/>
        </p:nvCxnSpPr>
        <p:spPr>
          <a:xfrm>
            <a:off x="3808800" y="304920"/>
            <a:ext cx="2520" cy="6199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90" name="Freeform 4"/>
          <p:cNvSpPr/>
          <p:nvPr/>
        </p:nvSpPr>
        <p:spPr>
          <a:xfrm>
            <a:off x="304920" y="1371600"/>
            <a:ext cx="8339040" cy="51674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304920" y="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(x) has exactly two real zeros, one simple and one with multiplicit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7"/>
          <p:cNvCxnSpPr/>
          <p:nvPr/>
        </p:nvCxnSpPr>
        <p:spPr>
          <a:xfrm>
            <a:off x="380520" y="4038480"/>
            <a:ext cx="8154360" cy="7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BI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Orbit (expressed O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 is a sequence which begins wit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then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, then f(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, f(f(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, and so on.  Depending on the initial value, a pattern may develo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periodic (like the sine function) –any time the argument is a rational multiple of 2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aperiodic – never repeats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A small change in the initial value could have a huge impact on the end behavior of the fun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C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nd all zeros of a given polynomial and their multipliciti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 the properties of polynomials to find or describe their zer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Content Placeholder 2"/>
          <p:cNvSpPr/>
          <p:nvPr/>
        </p:nvSpPr>
        <p:spPr>
          <a:xfrm>
            <a:off x="609480" y="1295280"/>
            <a:ext cx="74678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n is the number underneath the square root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the recurrence re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ORMULA FOR APPROXIMATING SQUARE ROO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Content Placeholder 3"/>
              <p:cNvSpPr txBox="1"/>
              <p:nvPr/>
            </p:nvSpPr>
            <p:spPr>
              <a:xfrm>
                <a:off x="1219320" y="1596960"/>
                <a:ext cx="609588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this to approximate           .  For now, let’s pick an initial value of 3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3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16.12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2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8.3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2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4.63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3.18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Content Placeholder 3"/>
              <p:cNvSpPr txBox="1"/>
              <p:nvPr/>
            </p:nvSpPr>
            <p:spPr>
              <a:xfrm>
                <a:off x="1219320" y="304920"/>
                <a:ext cx="6095880" cy="22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4267080" y="2514600"/>
                <a:ext cx="6858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2" name="Rectangle 6"/>
          <p:cNvSpPr/>
          <p:nvPr/>
        </p:nvSpPr>
        <p:spPr>
          <a:xfrm>
            <a:off x="4952880" y="4114800"/>
            <a:ext cx="1828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ute the orbit of the cubing function f(z) =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or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*will be periodi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3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9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27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[1, 7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21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iod 4 (because 4 values create the repeating patter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609480"/>
            <a:ext cx="8763120" cy="58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up of hot tea with temperature 105˚F is left in a room with temperature 68˚F.  Suppose that the difference in the two temperatures is decreasing by 7% each minut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rite a discrete dynamical system to describe thi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(t) = .93 (t – 68) + 6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bout how long does it take the tea to cool to 80˚F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bout 16 minu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Page 560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3 – 9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P. 568 – 569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2 – 6, 11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FINIT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damental Theorem of Algebra: Every polynomial of degree n ≥ 1 with complex coefficients has at least one complex z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icity: has a zero repe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ple zero: not repe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g.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9x + 14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+ 7) (x + 2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0 (mult. 2), x =-7 (simple) , x = -2 (simpl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MULT:2 (ACTS LIKE A PARABOLA)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IMPLE ZEROES (ACT LIKE LINES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rcRect l="12502" t="10001" r="69377" b="67005"/>
          <a:stretch/>
        </p:blipFill>
        <p:spPr>
          <a:xfrm>
            <a:off x="990720" y="1484280"/>
            <a:ext cx="63244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OR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mber of zeros of a polynomial:  A polynomial of degree n with complex coefficients has exactly n complex zeros, if multiplicities are count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ll the solutions and their multiplicities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x – 6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2x – 3)(x +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0 (mult. 3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3/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-2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rcRect l="12502" t="12000" r="68751" b="65002"/>
          <a:stretch/>
        </p:blipFill>
        <p:spPr>
          <a:xfrm>
            <a:off x="295200" y="380880"/>
            <a:ext cx="8163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 polynomial of degree 4 that has simple zeros -4 and .125 and 3i with multiplicity 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 x + 4)(x – 1/8)(x – 3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 x + 4)(8x – 1)(x – 3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(31 – 48i)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(-76 – 186i)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(279 + 24i)x + 3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Pages 551 – 552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1, 6 – 8, 10 - 11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13:32Z</dcterms:created>
  <dc:creator>Laura Helbing</dc:creator>
  <dc:description/>
  <dc:language>en-US</dc:language>
  <cp:lastModifiedBy>Laura Helbing</cp:lastModifiedBy>
  <dcterms:modified xsi:type="dcterms:W3CDTF">2012-03-28T14:47:13Z</dcterms:modified>
  <cp:revision>20</cp:revision>
  <dc:subject/>
  <dc:title>The Number of Zeros of a Polynomial</dc:title>
</cp:coreProperties>
</file>