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91A1-A978-469C-8DAF-5A1C284E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F23-4F45-487F-A850-DAF467AC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CBA9-7137-4F73-B8F0-E49182D5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68C-56C1-4AB5-8A41-AE8D20C89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914C-0FE5-4CBD-BC9F-F95C5D739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DF1A-C98A-4649-B9C2-7963D4E8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F73E-FBDA-45DF-97B5-80C1DD4D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9DEB-BC70-4E28-A2CD-5F4DE262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619D-F3D1-4074-8B73-4D10D639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4E54-0562-4CC0-89C0-4DEB1F9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F810-0B8B-4EB0-8655-8E1D36E7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2C3-83D1-4F78-8511-E52FF6DE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37B1-D184-431D-A31D-74F6DB7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09F8-6C61-4F46-9BAB-18DEA9C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BD40-98FA-438A-BA4E-C1E8C89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CF58-F94D-4A95-AFB4-D0AE048DE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35A5-48E8-4DC9-99E0-9209412D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A3644A-2D27-4961-A619-771DB55D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B615C-3D8C-4AF0-A240-D4AB2FE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59833-D12B-4646-84C9-1F8B6596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A35E6-AFB1-4692-9A67-D8DF734E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A5006-1B49-47FB-ADBF-7934880A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8BD2-CC2F-4B57-A02E-C2393D77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47754-9B6A-49A2-88A7-12CD6D1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8713A-9431-433C-A4E4-338A833E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0FD0C-E85F-4CF9-AB3C-0D0D0D1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EB7B7-8884-410B-BF15-4A00848A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8EC26-C13D-4C03-AB7A-CAF7DB9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8C27B-F5C5-4F0B-BF95-66AA4BC0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8992D-5C9D-4680-B805-4B60D6A4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C17A-DB02-4AD1-AA2A-450D6A1F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E49C9-A47B-433A-AC2E-2E1FD7D4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3799-1751-4024-9E38-3DEDF55E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01EC-A251-4894-B38F-72ED4E07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4501F-FB1B-4ED0-9060-CFFCB9C1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34DD7-E766-4D7F-A6B1-670E31E9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5B1B5-04AD-4A07-82A4-6F9FF82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6080-54F9-49D9-8CAE-FD836453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2FF56-8501-4F31-B6C7-FE71D0D1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CC7B-6349-447D-B96C-2E859952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2821-022C-41C3-8BE0-A92D5B02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29A2D-4662-4AD6-BD69-08E721D2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7E58B-07C9-4B6A-9E73-0832E2B0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5AAB6-136A-4A29-9614-7C77042E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148-7CA0-4CC4-B418-057FA8C8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9065F-C3CF-4445-A09B-C9FD0EA5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250AED-FFC8-447C-823E-C6FA05C2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28B3C-0C92-41E5-B084-2D65B89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D04BE-ACEE-4228-BDDB-11928C46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F814C-5E0C-4016-9464-D860291C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44285-FAD0-4859-8D11-87A9CB74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12D5D-F770-4D81-89CD-AE14467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5D729-255E-4265-A184-A061B1BB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6696D-815C-4C1C-BF88-94EA0F8A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3F4E6-0A08-4042-8C2A-04020268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74C-4442-4574-A356-C89AC0AB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0B667D-4DB9-4C2F-B557-D5541CAE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CED77-F82F-4B7D-B76B-6102F034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E557A5-594A-4241-81AA-D123C2C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10500-F602-40D1-B01B-A4183F32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33566-658F-4AC4-B847-5BDFFB5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E2B00-83DC-4305-970E-D66DD81E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5B32B-28DD-4AFB-95FC-8175E45A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45209-B35E-42AA-98BB-08607EB0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8E7B0-8C9D-447F-9E45-EF80E73F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525F3-8877-433C-B40C-19F4415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2A1-2F35-4F0A-836C-54DC1978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5FA780-E83A-43D5-8604-581A90AD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8DE01E-5F6E-4B0A-99AB-4D1FB846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CC178-1DAC-49F7-8629-F9535CE1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21662A-D6AC-492B-A346-6C5C0413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5B0DF-6602-400E-82BC-B1E38DDA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B0E78-BA37-4D0C-A761-6298C079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19215-1653-44F2-B956-BBB17081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0F173-FA07-4346-B88B-1C4A77EE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C0D9A-9488-4E82-AE57-A749452A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31F47D-8A20-4DAF-A194-93DBE50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181-1EC1-41AA-8C23-ED3E1A6B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534C5-EC0D-42FF-827D-8E5EE425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1B2F9-08B7-4D3B-9834-8B396662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2CAE5D-7563-484B-A167-18CDBF6A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02BA6-90EE-413D-934D-B9DC8E41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4134F-6BDA-408E-B4B4-57CF9E11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D2B-0038-4C89-AF38-29E4D388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A42-A275-4FC3-B679-CF2B54D3086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F739-4385-429A-A962-829E0CAB19C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2458-4061-4A51-BFB8-85F8FAF2C8D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DA2-0CCC-4BB1-B29F-16CFA5EB750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F157-4FA7-4FD5-B42B-41D9B813168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738E-3F22-494F-8086-2C40679DDC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63CE-CA9A-4F44-B2AF-D59394742E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THE NUMBER OF ZEROS OF A POLYNOMI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9.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NONREAL ZEROS OF POLYNOMIALS WITH REAL COEFFICI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2971800" y="2438280"/>
            <a:ext cx="2743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Lesson 9.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OS THEORY IN PRESENT DAY 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Butterfly Effec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berty Mutual Commer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rectv Commerci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ine the complex zeros of polynomials with real coeffici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ve that they occur in conjugate pai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 they change continuously as the constant coefficient of the polynomial changes continuous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oduce some discrete dynamical systems, iterating functions from a set onto itsel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OALS FOR THE DAY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(x) is a polynomial with real coefficients.  If the nonreal number z = a + bi is a zero of p(x), then its complex conjugate z = a – bi is also a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NJUGATE ZEROS 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fe8637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ider the equation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8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t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Verify that 2i is a solu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+ 8(2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68(2i)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0 +-136i +-32 + 136i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8 = 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. Find the remaining solutions and their multiplicit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- 2i  so x + 2i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4  divide throug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7x – 1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5x – 3) (x + 4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5, x = -4, x = 2i, x = -2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smallest degree that has real coefficients and zeros i + 1 and 3i +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e them: 1 + i and 1 + 3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 also 1 – i and 1 – 3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– (1+i))(x - (1-i)) (x – (1+3i)) (x - (1-3i)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- 1- i)(x-1+i)(x-1-3i)(x-1+3i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24x + 2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urve on the next slide is the graph of y = k(x) for a polynomial k(x) of degree 5 with real coefficients.   The x-axis has been removed.  Sketch in the x-axis so that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5" name="Straight Arrow Connector 4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86" name="Freeform 17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8"/>
          <p:cNvSpPr/>
          <p:nvPr/>
        </p:nvSpPr>
        <p:spPr>
          <a:xfrm>
            <a:off x="457200" y="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k(x) has exactly one real zero, which is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Arrow Connector 20"/>
          <p:cNvCxnSpPr/>
          <p:nvPr/>
        </p:nvCxnSpPr>
        <p:spPr>
          <a:xfrm>
            <a:off x="380880" y="1752120"/>
            <a:ext cx="8382600" cy="25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89" name="Straight Arrow Connector 3"/>
          <p:cNvCxnSpPr/>
          <p:nvPr/>
        </p:nvCxnSpPr>
        <p:spPr>
          <a:xfrm>
            <a:off x="3808800" y="304920"/>
            <a:ext cx="2520" cy="6199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  <p:sp>
        <p:nvSpPr>
          <p:cNvPr id="390" name="Freeform 4"/>
          <p:cNvSpPr/>
          <p:nvPr/>
        </p:nvSpPr>
        <p:spPr>
          <a:xfrm>
            <a:off x="304920" y="1371600"/>
            <a:ext cx="8339040" cy="5167440"/>
          </a:xfrm>
          <a:prstGeom prst="pie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304920" y="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(x) has exactly two real zeros, one simple and one with multiplicity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Straight Arrow Connector 7"/>
          <p:cNvCxnSpPr/>
          <p:nvPr/>
        </p:nvCxnSpPr>
        <p:spPr>
          <a:xfrm>
            <a:off x="380520" y="4038480"/>
            <a:ext cx="8154360" cy="7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BI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Orbit (expressed O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 is a sequence which begins with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then 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, then 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f(f(f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), and so on.  Depending on the initial value, a pattern may devel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periodic (like the sine function) –any time the argument is a rational multiple of 2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periodic – never repeats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A small change in the initial value could have a huge impact on the end behavior of the fun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nd all zeros of a given polynomial and their multipliciti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 the properties of polynomials to find or describe their zero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Content Placeholder 2"/>
          <p:cNvSpPr/>
          <p:nvPr/>
        </p:nvSpPr>
        <p:spPr>
          <a:xfrm>
            <a:off x="609480" y="1295280"/>
            <a:ext cx="74678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 n is the number underneath the square root and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 the recurrence rel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ORMULA FOR APPROXIMATING SQUARE ROO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Content Placeholder 3"/>
              <p:cNvSpPr txBox="1"/>
              <p:nvPr/>
            </p:nvSpPr>
            <p:spPr>
              <a:xfrm>
                <a:off x="1219320" y="1596960"/>
                <a:ext cx="609588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 this to approximate           .  For now, let’s pick an initial value of 3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3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4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16.12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8.31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2.82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4.637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3.18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Content Placeholder 3"/>
              <p:cNvSpPr txBox="1"/>
              <p:nvPr/>
            </p:nvSpPr>
            <p:spPr>
              <a:xfrm>
                <a:off x="1219320" y="304920"/>
                <a:ext cx="6095880" cy="22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4"/>
              <p:cNvSpPr txBox="1"/>
              <p:nvPr/>
            </p:nvSpPr>
            <p:spPr>
              <a:xfrm>
                <a:off x="4267080" y="2514600"/>
                <a:ext cx="6858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2" name="Rectangle 6"/>
          <p:cNvSpPr/>
          <p:nvPr/>
        </p:nvSpPr>
        <p:spPr>
          <a:xfrm>
            <a:off x="4952880" y="4114800"/>
            <a:ext cx="1828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ute the orbit of the cubing function f(z) = z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**will be periodi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3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9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7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[1, 21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[1,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/10]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iod 4 (because 4 values create the repeating patter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609480"/>
            <a:ext cx="8763120" cy="58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 cup of hot tea with temperature 105˚F is left in a room with temperature 68˚F.  Suppose that the difference in the two temperatures is decreasing by 7% each minut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Write a discrete dynamical system to describe th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(t) = .93 (t – 68) + 6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how long does it take the tea to cool to 80˚F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bout 16 minu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age 560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3 – 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P. 568 – 569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2 – 6, 11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EFINITI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undamental Theorem of Algebra: Every polynomial of degree n ≥ 1 with complex coefficients has at least one complex z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ultiplicity: has a zero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ple zero: not repe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g.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1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9x + 14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x + 7) (x + 2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2), x =-7 (simple) , x = -2 (simpl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46748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MULT:2 (ACTS LIKE A PARABOLA)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SIMPLE ZEROES (ACT LIKE LINES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rcRect l="12502" t="10001" r="69377" b="67005"/>
          <a:stretch/>
        </p:blipFill>
        <p:spPr>
          <a:xfrm>
            <a:off x="990720" y="1484280"/>
            <a:ext cx="63244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OR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mber of zeros of a polynomial:  A polynomial of degree n with complex coefficients has exactly n complex zeros, if multiplicities are count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ll the solutions and their multiplicities to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x – 6) = 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2x – 3)(x + 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0 (mult. 3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3/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x = -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rcRect l="12502" t="12000" r="68751" b="65002"/>
          <a:stretch/>
        </p:blipFill>
        <p:spPr>
          <a:xfrm>
            <a:off x="295200" y="380880"/>
            <a:ext cx="8163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AMPL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924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d a polynomial of degree 4 that has simple zeros -4 and .125 and 3i with multiplicity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x – 1/8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 x + 4)(8x – 1)(x – 3i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8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31 – 48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+ (-76 – 186i)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(279 + 24i)x + 3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551 – 552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, 6 – 8, 10 - 11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3:13:32Z</dcterms:created>
  <dc:creator>Laura Helbing</dc:creator>
  <dc:description/>
  <dc:language>en-US</dc:language>
  <cp:lastModifiedBy>Laura Helbing</cp:lastModifiedBy>
  <dcterms:modified xsi:type="dcterms:W3CDTF">2012-03-28T14:47:13Z</dcterms:modified>
  <cp:revision>20</cp:revision>
  <dc:subject/>
  <dc:title>The Number of Zeros of a Polynomial</dc:title>
</cp:coreProperties>
</file>