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F5B3-BD0E-4904-8FA7-C1834DF7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727-3E9B-43D0-A3CE-777D5D14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4E72-1443-4836-8D27-3A60F129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6080-F3BE-47F5-980A-A8AF1E95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0433-6EF8-40B7-8B2F-5ACD9A6E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2B10-2644-45AE-82BC-6367BAEB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758C-B08D-4609-9F81-BAEBEBF3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4D94-AA94-4D21-A364-8BB0AFF0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B06F-E2DF-43BC-A6E8-66BC8257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0088-342E-4888-A6B6-CFE1BA6C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08E7-66C4-439C-909A-60A271D0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4B9-5C5D-49F7-984B-327EFCDD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0012-713D-44E5-AA08-2274EE94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B336-C46E-4C29-A35F-8C51936A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DA04-E4E3-4AC5-BF56-967F9D1A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6237-595B-4C0D-8AA8-BA7C55A1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958B-828D-46DD-BD2A-8F2686C6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12C30-BDCE-4B67-8C07-168020BF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BE43F-8A0A-4384-9BBB-87A684DA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1B88F-B1CE-42B4-B2BE-ACB2FE51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CA303-1C9A-4080-9ABD-5D881BB3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488D9-B128-410B-973E-2AF57F8C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615-C68E-47E4-9DDD-ECD2BDF6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CE3C7-650C-4267-A87D-650AE7B6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1B71D-43DD-4173-89D4-6E9E302F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DF75E-AE78-4E1E-9980-1B6C291B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9C97F-75CF-41E1-921E-E892773D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B8278-A571-4729-B9E7-6076E0E4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BBA80-4059-4EEC-95AC-A9A59DD7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6832F-2EA9-43C7-A47F-8E342578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3D8F5-37E5-408F-BEF3-4E70115A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638FB-21F1-48CF-B162-E6C311B5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839A9-748B-46A9-B93A-74DE826D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B7B-5029-486C-8286-549F4328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5F1E1-B2F2-4928-B667-EE800C70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C7CE5-D065-4280-ADDC-28C8F92C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D5073-F141-442F-A559-35DA4DB2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AC68D-7084-4212-9FDA-FF05F2C9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071D8-DC12-4FD3-8553-A0CE5699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E21D2-75D6-4C5E-A50F-95CC6066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11362-0F5D-4842-83EB-548C2621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D8E8F-B605-4D05-88E5-6557DB84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49D87-FEE4-457F-A633-44A1E7F4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3417C-977E-42D3-82F6-E0BCD5E6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440-2489-4030-9234-BF2FB81F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BE072-CDCA-4D23-BDAD-CC40F2F5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94D4F-C00C-47AA-9F32-E0F557BB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3E8613-9E3F-41D7-B5CD-22334F72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F38CD-7602-4AA8-8AE2-E675ECCD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A93B75-1B55-4279-B485-1204B4F7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5325D-091C-48A9-B812-BCDB7CEA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5E16F-8C42-4ED6-93F2-30A9E040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E861DD-5D4A-453B-A54C-08ED1D82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A27D2-A44C-49EC-B53E-05AE01C6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2625D-4D9A-47C2-ABA5-4FD25A3B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44F-1392-4042-BC3E-1741D239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9410E-1825-4817-8E4D-77AAEE6E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B829D2-92F1-48D1-B930-E1F9B1CE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F85DC-B23D-4CEE-9654-3C36A2CE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81DB98-74C9-4C79-950E-C28DE890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ECABB5-3B41-487B-8C35-62ACAF4E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02AFF-B2D1-400B-B4D9-E1E59480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751FF3-6023-4E62-8F75-76DE1205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4221B6-6B30-49CD-BF80-96335CB6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FF4957-A55A-46F0-9FB6-B6102FC2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910244-DC9A-48CA-97CD-40F0D4FA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A676-2EB2-4277-89D2-631C6AC1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3C6BB-7F0D-45C6-8D6E-559B7C3A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A9CE5-C709-48DF-93B6-A5F92ED8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2ABB4C-4A58-4DC2-8CD1-5556B44F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39E151-5B79-41A1-B3F7-F552C111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03361A-1EBC-4EBD-ACE1-D9D69CA8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34BA23-2918-4E46-802F-E03CC256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3B911-32B7-486E-9912-4109D335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2163B-F38C-4500-BB6C-BE209CB2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21FBB2-738A-4869-93B2-68BE0FE2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A348A9-A34F-4029-8132-D1D7F374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19E-8F81-44B7-A8AA-77B65B50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F142AF-EA63-495C-BFD6-D0093D3D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41E825-F353-412F-B29E-2258E512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8A20B-E047-405E-8D88-78756B97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B6AE80-DBDA-44D1-A741-654F981F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7A21E7-015D-4F7E-8146-43229797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9F4-161D-439A-A418-4A41FC6A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A89B-7430-4A97-B281-EB2FF84BCD1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5823-B95E-4AD5-88C4-D5573224A1C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6A3B-2B27-4FC1-A36D-0BC7DB42981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67C6-AA67-4452-8381-85602FB5F4A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25E1-E739-4B11-A88F-8052030A6D0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2D6F-1BF1-46ED-AC4F-CECA2458C49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F237-9A8F-438F-8335-56F581FBFB8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THE NUMBER OF ZEROS OF A POLYNOMI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esson 9.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NONREAL ZEROS OF POLYNOMIALS WITH REAL COEFFICI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971800" y="2438280"/>
            <a:ext cx="2743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Lesson 9.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AOS THEORY IN PRESENT DAY 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Butterfly Eff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berty Mutual Commer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rectv Commerci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ine the complex zeros of polynomials with real coeffici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e that they occur in conjugate pai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w they change continuously as the constant coefficient of the polynomial changes continuousl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roduce some discrete dynamical systems, iterating functions from a set onto itself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OALS FOR THE DAY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(x) is a polynomial with real coefficients.  If the nonreal number z = a + bi is a zero of p(x), then its complex conjugate z = a – bi is also a z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JUGATE ZEROS THEORE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ider the equation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7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8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68t = 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. Verify that 2i is a solu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(2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7(2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 8(2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68(2i) = 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0 +-136i +-32 + 136i = 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8 = 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. Find the remaining solutions and their multiplic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- 2i  so x + 2i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4  divide throug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7x – 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5x – 3) (x + 4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3/5, x = -4, x = 2i, x = -2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a polynomial of smallest degree that has real coefficients and zeros i + 1 and 3i +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nge them: 1 + i and 1 + 3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 also 1 – i and 1 – 3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 – (1+i))(x - (1-i)) (x – (1+3i)) (x - (1-3i)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 - 1- i)(x-1+i)(x-1-3i)(x-1+3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–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24x + 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curve on the next slide is the graph of y = k(x) for a polynomial k(x) of degree 5 with real coefficients.   The x-axis has been removed.  Sketch in the x-axis so that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. k(x) has exactly one real zero, which is positiv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(x) has exactly two real zeros, one simple and one with multiplicity 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5" name="Straight Arrow Connector 4"/>
          <p:cNvCxnSpPr/>
          <p:nvPr/>
        </p:nvCxnSpPr>
        <p:spPr>
          <a:xfrm>
            <a:off x="3808800" y="304920"/>
            <a:ext cx="2520" cy="6199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sp>
        <p:nvSpPr>
          <p:cNvPr id="386" name="Freeform 17"/>
          <p:cNvSpPr/>
          <p:nvPr/>
        </p:nvSpPr>
        <p:spPr>
          <a:xfrm>
            <a:off x="304920" y="1371600"/>
            <a:ext cx="8339040" cy="516744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8"/>
          <p:cNvSpPr/>
          <p:nvPr/>
        </p:nvSpPr>
        <p:spPr>
          <a:xfrm>
            <a:off x="457200" y="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k(x) has exactly one real zero, which is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Straight Arrow Connector 20"/>
          <p:cNvCxnSpPr/>
          <p:nvPr/>
        </p:nvCxnSpPr>
        <p:spPr>
          <a:xfrm>
            <a:off x="380880" y="1752120"/>
            <a:ext cx="838260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9" name="Straight Arrow Connector 3"/>
          <p:cNvCxnSpPr/>
          <p:nvPr/>
        </p:nvCxnSpPr>
        <p:spPr>
          <a:xfrm>
            <a:off x="3808800" y="304920"/>
            <a:ext cx="2520" cy="6199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sp>
        <p:nvSpPr>
          <p:cNvPr id="390" name="Freeform 4"/>
          <p:cNvSpPr/>
          <p:nvPr/>
        </p:nvSpPr>
        <p:spPr>
          <a:xfrm>
            <a:off x="304920" y="1371600"/>
            <a:ext cx="8339040" cy="516744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304920" y="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(x) has exactly two real zeros, one simple and one with multiplicity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Straight Arrow Connector 7"/>
          <p:cNvCxnSpPr/>
          <p:nvPr/>
        </p:nvCxnSpPr>
        <p:spPr>
          <a:xfrm>
            <a:off x="380520" y="4038480"/>
            <a:ext cx="8154360" cy="7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RBI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Orbit (expressed O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) is a sequence which begins with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then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, then f(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), f(f(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), and so on.  Depending on the initial value, a pattern may develo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typ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periodic (like the sine function) –any time the argument is a rational multiple of 2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aperiodic – never repeats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A small change in the initial value could have a huge impact on the end behavior of the fun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BJECTIV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nd all zeros of a given polynomial and their multipliciti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 the properties of polynomials to find or describe their zero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Content Placeholder 2"/>
          <p:cNvSpPr/>
          <p:nvPr/>
        </p:nvSpPr>
        <p:spPr>
          <a:xfrm>
            <a:off x="609480" y="1295280"/>
            <a:ext cx="746784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 n is the number underneath the square root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 the recurrence re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ORMULA FOR APPROXIMATING SQUARE ROO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Content Placeholder 3"/>
              <p:cNvSpPr txBox="1"/>
              <p:nvPr/>
            </p:nvSpPr>
            <p:spPr>
              <a:xfrm>
                <a:off x="1219320" y="1596960"/>
                <a:ext cx="6095880" cy="19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 this to approximate           .  For now, let’s pick an initial value of 3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3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2.8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16.12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2.82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8.31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2.82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4.63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3.18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Content Placeholder 3"/>
              <p:cNvSpPr txBox="1"/>
              <p:nvPr/>
            </p:nvSpPr>
            <p:spPr>
              <a:xfrm>
                <a:off x="1219320" y="304920"/>
                <a:ext cx="6095880" cy="22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4"/>
              <p:cNvSpPr txBox="1"/>
              <p:nvPr/>
            </p:nvSpPr>
            <p:spPr>
              <a:xfrm>
                <a:off x="4267080" y="2514600"/>
                <a:ext cx="6858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2" name="Rectangle 6"/>
          <p:cNvSpPr/>
          <p:nvPr/>
        </p:nvSpPr>
        <p:spPr>
          <a:xfrm>
            <a:off x="4952880" y="4114800"/>
            <a:ext cx="18288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ute the orbit of the cubing function f(z) = 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or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[1,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*will be periodi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3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9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27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[1, 7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21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[1,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iod 4 (because 4 values create the repeating patter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0" y="609480"/>
            <a:ext cx="8763120" cy="58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cup of hot tea with temperature 105˚F is left in a room with temperature 68˚F.  Suppose that the difference in the two temperatures is decreasing by 7% each minut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rite a discrete dynamical system to describe thi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f(t) = .93 (t – 68) + 6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bout how long does it take the tea to cool to 80˚F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bout 16 minu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Page 560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3 – 9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P. 568 – 569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2 – 6, 11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FINIT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ndamental Theorem of Algebra: Every polynomial of degree n ≥ 1 with complex coefficients has at least one complex z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ltiplicity: has a zero repea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mple zero: not repea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g.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9x + 14)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 + 7) (x + 2)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0 (mult. 2), x =-7 (simple) , x = -2 (simpl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MULT:2 (ACTS LIKE A PARABOLA)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IMPLE ZEROES (ACT LIKE LINES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rcRect l="12502" t="10001" r="69377" b="67005"/>
          <a:stretch/>
        </p:blipFill>
        <p:spPr>
          <a:xfrm>
            <a:off x="990720" y="1484280"/>
            <a:ext cx="63244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ORE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umber of zeros of a polynomial:  A polynomial of degree n with complex coefficients has exactly n complex zeros, if multiplicities are count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all the solutions and their multiplicities t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–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x – 6)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2x – 3)(x +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0 (mult. 3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3/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-2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rcRect l="12502" t="12000" r="68751" b="65002"/>
          <a:stretch/>
        </p:blipFill>
        <p:spPr>
          <a:xfrm>
            <a:off x="295200" y="380880"/>
            <a:ext cx="8163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a polynomial of degree 4 that has simple zeros -4 and .125 and 3i with multiplicity 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 x + 4)(x – 1/8)(x – 3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 x + 4)(8x – 1)(x – 3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(31 – 48i)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(-76 – 186i)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– (279 + 24i)x + 3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Pages 551 – 552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1, 6 – 8, 10 - 11 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3:13:32Z</dcterms:created>
  <dc:creator>Laura Helbing</dc:creator>
  <dc:description/>
  <dc:language>en-US</dc:language>
  <cp:lastModifiedBy>Laura Helbing</cp:lastModifiedBy>
  <dcterms:modified xsi:type="dcterms:W3CDTF">2012-03-28T14:47:13Z</dcterms:modified>
  <cp:revision>20</cp:revision>
  <dc:subject/>
  <dc:title>The Number of Zeros of a Polynomial</dc:title>
</cp:coreProperties>
</file>