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B696-8103-451C-8A6D-66DA6B1E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EC55-6970-4FBB-BCA6-6C4E0853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6396-BEBA-4EC1-91F1-3A31B078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28A3-700C-4A4C-A71E-046893E4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E34B-23B5-40C0-9EED-1BC299BC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1CC2-71FC-4773-BEC8-EE2535B8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616F-70D9-4BD8-A4FF-57D71407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261D-DA2A-4A73-8649-4D17DD98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CA6E-F2B6-4384-BEF3-8C1FC4CE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7EB6-D18B-4E09-9F89-6C56B375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0789-DCD8-46B8-997D-62FF9B5E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3FEA-BC28-4FD7-92EE-D32ADA4E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0638-5899-4614-88A1-B7B5DFEE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7208-F456-4B87-95FC-7D3F24C9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857E-B915-4249-8EF0-FC2A48E0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EC4C-E1F4-4AA4-9441-6A56C768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F263-5C9C-4929-824F-A3B83AD3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E2D92-7F73-41A1-9441-EBD98022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279291-7360-43F0-8E3D-CA121805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2D6A24-76DB-4C8A-A4B7-9B0FCF29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9D7927-9EF4-434D-9E80-9D290FE8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CC150-C87D-4DC5-A88F-34D56016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02ED-B4B8-4E46-A5DC-0DA032FF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F0D3DF-20E1-4762-84D1-B81F8C8C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94887D-D094-4A22-987F-F70D3DBA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A8300F-E16D-4292-9947-D233F07B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BCA058-D086-40F9-AD6E-084B4E64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E5EE51-6BD1-4F16-B31C-4DD35F43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4E713D-9247-4476-B3F9-D3A2DCF8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B2BFA-CE02-46C7-875A-6128C417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AF13C-9D3D-4B93-9308-380CFF9A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9DE1D-174C-479D-A8B1-1E5910D1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0BFB5-8023-4454-8B7D-AEE946A5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04E0-E720-4046-A5E3-8FEEA54F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E5233-9EA7-43C0-9198-A869C1BD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49A51-DFD2-490C-8414-170F783A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0BE15-8226-4B5C-B6AF-1BE0C1DE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29A6A-E57D-47DD-B959-4A267846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9DF4A-1FCB-47F1-8AE3-5C08FF43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5BF5E-66D4-40A8-9323-5F50B2DE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A7863-BCB7-41FD-A001-D883D628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9DF6E-FAB3-4207-BA21-1A75030E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B6CCC-0046-4639-91B1-845DDCAD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98202A-AAA7-4109-BC21-1B89314A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6699-9DB7-43AC-89CE-8BDF175A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891F44-89A2-4F70-9891-3A5A8449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99B04F-9D21-4892-9764-35B17944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9E01A9-5D12-4343-92C3-833553DB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C5E6F3-0044-4EDC-9A6C-CF58D619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3DCEC0-8458-4F8B-A39E-21A66A0F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88D055-8E93-4194-85B8-A728CC7C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AA9696-303B-4C09-B3BA-807D7CAB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D69FFB-D370-4F06-B3B6-182BA6E2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03C4DC-11DA-446B-B00A-20FE88EB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BB9C7F-058B-4976-BE06-DD378C4B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8B22-7BEF-4EC7-B965-C80CE6BB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162698-104D-4207-95AD-FA3EBBF4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379FA0-1D49-4354-8D93-473BB8FB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CEA7B5-AE24-4A2F-BCBF-371C4D90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93D494-7BFC-4835-88FF-1EF92839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4AEFE7-2181-476C-967B-C12D6A23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49D3AD-BC79-449D-96D2-B29BBFF5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6EF0E7-C44C-41FA-A698-4385F905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78EDD3-AFDC-4B4A-A633-32166A97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F98408-C9F4-4F15-9084-F3EC23C0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C46A51-D29E-4C70-AAC4-689EEB37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A476-D0B1-4BD4-A5B5-4D973446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9F4D72-D449-44FC-A150-A2200051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D92971-8AC7-41A2-B11C-7606A170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A12500-B425-438F-87FE-86050D64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8471F8-6E77-40E0-ACCB-842AD21E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4E0B71-28DD-4760-AC7B-0D4267B2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2A1C4A-DBFE-4563-931E-FD0ACB99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D73713-9F5C-49B9-8BDE-A4C6E6DE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A2A482-899B-4F9D-8B5D-3DF723A1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E4919B-AC33-4061-AC23-E924ABCE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B81D0F-C9C7-48DF-ADD7-D434ABE0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ADBC-FFC3-4E15-970D-E05B767C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C9DF92-652D-4E44-8E50-11C62A2E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17604C-0FC4-42F5-BAB4-D6225F3D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A3C972-7918-4D4F-984D-76FC70EF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1FB093-25E6-47C1-8E16-C5BBA590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5F703A-5865-4DAC-B400-B404C383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BF31-B616-4283-B1BD-9116D329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3874-2F5A-4108-B512-0E5FED0BB30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63C8-00F3-415D-806E-322BF2CA265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93E0-7799-4243-B354-211A877D240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34AF-65FD-4551-A22E-ECC4F63AB16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618A-296B-4985-B8A9-259A5CDE1E9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9D9D-361B-4919-8E21-4350307B4C0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659F-4B15-4734-AD9D-27328062C4E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THE NUMBER OF ZEROS OF A POLYNOMIA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Lesson 9.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NONREAL ZEROS OF POLYNOMIALS WITH REAL COEFFICIEN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2971800" y="2438280"/>
            <a:ext cx="27432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Lesson 9.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AOS THEORY IN PRESENT DAY 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Butterfly Effec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berty Mutual Commerci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irectv Commercia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amine the complex zeros of polynomials with real coeffici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ve that they occur in conjugate pai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ow they change continuously as the constant coefficient of the polynomial changes continuousl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troduce some discrete dynamical systems, iterating functions from a set onto itself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GOALS FOR THE DAY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(x) is a polynomial with real coefficients.  If the nonreal number z = a + bi is a zero of p(x), then its complex conjugate z = a – bi is also a zer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JUGATE ZEROS THEORE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ider the equation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17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8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68t = 4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. Verify that 2i is a solu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(2i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17(2i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 8(2i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68(2i) = 4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0 +-136i +-32 + 136i = 4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8 = 4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. Find the remaining solutions and their multiplic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- 2i  so x + 2i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4  divide throug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17x – 1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5x – 3) (x + 4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 = 3/5, x = -4, x = 2i, x = -2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nd a polynomial of smallest degree that has real coefficients and zeros i + 1 and 3i +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ange them: 1 + i and 1 + 3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 also 1 – i and 1 – 3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x – (1+i))(x - (1-i)) (x – (1+3i)) (x - (1-3i)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x - 1- i)(x-1+i)(x-1-3i)(x-1+3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–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16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24x + 2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2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curve on the next slide is the graph of y = k(x) for a polynomial k(x) of degree 5 with real coefficients.   The x-axis has been removed.  Sketch in the x-axis so that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. k(x) has exactly one real zero, which is positiv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(x) has exactly two real zeros, one simple and one with multiplicity 2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85" name="Straight Arrow Connector 4"/>
          <p:cNvCxnSpPr/>
          <p:nvPr/>
        </p:nvCxnSpPr>
        <p:spPr>
          <a:xfrm>
            <a:off x="3808800" y="304920"/>
            <a:ext cx="2520" cy="61999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  <p:sp>
        <p:nvSpPr>
          <p:cNvPr id="386" name="Freeform 17"/>
          <p:cNvSpPr/>
          <p:nvPr/>
        </p:nvSpPr>
        <p:spPr>
          <a:xfrm>
            <a:off x="304920" y="1371600"/>
            <a:ext cx="8339040" cy="5167440"/>
          </a:xfrm>
          <a:prstGeom prst="pi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8"/>
          <p:cNvSpPr/>
          <p:nvPr/>
        </p:nvSpPr>
        <p:spPr>
          <a:xfrm>
            <a:off x="457200" y="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k(x) has exactly one real zero, which is po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Straight Arrow Connector 20"/>
          <p:cNvCxnSpPr/>
          <p:nvPr/>
        </p:nvCxnSpPr>
        <p:spPr>
          <a:xfrm>
            <a:off x="380880" y="1752120"/>
            <a:ext cx="838260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89" name="Straight Arrow Connector 3"/>
          <p:cNvCxnSpPr/>
          <p:nvPr/>
        </p:nvCxnSpPr>
        <p:spPr>
          <a:xfrm>
            <a:off x="3808800" y="304920"/>
            <a:ext cx="2520" cy="61999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  <p:sp>
        <p:nvSpPr>
          <p:cNvPr id="390" name="Freeform 4"/>
          <p:cNvSpPr/>
          <p:nvPr/>
        </p:nvSpPr>
        <p:spPr>
          <a:xfrm>
            <a:off x="304920" y="1371600"/>
            <a:ext cx="8339040" cy="5167440"/>
          </a:xfrm>
          <a:prstGeom prst="pi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304920" y="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(x) has exactly two real zeros, one simple and one with multiplicity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Straight Arrow Connector 7"/>
          <p:cNvCxnSpPr/>
          <p:nvPr/>
        </p:nvCxnSpPr>
        <p:spPr>
          <a:xfrm>
            <a:off x="380520" y="4038480"/>
            <a:ext cx="8154360" cy="766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RBI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 Orbit (expressed O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) is a sequence which begins with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then 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, then f(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), f(f(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), and so on.  Depending on the initial value, a pattern may develop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wo typ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periodic (like the sine function) –any time the argument is a rational multiple of 2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aperiodic – never repeats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A small change in the initial value could have a huge impact on the end behavior of the fun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BJECTIV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nd all zeros of a given polynomial and their multiplicitie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Use the properties of polynomials to find or describe their zero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Content Placeholder 2"/>
          <p:cNvSpPr/>
          <p:nvPr/>
        </p:nvSpPr>
        <p:spPr>
          <a:xfrm>
            <a:off x="609480" y="1295280"/>
            <a:ext cx="746784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re n is the number underneath the square root and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 the recurrence rel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ORMULA FOR APPROXIMATING SQUARE ROO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Content Placeholder 3"/>
              <p:cNvSpPr txBox="1"/>
              <p:nvPr/>
            </p:nvSpPr>
            <p:spPr>
              <a:xfrm>
                <a:off x="1219320" y="1596960"/>
                <a:ext cx="6095880" cy="19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e this to approximate           .  For now, let’s pick an initial value of 32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3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2.84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16.125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2.82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8.31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2.82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4.63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= 3.18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Content Placeholder 3"/>
              <p:cNvSpPr txBox="1"/>
              <p:nvPr/>
            </p:nvSpPr>
            <p:spPr>
              <a:xfrm>
                <a:off x="1219320" y="304920"/>
                <a:ext cx="6095880" cy="22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4"/>
              <p:cNvSpPr txBox="1"/>
              <p:nvPr/>
            </p:nvSpPr>
            <p:spPr>
              <a:xfrm>
                <a:off x="4267080" y="2514600"/>
                <a:ext cx="68580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02" name="Rectangle 6"/>
          <p:cNvSpPr/>
          <p:nvPr/>
        </p:nvSpPr>
        <p:spPr>
          <a:xfrm>
            <a:off x="4952880" y="4114800"/>
            <a:ext cx="18288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ute the orbit of the cubing function f(z) = 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for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= [1,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10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**will be periodi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[1,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10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[1, 3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10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[1, 9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10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[1, 27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10]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[1, 7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10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[1, 21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10]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[1,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10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iod 4 (because 4 values create the repeating pattern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4674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3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0" y="609480"/>
            <a:ext cx="8763120" cy="586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 cup of hot tea with temperature 105˚F is left in a room with temperature 68˚F.  Suppose that the difference in the two temperatures is decreasing by 7% each minut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Write a discrete dynamical system to describe thi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f(t) = .93 (t – 68) + 68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bout how long does it take the tea to cool to 80˚F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bout 16 minu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Page 560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3 – 9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P. 568 – 569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2 – 6, 11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MEWOR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EFINITION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undamental Theorem of Algebra: Every polynomial of degree n ≥ 1 with complex coefficients has at least one complex zer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ultiplicity: has a zero repeat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mple zero: not repeat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g.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9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1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9x + 14) = 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x + 7) (x + 2) = 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 = 0 (mult. 2), x =-7 (simple) , x = -2 (simpl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746748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MULT:2 (ACTS LIKE A PARABOLA)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IMPLE ZEROES (ACT LIKE LINES)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1"/>
          <a:srcRect l="12502" t="10001" r="69377" b="67005"/>
          <a:stretch/>
        </p:blipFill>
        <p:spPr>
          <a:xfrm>
            <a:off x="990720" y="1484280"/>
            <a:ext cx="632448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ORE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umber of zeros of a polynomial:  A polynomial of degree n with complex coefficients has exactly n complex zeros, if multiplicities are count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nd all the solutions and their multiplicities t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– 6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x – 6) = 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2x – 3)(x + 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 = 0 (mult. 3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 = 3/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 = -2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rcRect l="12502" t="12000" r="68751" b="65002"/>
          <a:stretch/>
        </p:blipFill>
        <p:spPr>
          <a:xfrm>
            <a:off x="295200" y="380880"/>
            <a:ext cx="816300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2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nd a polynomial of degree 4 that has simple zeros -4 and .125 and 3i with multiplicity 2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 x + 4)(x – 1/8)(x – 3i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 x + 4)(8x – 1)(x – 3i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(31 – 48i)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(-76 – 186i)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– (279 + 24i)x + 3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MEWOR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Pages 551 – 552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1, 6 – 8, 10 - 11 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3:13:32Z</dcterms:created>
  <dc:creator>Laura Helbing</dc:creator>
  <dc:description/>
  <dc:language>en-US</dc:language>
  <cp:lastModifiedBy>Laura Helbing</cp:lastModifiedBy>
  <dcterms:modified xsi:type="dcterms:W3CDTF">2012-03-28T14:47:13Z</dcterms:modified>
  <cp:revision>20</cp:revision>
  <dc:subject/>
  <dc:title>The Number of Zeros of a Polynomial</dc:title>
</cp:coreProperties>
</file>