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8DE8-0CB3-4E60-9CD7-36DCC31F4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3468-42C2-4F62-B3B9-5C17AEF8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AA20-A90B-4D0F-9D66-2F3CD4556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1936-C3C5-44F3-A58A-A82EE3877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F07DF-571D-4BD5-80F7-0D08283AA8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57224-1264-4510-92EE-0DD412397A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0F5D2-876E-4884-B384-A79DA36619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3C078-7824-4FAA-805F-ED55113A2E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12AAC-7F6E-41AE-94CE-A31E250ADB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A74A4-FF2D-4C58-BFEF-2CDAA29DAA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0542B-5908-4C0B-A744-9CFDE01DF0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4547-8C08-4D66-86B3-1707F6E0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E9C6A-F2F9-4C04-BA56-BBACC5A2FD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0088B-6AD8-46DF-8114-41953C164D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C3533-0F62-4C15-8695-D91569BA4B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760177-AA6A-4DB0-BCD3-CFF4AA2E67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C0993-E86F-4DF5-BBC5-7E9A4505BD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0BFF-3D62-4611-9AA6-DE98A77E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FAAE-9B42-4441-A598-EC99A56C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ABCD-4071-472B-A09E-EEF540EF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078C-0462-4767-9E07-B67A94F4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C933-CD6F-48C8-9195-755F1F32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554A-910F-46FB-BB3E-894C83F9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9CFD-68E0-43BA-AAF4-2D63029B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99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 rot="16200000">
            <a:off x="-1218960" y="5181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85C4-9B63-4473-97B3-409EF4D811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99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2E50-F8AF-49B8-B196-B0EA0E9549D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easures of Angles and Rota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son 4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xample 4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revolutions equal 7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2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Footer Placeholder 3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0EBA-CAE8-46E8-97E6-F96C907AAD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Object 4"/>
          <p:cNvGraphicFramePr/>
          <p:nvPr/>
        </p:nvGraphicFramePr>
        <p:xfrm>
          <a:off x="1981080" y="2819520"/>
          <a:ext cx="4756320" cy="103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819520"/>
                    <a:ext cx="475632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TextBox 6"/>
          <p:cNvSpPr/>
          <p:nvPr/>
        </p:nvSpPr>
        <p:spPr>
          <a:xfrm>
            <a:off x="2525400" y="4800600"/>
            <a:ext cx="39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.75 revolu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Pages 236 – 238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2 – 30 evens!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Footer Placeholder 3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A352-D870-4E22-A6A2-50B9C38CAC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2EC2-0B32-4C6C-983D-DDBCD22B46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adian Measur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02" name="Object 4"/>
          <p:cNvGraphicFramePr/>
          <p:nvPr/>
        </p:nvGraphicFramePr>
        <p:xfrm>
          <a:off x="3048120" y="4756320"/>
          <a:ext cx="3047760" cy="103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4756320"/>
                    <a:ext cx="304776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2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adians in a full rotation -- once around the cir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02320" indent="-20232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360° in a full rotation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02320" indent="-20232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convert from degrees to radians or radians to degrees, use the propor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D1C4-D95D-47C7-9F58-36BE367E75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ample Problem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 the degree measure equivalent of       radia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5257800" y="3505320"/>
          <a:ext cx="2651040" cy="33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3505320"/>
                    <a:ext cx="26510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5"/>
          <p:cNvGraphicFramePr/>
          <p:nvPr/>
        </p:nvGraphicFramePr>
        <p:xfrm>
          <a:off x="1065240" y="3505320"/>
          <a:ext cx="2897280" cy="31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5240" y="3505320"/>
                    <a:ext cx="28972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1600200" y="2624040"/>
          <a:ext cx="538200" cy="88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2624040"/>
                    <a:ext cx="538200" cy="8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Rectangle 7"/>
          <p:cNvSpPr/>
          <p:nvPr/>
        </p:nvSpPr>
        <p:spPr>
          <a:xfrm>
            <a:off x="480060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 the radian measure equivalent of 210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4648320" y="1905120"/>
            <a:ext cx="0" cy="4952880"/>
          </a:xfrm>
          <a:prstGeom prst="line">
            <a:avLst/>
          </a:prstGeom>
          <a:ln w="763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3232-3E9A-4939-94C4-83BBBFF2DC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Unit Circl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7238880" y="2286000"/>
            <a:ext cx="0" cy="36576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5334120" y="4191120"/>
            <a:ext cx="38098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Oval 6"/>
          <p:cNvSpPr/>
          <p:nvPr/>
        </p:nvSpPr>
        <p:spPr>
          <a:xfrm>
            <a:off x="6248520" y="3276720"/>
            <a:ext cx="1904760" cy="1828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Oval 7"/>
          <p:cNvSpPr/>
          <p:nvPr/>
        </p:nvSpPr>
        <p:spPr>
          <a:xfrm>
            <a:off x="7620120" y="3352680"/>
            <a:ext cx="182520" cy="182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agine a circle on the coordinate plane, with its center at the origin, and a radius of 1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oose a point on the circle somewhere in quadrant 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xamples!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Draw a circle and rays showing a rotation of 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4 radia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Footer Placeholder 3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409F-6E82-4ED8-B4FB-37C8C33F89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Oval 6"/>
          <p:cNvSpPr/>
          <p:nvPr/>
        </p:nvSpPr>
        <p:spPr>
          <a:xfrm>
            <a:off x="2819520" y="2895480"/>
            <a:ext cx="3886200" cy="37339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0" name="Straight Arrow Connector 9"/>
          <p:cNvCxnSpPr/>
          <p:nvPr/>
        </p:nvCxnSpPr>
        <p:spPr>
          <a:xfrm>
            <a:off x="4723920" y="4800600"/>
            <a:ext cx="2667960" cy="216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1" name="Straight Arrow Connector 11"/>
          <p:cNvCxnSpPr/>
          <p:nvPr/>
        </p:nvCxnSpPr>
        <p:spPr>
          <a:xfrm flipV="1">
            <a:off x="4724280" y="3123360"/>
            <a:ext cx="1829520" cy="167724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32" name="TextBox 15"/>
          <p:cNvSpPr/>
          <p:nvPr/>
        </p:nvSpPr>
        <p:spPr>
          <a:xfrm>
            <a:off x="5414040" y="426708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5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xample 1 continued!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 two other radian measures of the same rotation.  (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4 + 2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9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4 - 2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-7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Footer Placeholder 3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B2C4-F972-483F-A28F-981B3C4613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xample 2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rt 31.4159 radians to degre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Footer Placeholder 3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1D6F-F0BF-4963-B720-1FCB09B1E0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1" name="Object 4"/>
          <p:cNvGraphicFramePr/>
          <p:nvPr/>
        </p:nvGraphicFramePr>
        <p:xfrm>
          <a:off x="2362320" y="2743200"/>
          <a:ext cx="3047760" cy="103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743200"/>
                    <a:ext cx="304776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4"/>
          <p:cNvGraphicFramePr/>
          <p:nvPr/>
        </p:nvGraphicFramePr>
        <p:xfrm>
          <a:off x="1828800" y="4114800"/>
          <a:ext cx="4421160" cy="103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4114800"/>
                    <a:ext cx="442116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TextBox 7"/>
          <p:cNvSpPr/>
          <p:nvPr/>
        </p:nvSpPr>
        <p:spPr>
          <a:xfrm>
            <a:off x="3139200" y="5715000"/>
            <a:ext cx="382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= 1799.99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800 degre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xample 3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rt 42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radians approximatel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Footer Placeholder 3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7AA6-959C-438E-A807-65CA55969D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2362320" y="2743200"/>
          <a:ext cx="3047760" cy="103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743200"/>
                    <a:ext cx="304776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4"/>
          <p:cNvGraphicFramePr/>
          <p:nvPr/>
        </p:nvGraphicFramePr>
        <p:xfrm>
          <a:off x="2666880" y="3886200"/>
          <a:ext cx="2544840" cy="103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886200"/>
                    <a:ext cx="254484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Box 7"/>
          <p:cNvSpPr/>
          <p:nvPr/>
        </p:nvSpPr>
        <p:spPr>
          <a:xfrm>
            <a:off x="3146040" y="5715000"/>
            <a:ext cx="449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x = .73 radian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8F2C-787D-466A-8971-C2ECC776D0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itle 1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xample 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Content Placeholder 2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rt 42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radians exactl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9" name="Object 4"/>
          <p:cNvGraphicFramePr/>
          <p:nvPr/>
        </p:nvGraphicFramePr>
        <p:xfrm>
          <a:off x="1905120" y="3352680"/>
          <a:ext cx="4822560" cy="103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352680"/>
                    <a:ext cx="482256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TextBox 8"/>
          <p:cNvSpPr/>
          <p:nvPr/>
        </p:nvSpPr>
        <p:spPr>
          <a:xfrm>
            <a:off x="3521520" y="5257800"/>
            <a:ext cx="384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 </a:t>
            </a:r>
            <a:r>
              <a:rPr b="1" lang="el-GR" sz="44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/ 30 radia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4T15:24:57Z</dcterms:created>
  <dc:creator>Carolyn C. Wheater</dc:creator>
  <dc:description/>
  <dc:language>en-US</dc:language>
  <cp:lastModifiedBy>teacher</cp:lastModifiedBy>
  <dcterms:modified xsi:type="dcterms:W3CDTF">2010-11-17T02:27:59Z</dcterms:modified>
  <cp:revision>80</cp:revision>
  <dc:subject/>
  <dc:title>Trigonometry</dc:title>
</cp:coreProperties>
</file>