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283-3CB1-4FB0-ABCA-487A2D98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BE2-1D5D-4600-A88F-B92979B9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EC7-C038-480D-858B-A01E523C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B83-AA72-40F0-92C3-DFF9E6DC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47AA1-2DB8-40D3-995E-2304075043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1F44D-9767-44F5-9164-2D909BD42B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1DC12-8DFC-453B-A38B-1CD508DB28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E8F92-38D5-45C0-BEF5-DABF6F928E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D4EDE-63B4-4867-9310-A8635D3077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CD610-75C5-4A92-8FD6-ADA3DA6C00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2DA60-9452-4FFD-8AC3-5204E7D49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22B-B7D3-4BC3-80E2-024D82D3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B6598-3183-4E2F-8C02-503162612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A02CD-197F-45B3-B827-511F42DD54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53DD7-5F81-4FFE-9B51-440167846E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EFDBB-39F7-47FD-A9DE-9D3DB6E1B8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97538-C9FF-4169-88E8-DCE303935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4FB5-83A1-4E99-A3FC-B8432ED3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950-57DD-46A2-B3A2-512C0257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DB7-3B82-4CD1-8B53-7A372334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2E4-CD1E-45F2-9518-C9F82606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D1E-7946-4C36-8E96-C27BA06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F48-A983-45D8-9268-2BA005E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45BF-9256-4F17-AE3A-CD50564C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16200000">
            <a:off x="-1218960" y="5181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1EAB-5B9B-4B09-8EB3-0909E91D8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2"/>
            </a:gs>
            <a:gs pos="50000">
              <a:srgbClr val="000066"/>
            </a:gs>
            <a:gs pos="100000">
              <a:srgbClr val="00002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000022"/>
              </a:gs>
              <a:gs pos="50000">
                <a:srgbClr val="9999ff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22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50000">
                <a:srgbClr val="000048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prstGeom prst="pie">
            <a:avLst/>
          </a:prstGeom>
          <a:gradFill rotWithShape="0">
            <a:gsLst>
              <a:gs pos="0">
                <a:srgbClr val="000048"/>
              </a:gs>
              <a:gs pos="50000">
                <a:srgbClr val="000066"/>
              </a:gs>
              <a:gs pos="100000">
                <a:srgbClr val="00004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B19A-4E7C-4CAF-8F6E-4A6D97DBA10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asures of Angles and Rotatio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4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revolutions equal 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3E51-A385-4C2D-87D7-92B95698E4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1981080" y="2819520"/>
          <a:ext cx="475632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19520"/>
                    <a:ext cx="475632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6"/>
          <p:cNvSpPr/>
          <p:nvPr/>
        </p:nvSpPr>
        <p:spPr>
          <a:xfrm>
            <a:off x="2525400" y="4800600"/>
            <a:ext cx="39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.75 revolu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Pages 236 – 238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2 – 30 evens!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C86C-3D60-460B-9763-60DB3B2CA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1031-6FC2-47A7-983A-0DAB22188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adian Measu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048120" y="475632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75632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dians in a full rotation -- once around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60° in a full rotation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02320" indent="-20232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vert from degrees to radians or radians to degrees, use the propor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FFB3-D36E-4CF5-8497-172BC0CF52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Sample Problem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degree measure equivalent of      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5257800" y="3505320"/>
          <a:ext cx="2651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505320"/>
                    <a:ext cx="2651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1065240" y="3505320"/>
          <a:ext cx="2897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5240" y="3505320"/>
                    <a:ext cx="2897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6"/>
          <p:cNvGraphicFramePr/>
          <p:nvPr/>
        </p:nvGraphicFramePr>
        <p:xfrm>
          <a:off x="1600200" y="2624040"/>
          <a:ext cx="538200" cy="8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624040"/>
                    <a:ext cx="538200" cy="8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480060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the radian measure equivalent of 210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648320" y="1905120"/>
            <a:ext cx="0" cy="495288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E3DA-E43D-4371-9161-45A0EC818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Unit Circ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7238880" y="228600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5334120" y="4191120"/>
            <a:ext cx="3809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6248520" y="3276720"/>
            <a:ext cx="1904760" cy="1828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7620120" y="33526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ine a circle on the coordinate plane, with its center at the origin, and a radius of 1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a point on the circle somewhere in quadrant 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s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Draw a circle and rays showing a rotation of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radia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F7E4-6BA3-4DAF-9AFB-4D3D7F83E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2819520" y="2895480"/>
            <a:ext cx="3886200" cy="3733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0" name="Straight Arrow Connector 9"/>
          <p:cNvCxnSpPr/>
          <p:nvPr/>
        </p:nvCxnSpPr>
        <p:spPr>
          <a:xfrm>
            <a:off x="4723920" y="4800600"/>
            <a:ext cx="2667960" cy="216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1" name="Straight Arrow Connector 11"/>
          <p:cNvCxnSpPr/>
          <p:nvPr/>
        </p:nvCxnSpPr>
        <p:spPr>
          <a:xfrm flipV="1">
            <a:off x="4724280" y="3123360"/>
            <a:ext cx="1829520" cy="1677240"/>
          </a:xfrm>
          <a:prstGeom prst="straightConnector1">
            <a:avLst/>
          </a:prstGeom>
          <a:ln w="76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2" name="TextBox 15"/>
          <p:cNvSpPr/>
          <p:nvPr/>
        </p:nvSpPr>
        <p:spPr>
          <a:xfrm>
            <a:off x="5414040" y="42670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5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1 continued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wo other radian measures of the same rotation.  (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+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9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 - 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-7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3040-736D-4E66-B0AC-3583860D1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31.4159 radians to degre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FF1D-114F-40E0-B6D1-935E9FDF9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4"/>
          <p:cNvGraphicFramePr/>
          <p:nvPr/>
        </p:nvGraphicFramePr>
        <p:xfrm>
          <a:off x="1828800" y="4114800"/>
          <a:ext cx="442116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114800"/>
                    <a:ext cx="44211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7"/>
          <p:cNvSpPr/>
          <p:nvPr/>
        </p:nvSpPr>
        <p:spPr>
          <a:xfrm>
            <a:off x="3139200" y="5715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 1799.99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1800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approximate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57F2-D296-469A-B3D3-134171651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2362320" y="2743200"/>
          <a:ext cx="30477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743200"/>
                    <a:ext cx="30477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"/>
          <p:cNvGraphicFramePr/>
          <p:nvPr/>
        </p:nvGraphicFramePr>
        <p:xfrm>
          <a:off x="2666880" y="3886200"/>
          <a:ext cx="2544840" cy="103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254484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Box 7"/>
          <p:cNvSpPr/>
          <p:nvPr/>
        </p:nvSpPr>
        <p:spPr>
          <a:xfrm>
            <a:off x="3146040" y="5715000"/>
            <a:ext cx="449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 = .73 radi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 rot="16200000">
            <a:off x="-1218960" y="5181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Carolyn C. Wheater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DA0E-FFEA-41EF-9230-742AC31AA2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Content Placeholder 2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42</a:t>
            </a:r>
            <a:r>
              <a:rPr b="0" lang="el-GR" sz="3200" spc="-1" strike="noStrike">
                <a:solidFill>
                  <a:srgbClr val="ffffff"/>
                </a:solidFill>
                <a:latin typeface="Times New Roman"/>
              </a:rPr>
              <a:t>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radians exactl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905120" y="3352680"/>
          <a:ext cx="482256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48225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Box 8"/>
          <p:cNvSpPr/>
          <p:nvPr/>
        </p:nvSpPr>
        <p:spPr>
          <a:xfrm>
            <a:off x="3521520" y="5257800"/>
            <a:ext cx="38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/ 30 radi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5:24:57Z</dcterms:created>
  <dc:creator>Carolyn C. Wheater</dc:creator>
  <dc:description/>
  <dc:language>en-US</dc:language>
  <cp:lastModifiedBy>teacher</cp:lastModifiedBy>
  <dcterms:modified xsi:type="dcterms:W3CDTF">2010-11-17T02:27:59Z</dcterms:modified>
  <cp:revision>80</cp:revision>
  <dc:subject/>
  <dc:title>Trigonometry</dc:title>
</cp:coreProperties>
</file>