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C757-668C-4FB1-8E08-81BF35BC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CCF-5BB9-4831-A6B7-96B24F70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1A1-1F4C-4443-81FB-0D4EAA03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61C-E267-4370-B9BA-CA171188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20510-A599-4724-A29E-ABF8E2BEEF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A459F-885F-4293-BEF4-4234EB6F92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6DD4A-6874-4AD4-9F68-E63B8D19F7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703E4-32C0-4DB4-8476-53DCEE8624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C253E-899A-41FC-B26A-7E52ACB959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D2241-4DD6-4DBD-91F6-738C211E17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9618D-19F9-49C6-B5DE-55BAEFF107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796-6186-4436-96B0-19E9CAA3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4E448-F2B4-4E62-A2F0-17392A0A48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978C6-80F8-4CB4-A0FE-CA838D79A4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3AA24-953B-4D02-BE2C-488E126F14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A7065-179F-472B-AFF7-845EE20751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9332F-EA67-4AA7-9B65-692C908D65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369-7399-4593-B4E2-BE455BD8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381-9AFD-4B8E-94A4-82F78C69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32EF-72A9-4A00-87D1-49BE3529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951F-AB74-43B1-8261-8E33CAD2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233-49BE-4978-8511-31F5D230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F99-13F1-4531-BDA4-4E6555B3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3A2-124D-4956-A2EF-C1C6FF5B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16200000">
            <a:off x="-1218960" y="5181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C6AF-9165-4DF6-80AE-2CE8D8659B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29B5-7273-4968-AEFE-6C44CD729B4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asures of Angles and Rot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 4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revolutions equal 7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83FC-2EFD-4EC2-A2A4-CE6BC1D05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1981080" y="2819520"/>
          <a:ext cx="475632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19520"/>
                    <a:ext cx="47563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Box 6"/>
          <p:cNvSpPr/>
          <p:nvPr/>
        </p:nvSpPr>
        <p:spPr>
          <a:xfrm>
            <a:off x="2525400" y="4800600"/>
            <a:ext cx="39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75 revol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Pages 236 – 238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2 – 30 evens!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1963-B25D-4B03-BB6E-87A87A2E2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3E98-7866-4F35-BC57-40FD8C370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adian Meas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3048120" y="4756320"/>
          <a:ext cx="30477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756320"/>
                    <a:ext cx="30477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adians in a full rotation -- once around the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360° in a full rotatio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nvert from degrees to radians or radians to degrees, use the propor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6380-3614-4915-BCDF-BE539095D2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ample Proble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degree measure equivalent of       radi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5257800" y="3505320"/>
          <a:ext cx="265104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505320"/>
                    <a:ext cx="26510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1065240" y="3505320"/>
          <a:ext cx="289728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5240" y="3505320"/>
                    <a:ext cx="28972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1600200" y="2624040"/>
          <a:ext cx="538200" cy="88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2624040"/>
                    <a:ext cx="53820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7"/>
          <p:cNvSpPr/>
          <p:nvPr/>
        </p:nvSpPr>
        <p:spPr>
          <a:xfrm>
            <a:off x="480060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radian measure equivalent of 210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648320" y="1905120"/>
            <a:ext cx="0" cy="495288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69AD-46C7-4020-A5BF-D04D68D132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Unit Circ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7238880" y="228600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5334120" y="4191120"/>
            <a:ext cx="38098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6248520" y="3276720"/>
            <a:ext cx="1904760" cy="1828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7620120" y="335268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ine a circle on the coordinate plane, with its center at the origin, and a radius of 1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a point on the circle somewhere in quadrant 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s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Draw a circle and rays showing a rotation of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 radi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2E30-5F47-49DD-8F0C-635455E7D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2819520" y="2895480"/>
            <a:ext cx="3886200" cy="3733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0" name="Straight Arrow Connector 9"/>
          <p:cNvCxnSpPr/>
          <p:nvPr/>
        </p:nvCxnSpPr>
        <p:spPr>
          <a:xfrm>
            <a:off x="4723920" y="4800600"/>
            <a:ext cx="266796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1" name="Straight Arrow Connector 11"/>
          <p:cNvCxnSpPr/>
          <p:nvPr/>
        </p:nvCxnSpPr>
        <p:spPr>
          <a:xfrm flipV="1">
            <a:off x="4724280" y="3123360"/>
            <a:ext cx="1829520" cy="167724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32" name="TextBox 15"/>
          <p:cNvSpPr/>
          <p:nvPr/>
        </p:nvSpPr>
        <p:spPr>
          <a:xfrm>
            <a:off x="5414040" y="42670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5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1 continued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two other radian measures of the same rotation.  (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 + 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9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 - 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-7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EA95-84CB-4164-9438-5E8280525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31.4159 radians to deg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50AA-CFD7-4CE7-BDF8-7B71B840E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2362320" y="2743200"/>
          <a:ext cx="30477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743200"/>
                    <a:ext cx="30477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4"/>
          <p:cNvGraphicFramePr/>
          <p:nvPr/>
        </p:nvGraphicFramePr>
        <p:xfrm>
          <a:off x="1828800" y="4114800"/>
          <a:ext cx="442116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114800"/>
                    <a:ext cx="44211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Box 7"/>
          <p:cNvSpPr/>
          <p:nvPr/>
        </p:nvSpPr>
        <p:spPr>
          <a:xfrm>
            <a:off x="3139200" y="5715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1799.99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800 degre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4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radians approximatel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EA65-7A7A-4C18-9D5B-630A908F0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2362320" y="2743200"/>
          <a:ext cx="30477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743200"/>
                    <a:ext cx="30477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4"/>
          <p:cNvGraphicFramePr/>
          <p:nvPr/>
        </p:nvGraphicFramePr>
        <p:xfrm>
          <a:off x="2666880" y="3886200"/>
          <a:ext cx="254484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886200"/>
                    <a:ext cx="254484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Box 7"/>
          <p:cNvSpPr/>
          <p:nvPr/>
        </p:nvSpPr>
        <p:spPr>
          <a:xfrm>
            <a:off x="3146040" y="5715000"/>
            <a:ext cx="449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x = .73 radia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8E64-DBD0-4B23-AEF0-0AD60AFFE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tle 1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Content Placeholder 2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4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radians exactl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905120" y="3352680"/>
          <a:ext cx="48225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352680"/>
                    <a:ext cx="48225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Box 8"/>
          <p:cNvSpPr/>
          <p:nvPr/>
        </p:nvSpPr>
        <p:spPr>
          <a:xfrm>
            <a:off x="3521520" y="5257800"/>
            <a:ext cx="38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 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/ 30 radi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4T15:24:57Z</dcterms:created>
  <dc:creator>Carolyn C. Wheater</dc:creator>
  <dc:description/>
  <dc:language>en-US</dc:language>
  <cp:lastModifiedBy>teacher</cp:lastModifiedBy>
  <dcterms:modified xsi:type="dcterms:W3CDTF">2010-11-17T02:27:59Z</dcterms:modified>
  <cp:revision>80</cp:revision>
  <dc:subject/>
  <dc:title>Trigonometry</dc:title>
</cp:coreProperties>
</file>