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0E2B-6581-420B-A2B5-CAB0575D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B37F-8416-4492-8A17-0B1A86BA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26B-F9F6-4EAE-8499-7DEF3C80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C59-223F-482B-B1E1-2AC65A31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19FC-4535-444A-8AEC-AEA84123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A905-9EC7-4BA7-B9D6-B2E40FC6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C41A-4D42-42A6-AE0C-DE1E740C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69CF-D528-4286-A846-FB7C069C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C97F-FF39-4685-98E4-B9FCE34D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4D91-69C1-484B-BA04-7E92273D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8C13-204C-4E3F-8EE2-31AC50F9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618-C439-45CA-B9B9-EA5FED51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AB3B-0CBE-4116-B3ED-7E923E4E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2CC0-0910-424F-A439-64183B97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CF5C-6E1D-494D-BBD2-B747B90E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65E3-B6E1-4566-A180-D0FC4A20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E9F8-945D-4BAE-8F1E-45B9B1BE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81386-FC16-4BAF-8657-13521588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5E998-145D-4A02-B703-1AA7C3E2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55A76-14A1-4B59-A67B-8F4F9600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ED2F7-12DA-4A92-A8A0-754C19ED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AD932-268A-4A54-B1B8-DD9C8622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665-8032-4A75-BF42-55E99025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E051A-A2E3-4662-B928-F0AC0935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998EF-846B-4499-972F-953B8C08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C0DEF-B111-40BE-962B-ED07CA4E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E63CA-96C6-4090-8AAA-ED905DF4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4D59D-8885-4BCF-845C-44F522B4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B7195-CBC4-4B92-BB09-1BE22869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C0041-0B29-4059-A43C-0CD2361A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AD38F-F1C6-414E-8DD6-D1CEBB32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A5170-84AC-4EDA-83A7-05365C4A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60C2E-9EE0-4B19-8477-11EC5C38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197C-91FE-4A54-9907-80DB244E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C5F89-EC31-4FC4-880B-1BF5F93B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DD83F-6489-4A96-9DF0-47506014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EDA94-6EC5-4910-931D-1CBD63BB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D1BFC-D016-48AA-B409-C8AADA68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C8ED6-B3DF-446C-858B-1ECEE6D4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9CA83-4B7B-4793-A811-29AA23DD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E883E-E518-4EFF-818C-16DDAD6F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87123-D393-4E85-83C2-DA20D5E6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F4F88-9F1B-4C95-BC17-73BA33FA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115DF-C2C7-4A25-BDC2-9C17E889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6CA-1EBD-4BAD-BA10-D61DF100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D3D7C-DCE2-418F-8E3E-397DA480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61DA7-FD93-4B6E-ADC4-880CBEA1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2DC78-05EE-4FDE-B1E9-27D2C127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7CAA2-A808-455C-B8C8-31461CDB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7B7F5-2C56-4F35-AA60-19B8E48D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6F821-3F93-478E-BC18-6005498A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744C7-C124-4BE7-B86E-7CE53EFB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E27E0-A4EF-4058-9552-426EB14F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A2E3F-DD83-441F-BAE8-C8C30E77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E9CC9-D9A4-480B-848F-42884B77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F35-6207-407B-974B-4CC704D3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1665F-EDC7-4FBE-8ED1-780C54A3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09F80-5315-4C08-8477-FAF178FA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3ACAA-3A95-4AAF-A0C3-E9402848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07DB1-4B65-4C34-A4A9-FF11BD5B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D9109-6DE1-49A7-9C97-2EC950CF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871D7-795C-42CD-A764-EA0A90D8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8F004-61CE-439D-A7C4-2CBA0B8D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AC735-74D8-4207-B77E-D51DE4A8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44A8A-36CD-4F4D-A463-9A3F41FD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4489E-C703-4342-BA1F-58F44764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396-9100-4559-82F1-13CD041A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9BC0D-BA2D-44E8-8802-4550CF43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F7B9C-0919-4BA3-9A40-1433A86B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B7C3F-0D0D-448A-834C-6590044F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F8024-61FD-48BE-A691-60DD7B13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101B8-5D63-4EC9-B516-362BDDCC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814AA-DE42-4A55-A1C3-7E541910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EAE74-9E34-4DDA-835E-E030F044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C595F-96CC-41EC-9C01-3677010E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F342F-B78D-421C-B92F-F339C42D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2F58B-A8B1-46F8-A66C-CD95B47F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174-4A21-4857-9FD1-A8F22442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E1BB7-B91F-44B0-9BFD-FDD4A705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0A092-C532-483C-968B-5E39277C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93782-159D-44FA-BB61-F2228F0D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AB759-F75D-46DE-B4E8-7E7D99AD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1A638-F74F-4E70-B28A-8CC92ECA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2F82-1946-404B-BA11-21467C4D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5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6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79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4CF4-55CE-4A3C-B3EA-00ECF39086CF}" type="slidenum">
              <a:rPr b="0" lang="en-US" sz="1200" spc="-1" strike="noStrike">
                <a:solidFill>
                  <a:srgbClr val="79579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5" marL="1425600" indent="-182520">
              <a:buClr>
                <a:srgbClr val="f9e70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6" marL="1425600" indent="-182520">
              <a:buClr>
                <a:srgbClr val="f9e70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9e84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9e84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9e84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08B7-38F6-40F8-8C91-242FA70843AD}" type="slidenum">
              <a:rPr b="0" lang="en-US" sz="1200" spc="-1" strike="noStrike">
                <a:solidFill>
                  <a:srgbClr val="f9e84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5" marL="1425600" indent="-182520">
              <a:buClr>
                <a:srgbClr val="f9e70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  <a:p>
            <a:pPr lvl="6" marL="1425600" indent="-182520">
              <a:buClr>
                <a:srgbClr val="f9e70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705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9e705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9e84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9e84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9e84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FB99-CD8E-488A-AA25-2DE0472A6B8D}" type="slidenum">
              <a:rPr b="0" lang="en-US" sz="1200" spc="-1" strike="noStrike">
                <a:solidFill>
                  <a:srgbClr val="f9e84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5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6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79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E2FB-7796-4A0A-8191-2F6A58AAE5B2}" type="slidenum">
              <a:rPr b="0" lang="en-US" sz="1200" spc="-1" strike="noStrike">
                <a:solidFill>
                  <a:srgbClr val="79579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5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6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79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6339-1C63-497E-8E2B-F3837C91A83A}" type="slidenum">
              <a:rPr b="0" lang="en-US" sz="1200" spc="-1" strike="noStrike">
                <a:solidFill>
                  <a:srgbClr val="79579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f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5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6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79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AE7F-0EC3-4164-9720-031D38C43C53}" type="slidenum">
              <a:rPr b="0" lang="en-US" sz="1200" spc="-1" strike="noStrike">
                <a:solidFill>
                  <a:srgbClr val="79579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e7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00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2" marL="995400" indent="-228600">
              <a:buClr>
                <a:srgbClr val="5dff0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3" marL="1216080" indent="-182520">
              <a:buClr>
                <a:srgbClr val="0066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4" marL="1425600" indent="-182520">
              <a:buClr>
                <a:srgbClr val="ff66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5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6" marL="1425600" indent="-182520">
              <a:buClr>
                <a:srgbClr val="6b3d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795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795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BB29-A7C6-481B-9275-FD00149A8B41}" type="slidenum">
              <a:rPr b="0" lang="en-US" sz="1200" spc="-1" strike="noStrike">
                <a:solidFill>
                  <a:srgbClr val="795795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2.4</a:t>
            </a:r>
            <a:endParaRPr b="0" lang="en-US" sz="2000" spc="-1" strike="noStrike">
              <a:solidFill>
                <a:srgbClr val="f9e705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In 1995, the U.S. population was estimated at 264,000,000 people and was predicted to grow about .9% a year for the near future. 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3d8c"/>
                </a:solidFill>
                <a:latin typeface="Corbel"/>
              </a:rPr>
              <a:t>With these assumptions, give a formula for the US population x years after 1995.</a:t>
            </a:r>
            <a:endParaRPr b="0" lang="en-US" sz="28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b3d8c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b3d8c"/>
                </a:solidFill>
                <a:latin typeface="Corbel"/>
              </a:rPr>
              <a:t>From the formula, estimate the population in 2010.</a:t>
            </a:r>
            <a:endParaRPr b="0" lang="en-US" sz="28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39" name="TextBox 3"/>
          <p:cNvSpPr/>
          <p:nvPr/>
        </p:nvSpPr>
        <p:spPr>
          <a:xfrm>
            <a:off x="1964520" y="4267080"/>
            <a:ext cx="53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y = 264,000,000 * (1.009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(x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–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1995)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40" name="TextBox 4"/>
          <p:cNvSpPr/>
          <p:nvPr/>
        </p:nvSpPr>
        <p:spPr>
          <a:xfrm>
            <a:off x="2195640" y="5486400"/>
            <a:ext cx="56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y = 264,000,000 * (1.009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(2010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–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orbel"/>
              </a:rPr>
              <a:t>1995)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2568600" y="609588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y = 302 million</a:t>
            </a:r>
            <a:endParaRPr b="0" lang="en-US" sz="28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Compare and Contrast the graphs of the 3 functions f, g, and h, where 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(x) = 6</a:t>
            </a:r>
            <a:r>
              <a:rPr b="0" lang="en-US" sz="3200" spc="-1" strike="noStrike" baseline="30000">
                <a:solidFill>
                  <a:srgbClr val="6b3d8c"/>
                </a:solidFill>
                <a:latin typeface="Corbel"/>
              </a:rPr>
              <a:t>x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G(x) = (1/6)</a:t>
            </a:r>
            <a:r>
              <a:rPr b="0" lang="en-US" sz="3200" spc="-1" strike="noStrike" baseline="30000">
                <a:solidFill>
                  <a:srgbClr val="6b3d8c"/>
                </a:solidFill>
                <a:latin typeface="Corbel"/>
              </a:rPr>
              <a:t>x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H(x) = 6</a:t>
            </a:r>
            <a:r>
              <a:rPr b="0" lang="en-US" sz="3200" spc="-1" strike="noStrike" baseline="30000">
                <a:solidFill>
                  <a:srgbClr val="6b3d8c"/>
                </a:solidFill>
                <a:latin typeface="Corbel"/>
              </a:rPr>
              <a:t>-x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2"/>
          <a:srcRect l="54377" t="10998" r="28125" b="69004"/>
          <a:stretch/>
        </p:blipFill>
        <p:spPr>
          <a:xfrm>
            <a:off x="4114800" y="2971800"/>
            <a:ext cx="4191120" cy="2994120"/>
          </a:xfrm>
          <a:prstGeom prst="rect">
            <a:avLst/>
          </a:prstGeom>
          <a:ln w="0">
            <a:noFill/>
          </a:ln>
        </p:spPr>
      </p:pic>
      <p:sp>
        <p:nvSpPr>
          <p:cNvPr id="345" name="Left Arrow 4"/>
          <p:cNvSpPr/>
          <p:nvPr/>
        </p:nvSpPr>
        <p:spPr>
          <a:xfrm rot="2137800">
            <a:off x="1998720" y="3855600"/>
            <a:ext cx="1844640" cy="11764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ff00ff"/>
          </a:solidFill>
          <a:ln w="4788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orbel"/>
              </a:rPr>
              <a:t>G and H are the same!</a:t>
            </a: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76320" y="541008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3d8c"/>
                </a:solidFill>
                <a:latin typeface="Corbel"/>
              </a:rPr>
              <a:t>*same y – intercept</a:t>
            </a:r>
            <a:endParaRPr b="0" lang="en-US" sz="2400" spc="-1" strike="noStrike">
              <a:solidFill>
                <a:srgbClr val="6b3d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3d8c"/>
                </a:solidFill>
                <a:latin typeface="Corbel"/>
              </a:rPr>
              <a:t>*reflection over y-axis</a:t>
            </a:r>
            <a:endParaRPr b="0" lang="en-US" sz="2400" spc="-1" strike="noStrike">
              <a:solidFill>
                <a:srgbClr val="6b3d8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3d8c"/>
                </a:solidFill>
                <a:latin typeface="Corbel"/>
              </a:rPr>
              <a:t>*f is growth, g and h are decay</a:t>
            </a:r>
            <a:endParaRPr b="0" lang="en-US" sz="2400" spc="-1" strike="noStrike">
              <a:solidFill>
                <a:srgbClr val="6b3d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0" y="1143000"/>
            <a:ext cx="91440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78000"/>
          </a:bodyPr>
          <a:p>
            <a:pPr marL="341640" indent="-248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b3d8c"/>
                </a:solidFill>
                <a:latin typeface="Corbel"/>
              </a:rPr>
              <a:t>Pages 109 – 110</a:t>
            </a:r>
            <a:endParaRPr b="0" lang="en-US" sz="8800" spc="-1" strike="noStrike">
              <a:solidFill>
                <a:srgbClr val="6b3d8c"/>
              </a:solidFill>
              <a:latin typeface="Corbel"/>
            </a:endParaRPr>
          </a:p>
          <a:p>
            <a:pPr marL="341640" indent="-248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b3d8c"/>
                </a:solidFill>
                <a:latin typeface="Corbel"/>
              </a:rPr>
              <a:t>12 - 19</a:t>
            </a:r>
            <a:endParaRPr b="0" lang="en-US" sz="8800" spc="-1" strike="noStrike">
              <a:solidFill>
                <a:srgbClr val="6b3d8c"/>
              </a:solidFill>
              <a:latin typeface="Corbel"/>
            </a:endParaRPr>
          </a:p>
          <a:p>
            <a:pPr marL="341640" indent="-248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b3d8c"/>
              </a:solidFill>
              <a:latin typeface="Corbel"/>
            </a:endParaRPr>
          </a:p>
          <a:p>
            <a:pPr marL="341640" indent="-248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b3d8c"/>
                </a:solidFill>
                <a:latin typeface="Corbel"/>
              </a:rPr>
              <a:t>21- extra credit!</a:t>
            </a:r>
            <a:endParaRPr b="0" lang="en-US" sz="6600" spc="-1" strike="noStrike">
              <a:solidFill>
                <a:srgbClr val="6b3d8c"/>
              </a:solidFill>
              <a:latin typeface="Corbel"/>
            </a:endParaRPr>
          </a:p>
          <a:p>
            <a:pPr marL="341640" indent="-248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b3d8c"/>
                </a:solidFill>
                <a:latin typeface="Corbel"/>
              </a:rPr>
              <a:t>Must hand in your work!</a:t>
            </a:r>
            <a:endParaRPr b="0" lang="en-US" sz="6600" spc="-1" strike="noStrike">
              <a:solidFill>
                <a:srgbClr val="6b3d8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Identify the variables, domain, and range of functions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Describe properties of exponential functions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ind and interpret exponential models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Graph exponential functions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Interpret properties of relations from graphs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Exponential Function with base b: a function with a formula of the form: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f(x) = ab</a:t>
            </a:r>
            <a:r>
              <a:rPr b="0" lang="en-US" sz="3200" spc="-1" strike="noStrike" baseline="30000">
                <a:solidFill>
                  <a:srgbClr val="6b3d8c"/>
                </a:solidFill>
                <a:latin typeface="Corbel"/>
              </a:rPr>
              <a:t>x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Where a ≠ 0, b &gt;0, and b≠ 1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Exponential growth function: base b &gt; 1, and a &gt;0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Exponential Decay:  0&lt; base b &lt; 1 and a &gt; 0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298440" y="-79200"/>
            <a:ext cx="8242200" cy="9871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67616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Let b ≠ 1 be a positive real number.  Then positive real numbers x, y is the logarithm of x to the base b, written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y = log</a:t>
            </a:r>
            <a:r>
              <a:rPr b="0" lang="en-US" sz="3200" spc="-1" strike="noStrike" baseline="-25000">
                <a:solidFill>
                  <a:srgbClr val="6b3d8c"/>
                </a:solidFill>
                <a:latin typeface="Corbel"/>
              </a:rPr>
              <a:t>b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x      iff  x= b</a:t>
            </a:r>
            <a:r>
              <a:rPr b="0" lang="en-US" sz="3200" spc="-1" strike="noStrike" baseline="30000">
                <a:solidFill>
                  <a:srgbClr val="6b3d8c"/>
                </a:solidFill>
                <a:latin typeface="Corbel"/>
              </a:rPr>
              <a:t>y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buClr>
                <a:srgbClr val="ff00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When b = 10, the log of x is called the common logarithm 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buClr>
                <a:srgbClr val="ff00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07160" indent="-296280">
              <a:buClr>
                <a:srgbClr val="ff00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Remember,  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5"/>
              <p:cNvSpPr txBox="1"/>
              <p:nvPr/>
            </p:nvSpPr>
            <p:spPr>
              <a:xfrm>
                <a:off x="3483000" y="5692680"/>
                <a:ext cx="192096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3"/>
          <p:cNvSpPr/>
          <p:nvPr/>
        </p:nvSpPr>
        <p:spPr>
          <a:xfrm>
            <a:off x="2514600" y="1600200"/>
            <a:ext cx="3352680" cy="1219320"/>
          </a:xfrm>
          <a:prstGeom prst="rect">
            <a:avLst/>
          </a:prstGeom>
          <a:solidFill>
            <a:srgbClr val="002d2d"/>
          </a:solidFill>
          <a:ln w="4788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Approximate log</a:t>
            </a:r>
            <a:r>
              <a:rPr b="0" lang="en-US" sz="3200" spc="-1" strike="noStrike" baseline="-25000">
                <a:solidFill>
                  <a:srgbClr val="6b3d8c"/>
                </a:solidFill>
                <a:latin typeface="Corbel"/>
              </a:rPr>
              <a:t>9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243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2"/>
          <a:stretch/>
        </p:blipFill>
        <p:spPr>
          <a:xfrm>
            <a:off x="2514600" y="1600200"/>
            <a:ext cx="3362400" cy="12193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0" y="167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b3d8c"/>
              </a:solidFill>
              <a:latin typeface="Arial"/>
            </a:endParaRPr>
          </a:p>
        </p:txBody>
      </p:sp>
      <p:sp>
        <p:nvSpPr>
          <p:cNvPr id="323" name="TextBox 14"/>
          <p:cNvSpPr/>
          <p:nvPr/>
        </p:nvSpPr>
        <p:spPr>
          <a:xfrm>
            <a:off x="4952880" y="54864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3d8c"/>
                </a:solidFill>
                <a:latin typeface="Century Gothic"/>
              </a:rPr>
              <a:t>2.5</a:t>
            </a:r>
            <a:endParaRPr b="0" lang="en-US" sz="3200" spc="-1" strike="noStrike">
              <a:solidFill>
                <a:srgbClr val="6b3d8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15"/>
              <p:cNvSpPr txBox="1"/>
              <p:nvPr/>
            </p:nvSpPr>
            <p:spPr>
              <a:xfrm>
                <a:off x="2362320" y="3733920"/>
                <a:ext cx="389736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243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09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5638680" y="2232000"/>
            <a:ext cx="3200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base b &gt; 1, and a &gt;0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exponential growth curve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508644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6171840" y="1752480"/>
            <a:ext cx="25909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Notice that the y – intercept is equal to a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398520" indent="-2901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398520" indent="-2901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398520" indent="-2901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The slope is based on b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2"/>
          <a:srcRect l="18124" t="7998" r="63752" b="73005"/>
          <a:stretch/>
        </p:blipFill>
        <p:spPr>
          <a:xfrm>
            <a:off x="0" y="2209680"/>
            <a:ext cx="6280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5105520" cy="4613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5638680" y="2232000"/>
            <a:ext cx="3200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base 0 &lt; b &lt; 1, and a &gt;0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exponential decay curve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5410080" y="1774800"/>
            <a:ext cx="32767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Domain and range are the same.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Y-intercept is the same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f00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3d8c"/>
                </a:solidFill>
                <a:latin typeface="Corbel"/>
              </a:rPr>
              <a:t>Neither graph intersects the x-axis</a:t>
            </a:r>
            <a:endParaRPr b="0" lang="en-US" sz="3200" spc="-1" strike="noStrike">
              <a:solidFill>
                <a:srgbClr val="6b3d8c"/>
              </a:solidFill>
              <a:latin typeface="Corbel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4572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6:24:53Z</dcterms:created>
  <dc:creator>teacher</dc:creator>
  <dc:description/>
  <dc:language>en-US</dc:language>
  <cp:lastModifiedBy>Laura Helbing</cp:lastModifiedBy>
  <dcterms:modified xsi:type="dcterms:W3CDTF">2012-09-20T19:05:46Z</dcterms:modified>
  <cp:revision>8</cp:revision>
  <dc:subject/>
  <dc:title>Exponential Functions</dc:title>
</cp:coreProperties>
</file>