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0B1-3E78-4CE4-9D72-5DF6FA81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878B-D501-4EE7-96F2-4E151B1E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78FE-1E1B-4284-9381-5F25E09C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28B0-7DF4-4DE3-8267-BC01BDB4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602B-90AE-4ED1-BC5E-78E8E6E9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6D85-64BD-4421-B69F-F5B5B4C8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7629-EEB1-423A-9D6E-39C4ECE8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7AA8-4E70-4537-A648-C5D183A6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BE3F-3120-43C2-874D-16AB0730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6913-6690-4B2A-8890-89A894FB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6466-CEC7-4391-85AA-523645EA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4AC-2E03-456B-B4CF-2AC18AFB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4BBD-44C3-45DE-9705-C7BB8A8A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ABF4-1A70-44DD-AC59-AFF5E3C7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687F-BD96-4F63-BBBD-017A553F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2E0A-25ED-405C-8B50-00B41110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49A7-6597-4838-8CE3-83088E59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69ADC-4546-467B-95D3-F75C8763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07D41-2727-46B0-B459-64C0D19B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1C00B-AFAF-4224-973C-6895CCAC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1CB68-5B73-4734-B966-CCABF0F5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FB170-82B2-4277-A755-B06A9EAE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50A0-8639-475B-875B-0DD695DA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1CF1A-E521-406C-BF09-BA08E9DA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FD31D-841F-4079-86FD-C1E2F9A9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24A16-1B90-4C70-A145-8C948ECE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3CAEA-BB69-4EAF-8AAB-F0EE6CDA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33ED0-719B-43CC-896D-E9BBE8E2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530EF-32DA-4881-B54C-51C23EFA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16CE3-97E2-4463-8B20-83088A27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80FDF-BE8F-40CC-9025-F269F69B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AE58E-4FBB-4EAD-BDF3-54262613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6406F-6870-4DD4-88A8-65355765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F9E6-6523-4E2A-861E-45DFD009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1C800-5D4E-42DB-A0DB-22781FF9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D94B3-0C4F-427E-BE78-147C7CBC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966AE-0514-469D-B24E-F00DCD58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EE16D-D2C5-4CAF-8925-149EC18B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D9FE0-A1D1-43AA-9F8C-E4D54E96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ACFDE-D97D-4A19-A0FF-800C9A42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62F0E-6B27-4112-B1E7-97F7CF41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49EFF-C856-4DE9-A217-E6159F2E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F9A38-8479-4B37-877F-F2D120A0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ECEAB-A0B8-490B-B815-C7EFBEB4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D6B2-25EF-49EC-8CB0-D0D3818B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9D8E0-21CA-4DC4-AA85-B6849EFB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60AFB-9713-4A52-ABA1-B7B3B48B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78644-8421-4C10-81AA-8858E5C5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02700-8E1F-4B5E-BEB5-45094B5F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13A38-C19A-476C-A148-A0202958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F39C4-4E74-4776-A71D-FFC6B915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C8E95-0AEB-4E54-A11F-35EF4AF4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B0D82-4291-4591-8941-BC246E67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E8AF3-13BB-4D55-8FCA-CB1DF4A6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4428A-5479-4EAD-BE91-7C05F047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4245-BF82-4799-9979-D6D02BB5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C8955-21C8-41E5-9039-4DAF356E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2F127-115B-406E-AD3F-E6EFF2AA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E08E8-880C-4F9C-B48C-1E3894A9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574E5-6AFE-4942-B1D4-7954B7FF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11181-40EF-413C-B16B-54C82049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BC312-0E0E-4E03-81EE-07588840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16785-1ABB-4795-970F-B9B3E558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F13B3-8246-4933-9752-EE4E85BF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FBF71-0A61-4924-B822-23A38FF5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602E4-0168-418A-AD53-F2B1A41C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DB9C-A9F4-41B7-BE8C-35978044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675B7-97BB-4C17-9724-F0B472DA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F4C04-AEE6-41A2-9A78-25F5D66A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CD0DC-9A3D-4AFE-AEC4-D3970E6B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7572D-0AD9-489B-8875-537ACF6C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FB721-9187-4597-B984-1DABB703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E874C-DE66-4609-B7D5-FBECB113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FF393-F7AB-4D3E-95CE-D3B2A437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9073E-7237-45EB-A1B8-DD3A1BAE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53644-B54F-47C6-A069-50F25903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FB5CD-830A-4D2F-82FC-8B697AAE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40FF-E690-42FB-A383-9570B818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E9215-6E37-4628-8ADB-14C9F162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F1068-E202-42D2-B00A-55A33AD7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F0E6C-0DB1-4186-AED9-DF2577FA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01079-97AE-4011-9F58-2385A1D5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04705-9617-4437-81FB-AE3CCF5F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29A8-B4D6-46DB-B696-64A355B2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2" marL="995400" indent="-228600">
              <a:buClr>
                <a:srgbClr val="5dff0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3" marL="1216080" indent="-182520">
              <a:buClr>
                <a:srgbClr val="0066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4" marL="1425600" indent="-182520">
              <a:buClr>
                <a:srgbClr val="ff66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5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6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79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42FF-C219-4713-84C4-6C5BEC588F8E}" type="slidenum">
              <a:rPr b="0" lang="en-US" sz="1200" spc="-1" strike="noStrike">
                <a:solidFill>
                  <a:srgbClr val="79579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1" marL="730080" indent="-272880"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2" marL="995400" indent="-228600">
              <a:buClr>
                <a:srgbClr val="5dff0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3" marL="1216080" indent="-182520">
              <a:buClr>
                <a:srgbClr val="0066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4" marL="1425600" indent="-182520">
              <a:buClr>
                <a:srgbClr val="ff66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5" marL="1425600" indent="-182520">
              <a:buClr>
                <a:srgbClr val="f9e70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6" marL="1425600" indent="-182520">
              <a:buClr>
                <a:srgbClr val="f9e70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9e84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9e84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9e84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728B-627F-408C-B1D3-E28B0111E169}" type="slidenum">
              <a:rPr b="0" lang="en-US" sz="1200" spc="-1" strike="noStrike">
                <a:solidFill>
                  <a:srgbClr val="f9e84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1" marL="730080" indent="-272880"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2" marL="995400" indent="-228600">
              <a:buClr>
                <a:srgbClr val="5dff0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3" marL="1216080" indent="-182520">
              <a:buClr>
                <a:srgbClr val="0066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4" marL="1425600" indent="-182520">
              <a:buClr>
                <a:srgbClr val="ff66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5" marL="1425600" indent="-182520">
              <a:buClr>
                <a:srgbClr val="f9e70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6" marL="1425600" indent="-182520">
              <a:buClr>
                <a:srgbClr val="f9e70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9e84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9e84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9e84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F5CF-61C7-481A-8560-7BE6F0594998}" type="slidenum">
              <a:rPr b="0" lang="en-US" sz="1200" spc="-1" strike="noStrike">
                <a:solidFill>
                  <a:srgbClr val="f9e84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2" marL="995400" indent="-228600">
              <a:buClr>
                <a:srgbClr val="5dff0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3" marL="1216080" indent="-182520">
              <a:buClr>
                <a:srgbClr val="0066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4" marL="1425600" indent="-182520">
              <a:buClr>
                <a:srgbClr val="ff66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5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6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79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C565-5B3D-4B04-A956-A2AE8CFE5828}" type="slidenum">
              <a:rPr b="0" lang="en-US" sz="1200" spc="-1" strike="noStrike">
                <a:solidFill>
                  <a:srgbClr val="79579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2" marL="995400" indent="-228600">
              <a:buClr>
                <a:srgbClr val="5dff0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3" marL="1216080" indent="-182520">
              <a:buClr>
                <a:srgbClr val="0066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4" marL="1425600" indent="-182520">
              <a:buClr>
                <a:srgbClr val="ff66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5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6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79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2BDB-BF58-41E5-AEF1-78D99EAB5B0B}" type="slidenum">
              <a:rPr b="0" lang="en-US" sz="1200" spc="-1" strike="noStrike">
                <a:solidFill>
                  <a:srgbClr val="79579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2" marL="995400" indent="-228600">
              <a:buClr>
                <a:srgbClr val="5dff0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3" marL="1216080" indent="-182520">
              <a:buClr>
                <a:srgbClr val="0066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4" marL="1425600" indent="-182520">
              <a:buClr>
                <a:srgbClr val="ff66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5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6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79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3338-5CA0-4D0A-A693-91752193253B}" type="slidenum">
              <a:rPr b="0" lang="en-US" sz="1200" spc="-1" strike="noStrike">
                <a:solidFill>
                  <a:srgbClr val="79579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2" marL="995400" indent="-228600">
              <a:buClr>
                <a:srgbClr val="5dff0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3" marL="1216080" indent="-182520">
              <a:buClr>
                <a:srgbClr val="0066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4" marL="1425600" indent="-182520">
              <a:buClr>
                <a:srgbClr val="ff66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5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6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79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A1EB-6223-4B7A-8270-2750573E0FDA}" type="slidenum">
              <a:rPr b="0" lang="en-US" sz="1200" spc="-1" strike="noStrike">
                <a:solidFill>
                  <a:srgbClr val="79579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esson 2.4</a:t>
            </a:r>
            <a:endParaRPr b="0" lang="en-US" sz="2000" spc="-1" strike="noStrike">
              <a:solidFill>
                <a:srgbClr val="f9e705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In 1995, the U.S. population was estimated at 264,000,000 people and was predicted to grow about .9% a year for the near future. 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3d8c"/>
                </a:solidFill>
                <a:latin typeface="Corbel"/>
              </a:rPr>
              <a:t>With these assumptions, give a formula for the US population x years after 1995.</a:t>
            </a:r>
            <a:endParaRPr b="0" lang="en-US" sz="28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3d8c"/>
                </a:solidFill>
                <a:latin typeface="Corbel"/>
              </a:rPr>
              <a:t>From the formula, estimate the population in 2010.</a:t>
            </a:r>
            <a:endParaRPr b="0" lang="en-US" sz="28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39" name="TextBox 3"/>
          <p:cNvSpPr/>
          <p:nvPr/>
        </p:nvSpPr>
        <p:spPr>
          <a:xfrm>
            <a:off x="1964520" y="4267080"/>
            <a:ext cx="53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y = 264,000,000 * (1.009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rbel"/>
              </a:rPr>
              <a:t>(x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rbel"/>
              </a:rPr>
              <a:t>–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rbel"/>
              </a:rPr>
              <a:t>1995)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40" name="TextBox 4"/>
          <p:cNvSpPr/>
          <p:nvPr/>
        </p:nvSpPr>
        <p:spPr>
          <a:xfrm>
            <a:off x="2195640" y="5486400"/>
            <a:ext cx="56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y = 264,000,000 * (1.009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rbel"/>
              </a:rPr>
              <a:t>(2010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rbel"/>
              </a:rPr>
              <a:t>–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rbel"/>
              </a:rPr>
              <a:t>1995)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41" name="TextBox 5"/>
          <p:cNvSpPr/>
          <p:nvPr/>
        </p:nvSpPr>
        <p:spPr>
          <a:xfrm>
            <a:off x="2568600" y="609588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y = 302 million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Compare and Contrast the graphs of the 3 functions f, g, and h, where 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(x) = 6</a:t>
            </a:r>
            <a:r>
              <a:rPr b="0" lang="en-US" sz="3200" spc="-1" strike="noStrike" baseline="30000">
                <a:solidFill>
                  <a:srgbClr val="6b3d8c"/>
                </a:solidFill>
                <a:latin typeface="Corbel"/>
              </a:rPr>
              <a:t>x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G(x) = (1/6)</a:t>
            </a:r>
            <a:r>
              <a:rPr b="0" lang="en-US" sz="3200" spc="-1" strike="noStrike" baseline="30000">
                <a:solidFill>
                  <a:srgbClr val="6b3d8c"/>
                </a:solidFill>
                <a:latin typeface="Corbel"/>
              </a:rPr>
              <a:t>x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H(x) = 6</a:t>
            </a:r>
            <a:r>
              <a:rPr b="0" lang="en-US" sz="3200" spc="-1" strike="noStrike" baseline="30000">
                <a:solidFill>
                  <a:srgbClr val="6b3d8c"/>
                </a:solidFill>
                <a:latin typeface="Corbel"/>
              </a:rPr>
              <a:t>-x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2"/>
          <a:srcRect l="54377" t="10998" r="28125" b="69004"/>
          <a:stretch/>
        </p:blipFill>
        <p:spPr>
          <a:xfrm>
            <a:off x="4114800" y="2971800"/>
            <a:ext cx="4191120" cy="2994120"/>
          </a:xfrm>
          <a:prstGeom prst="rect">
            <a:avLst/>
          </a:prstGeom>
          <a:ln w="0">
            <a:noFill/>
          </a:ln>
        </p:spPr>
      </p:pic>
      <p:sp>
        <p:nvSpPr>
          <p:cNvPr id="345" name="Left Arrow 4"/>
          <p:cNvSpPr/>
          <p:nvPr/>
        </p:nvSpPr>
        <p:spPr>
          <a:xfrm rot="2137800">
            <a:off x="1998720" y="3855600"/>
            <a:ext cx="1844640" cy="11764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ff00ff"/>
          </a:solidFill>
          <a:ln w="4788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rbel"/>
              </a:rPr>
              <a:t>G and H are the same!</a:t>
            </a: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76320" y="541008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3d8c"/>
                </a:solidFill>
                <a:latin typeface="Corbel"/>
              </a:rPr>
              <a:t>*same y – intercept</a:t>
            </a:r>
            <a:endParaRPr b="0" lang="en-US" sz="2400" spc="-1" strike="noStrike">
              <a:solidFill>
                <a:srgbClr val="6b3d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3d8c"/>
                </a:solidFill>
                <a:latin typeface="Corbel"/>
              </a:rPr>
              <a:t>*reflection over y-axis</a:t>
            </a:r>
            <a:endParaRPr b="0" lang="en-US" sz="2400" spc="-1" strike="noStrike">
              <a:solidFill>
                <a:srgbClr val="6b3d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3d8c"/>
                </a:solidFill>
                <a:latin typeface="Corbel"/>
              </a:rPr>
              <a:t>*f is growth, g and h are decay</a:t>
            </a:r>
            <a:endParaRPr b="0" lang="en-US" sz="24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0" y="1143000"/>
            <a:ext cx="91440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78000"/>
          </a:bodyPr>
          <a:p>
            <a:pPr marL="341640" indent="-248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b3d8c"/>
                </a:solidFill>
                <a:latin typeface="Corbel"/>
              </a:rPr>
              <a:t>Pages 109 – 110</a:t>
            </a:r>
            <a:endParaRPr b="0" lang="en-US" sz="8800" spc="-1" strike="noStrike">
              <a:solidFill>
                <a:srgbClr val="6b3d8c"/>
              </a:solidFill>
              <a:latin typeface="Corbel"/>
            </a:endParaRPr>
          </a:p>
          <a:p>
            <a:pPr marL="341640" indent="-248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b3d8c"/>
                </a:solidFill>
                <a:latin typeface="Corbel"/>
              </a:rPr>
              <a:t>12 - 19</a:t>
            </a:r>
            <a:endParaRPr b="0" lang="en-US" sz="8800" spc="-1" strike="noStrike">
              <a:solidFill>
                <a:srgbClr val="6b3d8c"/>
              </a:solidFill>
              <a:latin typeface="Corbel"/>
            </a:endParaRPr>
          </a:p>
          <a:p>
            <a:pPr marL="341640" indent="-248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b3d8c"/>
              </a:solidFill>
              <a:latin typeface="Corbel"/>
            </a:endParaRPr>
          </a:p>
          <a:p>
            <a:pPr marL="341640" indent="-248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b3d8c"/>
                </a:solidFill>
                <a:latin typeface="Corbel"/>
              </a:rPr>
              <a:t>21- extra credit!</a:t>
            </a:r>
            <a:endParaRPr b="0" lang="en-US" sz="6600" spc="-1" strike="noStrike">
              <a:solidFill>
                <a:srgbClr val="6b3d8c"/>
              </a:solidFill>
              <a:latin typeface="Corbel"/>
            </a:endParaRPr>
          </a:p>
          <a:p>
            <a:pPr marL="341640" indent="-248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b3d8c"/>
                </a:solidFill>
                <a:latin typeface="Corbel"/>
              </a:rPr>
              <a:t>Must hand in your work!</a:t>
            </a:r>
            <a:endParaRPr b="0" lang="en-US" sz="6600" spc="-1" strike="noStrike">
              <a:solidFill>
                <a:srgbClr val="6b3d8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Identify the variables, domain, and range of functions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Describe properties of exponential functions.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ind and interpret exponential models.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Graph exponential functions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Interpret properties of relations from graphs.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Exponential Function with base b: a function with a formula of the form: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(x) = ab</a:t>
            </a:r>
            <a:r>
              <a:rPr b="0" lang="en-US" sz="3200" spc="-1" strike="noStrike" baseline="30000">
                <a:solidFill>
                  <a:srgbClr val="6b3d8c"/>
                </a:solidFill>
                <a:latin typeface="Corbel"/>
              </a:rPr>
              <a:t>x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Where a ≠ 0, b &gt;0, and b≠ 1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Exponential growth function: base b &gt; 1, and a &gt;0.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Exponential Decay:  0&lt; base b &lt; 1 and a &gt; 0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298440" y="-79200"/>
            <a:ext cx="8242200" cy="9871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676160"/>
            <a:ext cx="8229600" cy="4778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Let b ≠ 1 be a positive real number.  Then positive real numbers x, y is the logarithm of x to the base b, written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y = log</a:t>
            </a:r>
            <a:r>
              <a:rPr b="0" lang="en-US" sz="3200" spc="-1" strike="noStrike" baseline="-25000">
                <a:solidFill>
                  <a:srgbClr val="6b3d8c"/>
                </a:solidFill>
                <a:latin typeface="Corbel"/>
              </a:rPr>
              <a:t>b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x      iff  x= b</a:t>
            </a:r>
            <a:r>
              <a:rPr b="0" lang="en-US" sz="3200" spc="-1" strike="noStrike" baseline="30000">
                <a:solidFill>
                  <a:srgbClr val="6b3d8c"/>
                </a:solidFill>
                <a:latin typeface="Corbel"/>
              </a:rPr>
              <a:t>y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07160" indent="-296280">
              <a:buClr>
                <a:srgbClr val="ff00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When b = 10, the log of x is called the common logarithm 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07160" indent="-296280">
              <a:buClr>
                <a:srgbClr val="ff00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07160" indent="-296280">
              <a:buClr>
                <a:srgbClr val="ff00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Remember,  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5"/>
              <p:cNvSpPr txBox="1"/>
              <p:nvPr/>
            </p:nvSpPr>
            <p:spPr>
              <a:xfrm>
                <a:off x="3483000" y="5692680"/>
                <a:ext cx="192096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3"/>
          <p:cNvSpPr/>
          <p:nvPr/>
        </p:nvSpPr>
        <p:spPr>
          <a:xfrm>
            <a:off x="2514600" y="1600200"/>
            <a:ext cx="3352680" cy="1219320"/>
          </a:xfrm>
          <a:prstGeom prst="rect">
            <a:avLst/>
          </a:prstGeom>
          <a:solidFill>
            <a:srgbClr val="002d2d"/>
          </a:solidFill>
          <a:ln w="4788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Approximate log</a:t>
            </a:r>
            <a:r>
              <a:rPr b="0" lang="en-US" sz="3200" spc="-1" strike="noStrike" baseline="-25000">
                <a:solidFill>
                  <a:srgbClr val="6b3d8c"/>
                </a:solidFill>
                <a:latin typeface="Corbel"/>
              </a:rPr>
              <a:t>9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243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0" y="1066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pic>
        <p:nvPicPr>
          <p:cNvPr id="318" name="Picture 4" descr=""/>
          <p:cNvPicPr/>
          <p:nvPr/>
        </p:nvPicPr>
        <p:blipFill>
          <a:blip r:embed="rId2"/>
          <a:stretch/>
        </p:blipFill>
        <p:spPr>
          <a:xfrm>
            <a:off x="2514600" y="1600200"/>
            <a:ext cx="3362400" cy="12193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6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23" name="TextBox 14"/>
          <p:cNvSpPr/>
          <p:nvPr/>
        </p:nvSpPr>
        <p:spPr>
          <a:xfrm>
            <a:off x="4952880" y="54864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3d8c"/>
                </a:solidFill>
                <a:latin typeface="Century Gothic"/>
              </a:rPr>
              <a:t>2.5</a:t>
            </a:r>
            <a:endParaRPr b="0" lang="en-US" sz="3200" spc="-1" strike="noStrike">
              <a:solidFill>
                <a:srgbClr val="6b3d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15"/>
              <p:cNvSpPr txBox="1"/>
              <p:nvPr/>
            </p:nvSpPr>
            <p:spPr>
              <a:xfrm>
                <a:off x="2362320" y="3733920"/>
                <a:ext cx="389736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243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09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5638680" y="2232000"/>
            <a:ext cx="3200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base b &gt; 1, and a &gt;0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Wingdings"/>
                <a:ea typeface="Wingdings"/>
              </a:rPr>
              <a:t>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exponential growth curve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508644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6171840" y="1752480"/>
            <a:ext cx="25909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Notice that the y – intercept is equal to a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398520" indent="-2901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398520" indent="-2901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398520" indent="-2901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The slope is based on b.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2"/>
          <a:srcRect l="18124" t="7998" r="63752" b="73005"/>
          <a:stretch/>
        </p:blipFill>
        <p:spPr>
          <a:xfrm>
            <a:off x="0" y="2209680"/>
            <a:ext cx="6280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5105520" cy="4613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5638680" y="2232000"/>
            <a:ext cx="3200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base 0 &lt; b &lt; 1, and a &gt;0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Wingdings"/>
                <a:ea typeface="Wingdings"/>
              </a:rPr>
              <a:t>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exponential decay curve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5410080" y="1774800"/>
            <a:ext cx="32767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Domain and range are the same.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Y-intercept is the same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Neither graph intersects the x-axis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45720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6:24:53Z</dcterms:created>
  <dc:creator>teacher</dc:creator>
  <dc:description/>
  <dc:language>en-US</dc:language>
  <cp:lastModifiedBy>Laura Helbing</cp:lastModifiedBy>
  <dcterms:modified xsi:type="dcterms:W3CDTF">2012-09-20T19:05:46Z</dcterms:modified>
  <cp:revision>8</cp:revision>
  <dc:subject/>
  <dc:title>Exponential Functions</dc:title>
</cp:coreProperties>
</file>