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75F-DD7F-40DE-B390-77B3C9BD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443-9A4B-4021-A0AE-3E489A8F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E04-43EA-4C22-B3FC-F53040D6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C88-2685-45A9-8C6C-61A5FD0F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1D2A-AF21-4AB6-BF4C-01CC28A5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0B68-4935-4BEB-9C46-12916A6C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144F-EEC4-436D-B643-9E243B89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C47D-2AE1-414F-B543-CDFEEBE8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11DA-F3AD-409C-823D-D6F6F4A7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A6D7-5DF0-4B01-8A65-C6FAD713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9F68-4222-4364-9A2B-22AE2B18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A9E-1C82-4BB0-A0FE-4C95EDDA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E9C5-4750-45F5-BB09-21609EEC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BA6B-6132-404C-B90E-EC8D62CC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8A75-F522-47AB-B7A5-6CDA5D8A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3C53-71C0-4A5A-9F56-D417E02E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28CA-A271-4A91-9E23-5219D0F8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E023F-DBC0-48DE-A9DD-90EC6EAF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B9529-F35A-41AA-BA78-25FFE794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03B72-6E64-4896-A25E-A8DD0A89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D66E7-6542-4A8E-9FE4-84EA7B38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C182-B2E4-432E-B205-5C487263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A475-7A0D-4007-8ED0-0C1EB336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C1DDC-47C5-4171-8B5D-C32DFA94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07A9E-0E0A-486C-9949-D62DE83E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E642-0884-4B6D-99C6-53D4AB7D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21A3D-0F4D-4E8C-B945-7C4EBD1D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175E1-1C59-4C34-AC77-FD5FFB28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EF017-B49E-43AE-ACA2-EA9AA1F5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B2711-8E0C-4BC3-9422-7D5B2366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FD41C-86BA-4726-9AA5-2F5D1C86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09F2B-BC93-4141-94D2-FE35BF47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053B5-18E5-407F-AB06-52433F3F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AAF-06CA-4D46-A8D4-4E20FBD4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31A70-E9CE-45D2-8BC3-4DC6BBA5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08EC3-A0AE-43D7-BF93-6FE4A71F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8D8AC-71DB-43C7-8325-DA5302C4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EA0E0-1D1A-4586-BCD6-A3BAEFE5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2FE24-26D7-4174-980D-25E8FB64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5CE04-BE84-4FAD-BBEC-DDB8C14D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B0586-B7C9-4CB3-A8BC-A3AE0E4B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ABF87-BADD-4C55-8F03-A3CCE1D6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B0813-C7C3-43A8-B5C8-D020841A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08379-8646-471E-9713-9A636CDE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D47-E8F2-4943-A860-326D2471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B964F-2322-486C-8513-79891A7D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9FD49-FD75-4C1C-BD80-89AD6333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FE015-4AA3-4025-B8EA-9F976BD3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0FA56-0EBD-4226-9F80-50DB1E85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DCDCC-946C-403E-95F3-1DE8E53F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21552-EA45-40A9-A48F-D4F6FB9E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6175A-2999-43E4-B79E-1F92FA51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CFCA5-1B15-4BAE-96BB-3ABDF695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2E312-6E3E-4896-9197-D4496D18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FB502-BF38-4007-A858-5DB7AA80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C640-1E3A-4AF1-B114-CFA968BB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AE498-03D3-41F9-B5AF-AB5D2ABA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3BA29-B435-4BBE-89FE-8E37B2FF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8DC4A-7E02-405C-8CC1-57380D05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ACA51-1B87-4680-A7FA-722B1244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C5C14-FFAF-42B7-8D7A-3B2A5E25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882D2-79F2-425B-B4F2-5F84AC8A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CD00E-39AC-43D0-9184-687EB6F7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02672-A554-43EA-BABD-3889C3AB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45274-38A7-40BB-9CD9-493470AD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AF45B-AE63-428B-9275-65482DA3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8EC-8C20-4D45-AE5B-8CEE3EDA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CC463-B8B7-479D-9D15-DBAE5372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F998F-A106-4AB1-9140-DFD203FB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6B5C2-DA69-45C2-AE59-DAB57AC9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8B646-F5C5-41E7-83AF-A82713E6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BD784-BDD7-4186-866B-BC68F148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09943-0767-475C-A218-5E96DF74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6D2AC-B301-4F91-BDD4-67918BBA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4C470-D6A8-48E7-BDDB-9E24A614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23772-E3E0-4649-9A9C-39D0BA2D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5F4C9-AF00-417C-B184-125E7BBA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BE2A-0330-4A7C-9525-586F5445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9371C-B2E9-4837-B320-00558D21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FF0DD-D923-47EB-9021-0959992E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0EFCA-A4A1-47A9-B06D-92288C0A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510C7-9470-4627-A74A-7C910253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1890A-E5C4-494D-BDF8-03EE5D09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7B80-1B5D-4D15-8279-83AC337E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5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6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79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7501-A016-4057-BB92-E574F08BDC4F}" type="slidenum">
              <a:rPr b="0" lang="en-US" sz="1200" spc="-1" strike="noStrike">
                <a:solidFill>
                  <a:srgbClr val="79579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5" marL="1425600" indent="-182520">
              <a:buClr>
                <a:srgbClr val="f9e70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6" marL="1425600" indent="-182520">
              <a:buClr>
                <a:srgbClr val="f9e70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9e84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9e84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9e84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4787-AF39-47FE-AF97-D69C44ADCD28}" type="slidenum">
              <a:rPr b="0" lang="en-US" sz="1200" spc="-1" strike="noStrike">
                <a:solidFill>
                  <a:srgbClr val="f9e84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5" marL="1425600" indent="-182520">
              <a:buClr>
                <a:srgbClr val="f9e70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6" marL="1425600" indent="-182520">
              <a:buClr>
                <a:srgbClr val="f9e70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9e84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9e84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9e84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C17F-A9CF-4EB8-BC20-616BADB9D30C}" type="slidenum">
              <a:rPr b="0" lang="en-US" sz="1200" spc="-1" strike="noStrike">
                <a:solidFill>
                  <a:srgbClr val="f9e84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5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6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79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C4BC-7EEE-451A-9D57-201BA9A0D65C}" type="slidenum">
              <a:rPr b="0" lang="en-US" sz="1200" spc="-1" strike="noStrike">
                <a:solidFill>
                  <a:srgbClr val="79579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5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6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79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A5BA-7174-4A37-81AA-534C15FBF3D1}" type="slidenum">
              <a:rPr b="0" lang="en-US" sz="1200" spc="-1" strike="noStrike">
                <a:solidFill>
                  <a:srgbClr val="79579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5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6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79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C499-4E67-4A99-A3C7-DDC20AA9BECF}" type="slidenum">
              <a:rPr b="0" lang="en-US" sz="1200" spc="-1" strike="noStrike">
                <a:solidFill>
                  <a:srgbClr val="79579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5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6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79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3621-CC8F-4DB8-9172-C1161CD90A85}" type="slidenum">
              <a:rPr b="0" lang="en-US" sz="1200" spc="-1" strike="noStrike">
                <a:solidFill>
                  <a:srgbClr val="79579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2.4</a:t>
            </a:r>
            <a:endParaRPr b="0" lang="en-US" sz="2000" spc="-1" strike="noStrike">
              <a:solidFill>
                <a:srgbClr val="f9e705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In 1995, the U.S. population was estimated at 264,000,000 people and was predicted to grow about .9% a year for the near future. 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3d8c"/>
                </a:solidFill>
                <a:latin typeface="Corbel"/>
              </a:rPr>
              <a:t>With these assumptions, give a formula for the US population x years after 1995.</a:t>
            </a:r>
            <a:endParaRPr b="0" lang="en-US" sz="28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3d8c"/>
                </a:solidFill>
                <a:latin typeface="Corbel"/>
              </a:rPr>
              <a:t>From the formula, estimate the population in 2010.</a:t>
            </a:r>
            <a:endParaRPr b="0" lang="en-US" sz="28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39" name="TextBox 3"/>
          <p:cNvSpPr/>
          <p:nvPr/>
        </p:nvSpPr>
        <p:spPr>
          <a:xfrm>
            <a:off x="1964520" y="4267080"/>
            <a:ext cx="53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y = 264,000,000 * (1.009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(x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–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1995)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2195640" y="5486400"/>
            <a:ext cx="56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y = 264,000,000 * (1.009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(2010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–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1995)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2568600" y="609588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y = 302 million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ompare and Contrast the graphs of the 3 functions f, g, and h, where 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(x) = 6</a:t>
            </a:r>
            <a:r>
              <a:rPr b="0" lang="en-US" sz="3200" spc="-1" strike="noStrike" baseline="30000">
                <a:solidFill>
                  <a:srgbClr val="6b3d8c"/>
                </a:solidFill>
                <a:latin typeface="Corbel"/>
              </a:rPr>
              <a:t>x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G(x) = (1/6)</a:t>
            </a:r>
            <a:r>
              <a:rPr b="0" lang="en-US" sz="3200" spc="-1" strike="noStrike" baseline="30000">
                <a:solidFill>
                  <a:srgbClr val="6b3d8c"/>
                </a:solidFill>
                <a:latin typeface="Corbel"/>
              </a:rPr>
              <a:t>x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H(x) = 6</a:t>
            </a:r>
            <a:r>
              <a:rPr b="0" lang="en-US" sz="3200" spc="-1" strike="noStrike" baseline="30000">
                <a:solidFill>
                  <a:srgbClr val="6b3d8c"/>
                </a:solidFill>
                <a:latin typeface="Corbel"/>
              </a:rPr>
              <a:t>-x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2"/>
          <a:srcRect l="54377" t="10998" r="28125" b="69004"/>
          <a:stretch/>
        </p:blipFill>
        <p:spPr>
          <a:xfrm>
            <a:off x="4114800" y="2971800"/>
            <a:ext cx="4191120" cy="2994120"/>
          </a:xfrm>
          <a:prstGeom prst="rect">
            <a:avLst/>
          </a:prstGeom>
          <a:ln w="0">
            <a:noFill/>
          </a:ln>
        </p:spPr>
      </p:pic>
      <p:sp>
        <p:nvSpPr>
          <p:cNvPr id="345" name="Left Arrow 4"/>
          <p:cNvSpPr/>
          <p:nvPr/>
        </p:nvSpPr>
        <p:spPr>
          <a:xfrm rot="2137800">
            <a:off x="1998720" y="3855600"/>
            <a:ext cx="1844640" cy="11764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ff00ff"/>
          </a:solidFill>
          <a:ln w="4788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rbel"/>
              </a:rPr>
              <a:t>G and H are the same!</a:t>
            </a: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76320" y="541008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3d8c"/>
                </a:solidFill>
                <a:latin typeface="Corbel"/>
              </a:rPr>
              <a:t>*same y – intercept</a:t>
            </a:r>
            <a:endParaRPr b="0" lang="en-US" sz="2400" spc="-1" strike="noStrike">
              <a:solidFill>
                <a:srgbClr val="6b3d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3d8c"/>
                </a:solidFill>
                <a:latin typeface="Corbel"/>
              </a:rPr>
              <a:t>*reflection over y-axis</a:t>
            </a:r>
            <a:endParaRPr b="0" lang="en-US" sz="2400" spc="-1" strike="noStrike">
              <a:solidFill>
                <a:srgbClr val="6b3d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3d8c"/>
                </a:solidFill>
                <a:latin typeface="Corbel"/>
              </a:rPr>
              <a:t>*f is growth, g and h are decay</a:t>
            </a:r>
            <a:endParaRPr b="0" lang="en-US" sz="24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0" y="1143000"/>
            <a:ext cx="91440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78000"/>
          </a:bodyPr>
          <a:p>
            <a:pPr marL="341640" indent="-248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b3d8c"/>
                </a:solidFill>
                <a:latin typeface="Corbel"/>
              </a:rPr>
              <a:t>Pages 109 – 110</a:t>
            </a:r>
            <a:endParaRPr b="0" lang="en-US" sz="8800" spc="-1" strike="noStrike">
              <a:solidFill>
                <a:srgbClr val="6b3d8c"/>
              </a:solidFill>
              <a:latin typeface="Corbel"/>
            </a:endParaRPr>
          </a:p>
          <a:p>
            <a:pPr marL="341640" indent="-248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b3d8c"/>
                </a:solidFill>
                <a:latin typeface="Corbel"/>
              </a:rPr>
              <a:t>12 - 19</a:t>
            </a:r>
            <a:endParaRPr b="0" lang="en-US" sz="8800" spc="-1" strike="noStrike">
              <a:solidFill>
                <a:srgbClr val="6b3d8c"/>
              </a:solidFill>
              <a:latin typeface="Corbel"/>
            </a:endParaRPr>
          </a:p>
          <a:p>
            <a:pPr marL="341640" indent="-248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b3d8c"/>
              </a:solidFill>
              <a:latin typeface="Corbel"/>
            </a:endParaRPr>
          </a:p>
          <a:p>
            <a:pPr marL="341640" indent="-248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b3d8c"/>
                </a:solidFill>
                <a:latin typeface="Corbel"/>
              </a:rPr>
              <a:t>21- extra credit!</a:t>
            </a:r>
            <a:endParaRPr b="0" lang="en-US" sz="6600" spc="-1" strike="noStrike">
              <a:solidFill>
                <a:srgbClr val="6b3d8c"/>
              </a:solidFill>
              <a:latin typeface="Corbel"/>
            </a:endParaRPr>
          </a:p>
          <a:p>
            <a:pPr marL="341640" indent="-248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b3d8c"/>
                </a:solidFill>
                <a:latin typeface="Corbel"/>
              </a:rPr>
              <a:t>Must hand in your work!</a:t>
            </a:r>
            <a:endParaRPr b="0" lang="en-US" sz="6600" spc="-1" strike="noStrike">
              <a:solidFill>
                <a:srgbClr val="6b3d8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Identify the variables, domain, and range of functions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Describe properties of exponential functions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nd and interpret exponential models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Graph exponential functions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Interpret properties of relations from graphs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Exponential Function with base b: a function with a formula of the form: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(x) = ab</a:t>
            </a:r>
            <a:r>
              <a:rPr b="0" lang="en-US" sz="3200" spc="-1" strike="noStrike" baseline="30000">
                <a:solidFill>
                  <a:srgbClr val="6b3d8c"/>
                </a:solidFill>
                <a:latin typeface="Corbel"/>
              </a:rPr>
              <a:t>x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Where a ≠ 0, b &gt;0, and b≠ 1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Exponential growth function: base b &gt; 1, and a &gt;0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Exponential Decay:  0&lt; base b &lt; 1 and a &gt; 0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298440" y="-79200"/>
            <a:ext cx="8242200" cy="9871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67616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Let b ≠ 1 be a positive real number.  Then positive real numbers x, y is the logarithm of x to the base b, written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y = log</a:t>
            </a:r>
            <a:r>
              <a:rPr b="0" lang="en-US" sz="3200" spc="-1" strike="noStrike" baseline="-25000">
                <a:solidFill>
                  <a:srgbClr val="6b3d8c"/>
                </a:solidFill>
                <a:latin typeface="Corbel"/>
              </a:rPr>
              <a:t>b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x      iff  x= b</a:t>
            </a:r>
            <a:r>
              <a:rPr b="0" lang="en-US" sz="3200" spc="-1" strike="noStrike" baseline="30000">
                <a:solidFill>
                  <a:srgbClr val="6b3d8c"/>
                </a:solidFill>
                <a:latin typeface="Corbel"/>
              </a:rPr>
              <a:t>y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buClr>
                <a:srgbClr val="ff00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When b = 10, the log of x is called the common logarithm 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buClr>
                <a:srgbClr val="ff00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buClr>
                <a:srgbClr val="ff00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Remember,  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5"/>
              <p:cNvSpPr txBox="1"/>
              <p:nvPr/>
            </p:nvSpPr>
            <p:spPr>
              <a:xfrm>
                <a:off x="3483000" y="5692680"/>
                <a:ext cx="192096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3"/>
          <p:cNvSpPr/>
          <p:nvPr/>
        </p:nvSpPr>
        <p:spPr>
          <a:xfrm>
            <a:off x="2514600" y="1600200"/>
            <a:ext cx="3352680" cy="1219320"/>
          </a:xfrm>
          <a:prstGeom prst="rect">
            <a:avLst/>
          </a:prstGeom>
          <a:solidFill>
            <a:srgbClr val="002d2d"/>
          </a:solidFill>
          <a:ln w="4788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Approximate log</a:t>
            </a:r>
            <a:r>
              <a:rPr b="0" lang="en-US" sz="3200" spc="-1" strike="noStrike" baseline="-25000">
                <a:solidFill>
                  <a:srgbClr val="6b3d8c"/>
                </a:solidFill>
                <a:latin typeface="Corbel"/>
              </a:rPr>
              <a:t>9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243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2"/>
          <a:stretch/>
        </p:blipFill>
        <p:spPr>
          <a:xfrm>
            <a:off x="2514600" y="1600200"/>
            <a:ext cx="3362400" cy="12193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23" name="TextBox 14"/>
          <p:cNvSpPr/>
          <p:nvPr/>
        </p:nvSpPr>
        <p:spPr>
          <a:xfrm>
            <a:off x="4952880" y="54864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3d8c"/>
                </a:solidFill>
                <a:latin typeface="Century Gothic"/>
              </a:rPr>
              <a:t>2.5</a:t>
            </a:r>
            <a:endParaRPr b="0" lang="en-US" sz="3200" spc="-1" strike="noStrike">
              <a:solidFill>
                <a:srgbClr val="6b3d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15"/>
              <p:cNvSpPr txBox="1"/>
              <p:nvPr/>
            </p:nvSpPr>
            <p:spPr>
              <a:xfrm>
                <a:off x="2362320" y="3733920"/>
                <a:ext cx="389736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243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0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5638680" y="2232000"/>
            <a:ext cx="3200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base b &gt; 1, and a &gt;0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exponential growth curve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508644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6171840" y="1752480"/>
            <a:ext cx="25909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Notice that the y – intercept is equal to a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398520" indent="-2901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398520" indent="-2901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398520" indent="-2901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e slope is based on b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2"/>
          <a:srcRect l="18124" t="7998" r="63752" b="73005"/>
          <a:stretch/>
        </p:blipFill>
        <p:spPr>
          <a:xfrm>
            <a:off x="0" y="2209680"/>
            <a:ext cx="6280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5105520" cy="4613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5638680" y="2232000"/>
            <a:ext cx="3200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base 0 &lt; b &lt; 1, and a &gt;0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exponential decay curve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5410080" y="1774800"/>
            <a:ext cx="32767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Domain and range are the same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Y-intercept is the same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Neither graph intersects the x-axis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4572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6:24:53Z</dcterms:created>
  <dc:creator>teacher</dc:creator>
  <dc:description/>
  <dc:language>en-US</dc:language>
  <cp:lastModifiedBy>Laura Helbing</cp:lastModifiedBy>
  <dcterms:modified xsi:type="dcterms:W3CDTF">2012-09-20T19:05:46Z</dcterms:modified>
  <cp:revision>8</cp:revision>
  <dc:subject/>
  <dc:title>Exponential Functions</dc:title>
</cp:coreProperties>
</file>