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2565-397F-427B-B88C-ABD7041C3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F24E-9465-4870-8EB5-FA4418A58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910C-DB28-49FD-9BDC-8559F3D3B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71DE-04D9-410B-8FCA-4AA2A9728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848F2-2F43-499F-8D0F-482A47F07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B456F-07F8-4B38-BB77-8E111C031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4B22D-C206-4EF2-808D-8664570CA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64954-DB1D-40CD-90E2-F096413FF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06F26-F424-42CC-A898-BD38B93A1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24617-C7BB-48D3-AAC6-8682218DF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7A9EC-1E0A-4D3F-8959-AE0172E3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6594-6B2A-4415-AC34-9C1B6BF30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AB24C-B170-40E8-8F47-1001578AB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468B3-18C7-44A4-AEC3-27B6106E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E1686-CF59-4C9F-8565-A3B16288C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DFDAF-F7C5-4B4F-8988-3A07E575A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9FD96-3DEC-43B6-97CC-F583FBB58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B469F-DACA-4CB9-880C-B2406A473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CC6AA-3B29-4894-BB7D-3F7A12DBF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E661A-8155-4EAE-8244-1CB19D960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0E042-7085-4178-B778-54F9BCB1A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45CCB-BED5-473B-AAEC-21DB86A01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3CD7-8EDA-4821-8ED9-101CC0E4B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C9EBC-D73B-4003-AF1E-D08083E46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A1D77-49F1-49DB-AFF8-A63163E86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EA4F0-737F-4E3B-97E7-2F14D26E4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F4B55-C85F-470F-8D2F-2C54D61B8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DBAEB-E8F2-4CBB-BA01-5B3F96199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ED607-FD19-40FE-8D64-2618B13DD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56863-054D-4F46-9371-2AEC906A5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3B57E-12B7-4A35-AA1B-5978AE4BB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32EC4-FC31-4DEF-8D73-1EC098A3F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78EB7-E55A-4326-905C-E58D86A15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DF49-7468-4356-9AC8-142654077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F8EF2-CDA0-402C-9D70-D0DFA33C4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47E8C-62BE-4F45-9775-BBAB2CF05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F1A44-6CFA-4D8B-A05E-D57B4F308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A15DB-2D4F-40A7-8539-CDA339B5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A601B-88C8-47E4-9809-68F87E6E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24D4B-E700-4CE2-A9DF-87DA4B9EB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ECE05-4272-4ED4-B1B6-43BAC0510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A1E75-ECC8-4857-8227-5DEC59516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809BE-2663-457D-A36C-6234D89AF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12117A-86A2-4D87-A1F9-3E751C73F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BF95-7B25-4D39-ABF4-19EC6FB87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08E7B-0D7D-45C1-8140-97F9C7954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2255A-8A3F-4AB0-8C21-7F5CB9E8C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1C260D-728E-4867-B4FA-354F5B262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8E1A8-47D8-43D0-BB8D-A9BFFAB34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51AC4-085C-427E-B0D1-0401597FB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8E75A4-6186-41F4-9BD6-BB327C5E9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9E5B9D-6340-4412-B848-5A3AB46A7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96B945-5BC5-4A29-8C63-ECD5788E6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9D647-4447-4186-B608-9B8DB34CC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581C93-D3B3-4298-B4AF-FF6C7DD15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64AB-ED93-4D23-BE74-8F90571BF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0A54C3-441B-422F-B71F-4820424BE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F6E37B-65CB-4AAC-B417-4951FA597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4764EC-7037-4FD1-AC25-159D8BB30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44CE13-342B-4386-A228-E11512BCC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4F1266-512C-45E4-B8FD-2EAC3BFA8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1C44CA-CEE4-48B6-9813-94A55C103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475361-5075-49F2-9B69-E29800EE1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692852-1176-4EF1-A97B-AE9F96DE8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63FCFB-A253-48F9-B507-1E0685B1D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B0F669-BE28-4BB4-885E-7A6F098C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0E8B-85A1-4CCE-A726-76F17661C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4FB3D4-B698-4113-86C6-DBF97375C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27DCC1-A700-4D92-97FF-94253D1D1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18F313-9A19-4C51-856E-6572CF684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D01F36-A087-4A8B-B746-A5014159C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FE1567-83B5-4579-B313-8B54129F8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366926-D892-4853-A6DF-8FF23A935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17E8EC-DAC1-48F2-BED6-7FEAF9336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DFD839-D0D5-4369-8EEE-1075BE6FB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42FBC8-EF28-447A-A1B6-77EBC2264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7BFFA0-8069-4797-94A5-F61AEDD7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B334-5BA6-402E-A85B-CF376C9BB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E3C9BA-2B30-465E-83EB-32838165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7553A1-57A4-40E2-9FF3-34156021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E14C97-E060-4820-9754-209667CCC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353A63-77BF-4EEA-9D00-43BC763F2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AE523B-02F9-4973-8916-825509009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E356-C1DC-4870-AB69-668B431F7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e70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0f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lvl="1" marL="730080" indent="-272880"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lvl="2" marL="995400" indent="-228600">
              <a:buClr>
                <a:srgbClr val="5dff0c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lvl="3" marL="1216080" indent="-182520">
              <a:buClr>
                <a:srgbClr val="0066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lvl="4" marL="1425600" indent="-182520">
              <a:buClr>
                <a:srgbClr val="ff66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lvl="5" marL="1425600" indent="-182520">
              <a:buClr>
                <a:srgbClr val="6b3d8c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lvl="6" marL="1425600" indent="-182520">
              <a:buClr>
                <a:srgbClr val="6b3d8c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795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95795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795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11268-C0E7-43F5-884C-3A3E96D46B38}" type="slidenum">
              <a:rPr b="0" lang="en-US" sz="1200" spc="-1" strike="noStrike">
                <a:solidFill>
                  <a:srgbClr val="795795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0f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705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9e705"/>
              </a:solidFill>
              <a:latin typeface="Corbel"/>
            </a:endParaRPr>
          </a:p>
          <a:p>
            <a:pPr lvl="1" marL="730080" indent="-272880"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705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9e705"/>
              </a:solidFill>
              <a:latin typeface="Corbel"/>
            </a:endParaRPr>
          </a:p>
          <a:p>
            <a:pPr lvl="2" marL="995400" indent="-228600">
              <a:buClr>
                <a:srgbClr val="5dff0c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705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9e705"/>
              </a:solidFill>
              <a:latin typeface="Corbel"/>
            </a:endParaRPr>
          </a:p>
          <a:p>
            <a:pPr lvl="3" marL="1216080" indent="-182520">
              <a:buClr>
                <a:srgbClr val="0066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705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9e705"/>
              </a:solidFill>
              <a:latin typeface="Corbel"/>
            </a:endParaRPr>
          </a:p>
          <a:p>
            <a:pPr lvl="4" marL="1425600" indent="-182520">
              <a:buClr>
                <a:srgbClr val="ff66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705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9e705"/>
              </a:solidFill>
              <a:latin typeface="Corbel"/>
            </a:endParaRPr>
          </a:p>
          <a:p>
            <a:pPr lvl="5" marL="1425600" indent="-182520">
              <a:buClr>
                <a:srgbClr val="f9e705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705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9e705"/>
              </a:solidFill>
              <a:latin typeface="Corbel"/>
            </a:endParaRPr>
          </a:p>
          <a:p>
            <a:pPr lvl="6" marL="1425600" indent="-182520">
              <a:buClr>
                <a:srgbClr val="f9e705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705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9e705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9e840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9e840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9e84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B60E3-5942-479A-8EAB-0334CD911F74}" type="slidenum">
              <a:rPr b="0" lang="en-US" sz="1200" spc="-1" strike="noStrike">
                <a:solidFill>
                  <a:srgbClr val="f9e84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0f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705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9e705"/>
              </a:solidFill>
              <a:latin typeface="Corbel"/>
            </a:endParaRPr>
          </a:p>
          <a:p>
            <a:pPr lvl="1" marL="730080" indent="-272880"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705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9e705"/>
              </a:solidFill>
              <a:latin typeface="Corbel"/>
            </a:endParaRPr>
          </a:p>
          <a:p>
            <a:pPr lvl="2" marL="995400" indent="-228600">
              <a:buClr>
                <a:srgbClr val="5dff0c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705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9e705"/>
              </a:solidFill>
              <a:latin typeface="Corbel"/>
            </a:endParaRPr>
          </a:p>
          <a:p>
            <a:pPr lvl="3" marL="1216080" indent="-182520">
              <a:buClr>
                <a:srgbClr val="0066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705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9e705"/>
              </a:solidFill>
              <a:latin typeface="Corbel"/>
            </a:endParaRPr>
          </a:p>
          <a:p>
            <a:pPr lvl="4" marL="1425600" indent="-182520">
              <a:buClr>
                <a:srgbClr val="ff66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705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9e705"/>
              </a:solidFill>
              <a:latin typeface="Corbel"/>
            </a:endParaRPr>
          </a:p>
          <a:p>
            <a:pPr lvl="5" marL="1425600" indent="-182520">
              <a:buClr>
                <a:srgbClr val="f9e705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705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9e705"/>
              </a:solidFill>
              <a:latin typeface="Corbel"/>
            </a:endParaRPr>
          </a:p>
          <a:p>
            <a:pPr lvl="6" marL="1425600" indent="-182520">
              <a:buClr>
                <a:srgbClr val="f9e705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705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9e705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9e840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9e840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9e84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C2CAC-7368-40B4-8A1F-AA604082AC44}" type="slidenum">
              <a:rPr b="0" lang="en-US" sz="1200" spc="-1" strike="noStrike">
                <a:solidFill>
                  <a:srgbClr val="f9e84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e70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0f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lvl="1" marL="730080" indent="-272880"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lvl="2" marL="995400" indent="-228600">
              <a:buClr>
                <a:srgbClr val="5dff0c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lvl="3" marL="1216080" indent="-182520">
              <a:buClr>
                <a:srgbClr val="0066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lvl="4" marL="1425600" indent="-182520">
              <a:buClr>
                <a:srgbClr val="ff66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lvl="5" marL="1425600" indent="-182520">
              <a:buClr>
                <a:srgbClr val="6b3d8c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lvl="6" marL="1425600" indent="-182520">
              <a:buClr>
                <a:srgbClr val="6b3d8c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795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95795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795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384B2-A5B3-4A66-A225-CA8E8CEB6A3C}" type="slidenum">
              <a:rPr b="0" lang="en-US" sz="1200" spc="-1" strike="noStrike">
                <a:solidFill>
                  <a:srgbClr val="795795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e70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0f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lvl="1" marL="730080" indent="-272880"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lvl="2" marL="995400" indent="-228600">
              <a:buClr>
                <a:srgbClr val="5dff0c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lvl="3" marL="1216080" indent="-182520">
              <a:buClr>
                <a:srgbClr val="0066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lvl="4" marL="1425600" indent="-182520">
              <a:buClr>
                <a:srgbClr val="ff66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lvl="5" marL="1425600" indent="-182520">
              <a:buClr>
                <a:srgbClr val="6b3d8c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lvl="6" marL="1425600" indent="-182520">
              <a:buClr>
                <a:srgbClr val="6b3d8c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795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95795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795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9948F-1360-483D-B17C-3FCF483926F9}" type="slidenum">
              <a:rPr b="0" lang="en-US" sz="1200" spc="-1" strike="noStrike">
                <a:solidFill>
                  <a:srgbClr val="795795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0f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lvl="1" marL="730080" indent="-272880"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lvl="2" marL="995400" indent="-228600">
              <a:buClr>
                <a:srgbClr val="5dff0c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lvl="3" marL="1216080" indent="-182520">
              <a:buClr>
                <a:srgbClr val="0066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lvl="4" marL="1425600" indent="-182520">
              <a:buClr>
                <a:srgbClr val="ff66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lvl="5" marL="1425600" indent="-182520">
              <a:buClr>
                <a:srgbClr val="6b3d8c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lvl="6" marL="1425600" indent="-182520">
              <a:buClr>
                <a:srgbClr val="6b3d8c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795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95795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795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54525-E465-402B-958F-E10679D2DC84}" type="slidenum">
              <a:rPr b="0" lang="en-US" sz="1200" spc="-1" strike="noStrike">
                <a:solidFill>
                  <a:srgbClr val="795795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e70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0f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lvl="1" marL="730080" indent="-272880"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lvl="2" marL="995400" indent="-228600">
              <a:buClr>
                <a:srgbClr val="5dff0c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lvl="3" marL="1216080" indent="-182520">
              <a:buClr>
                <a:srgbClr val="0066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lvl="4" marL="1425600" indent="-182520">
              <a:buClr>
                <a:srgbClr val="ff66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lvl="5" marL="1425600" indent="-182520">
              <a:buClr>
                <a:srgbClr val="6b3d8c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lvl="6" marL="1425600" indent="-182520">
              <a:buClr>
                <a:srgbClr val="6b3d8c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795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95795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795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455BF-E060-4EAD-8E46-FD6B6B964EFA}" type="slidenum">
              <a:rPr b="0" lang="en-US" sz="1200" spc="-1" strike="noStrike">
                <a:solidFill>
                  <a:srgbClr val="795795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396720" y="3157560"/>
            <a:ext cx="8375760" cy="187812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Lesson 2.4</a:t>
            </a:r>
            <a:endParaRPr b="0" lang="en-US" sz="2000" spc="-1" strike="noStrike">
              <a:solidFill>
                <a:srgbClr val="f9e705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In 1995, the U.S. population was estimated at 264,000,000 people and was predicted to grow about .9% a year for the near future. 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b3d8c"/>
                </a:solidFill>
                <a:latin typeface="Corbel"/>
              </a:rPr>
              <a:t>With these assumptions, give a formula for the US population x years after 1995.</a:t>
            </a:r>
            <a:endParaRPr b="0" lang="en-US" sz="2800" spc="-1" strike="noStrike">
              <a:solidFill>
                <a:srgbClr val="6b3d8c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b3d8c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b3d8c"/>
                </a:solidFill>
                <a:latin typeface="Corbel"/>
              </a:rPr>
              <a:t>From the formula, estimate the population in 2010.</a:t>
            </a:r>
            <a:endParaRPr b="0" lang="en-US" sz="28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339" name="TextBox 3"/>
          <p:cNvSpPr/>
          <p:nvPr/>
        </p:nvSpPr>
        <p:spPr>
          <a:xfrm>
            <a:off x="1964520" y="4267080"/>
            <a:ext cx="534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rbel"/>
              </a:rPr>
              <a:t>y = 264,000,000 * (1.009)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rbel"/>
              </a:rPr>
              <a:t>(x</a:t>
            </a:r>
            <a:r>
              <a:rPr b="1" lang="en-US" sz="2800" spc="-1" strike="noStrike">
                <a:solidFill>
                  <a:srgbClr val="ff0000"/>
                </a:solidFill>
                <a:latin typeface="Corbel"/>
              </a:rPr>
              <a:t> 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rbel"/>
              </a:rPr>
              <a:t>–</a:t>
            </a:r>
            <a:r>
              <a:rPr b="1" lang="en-US" sz="2800" spc="-1" strike="noStrike">
                <a:solidFill>
                  <a:srgbClr val="ff0000"/>
                </a:solidFill>
                <a:latin typeface="Corbel"/>
              </a:rPr>
              <a:t> 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rbel"/>
              </a:rPr>
              <a:t>1995)</a:t>
            </a:r>
            <a:endParaRPr b="0" lang="en-US" sz="2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40" name="TextBox 4"/>
          <p:cNvSpPr/>
          <p:nvPr/>
        </p:nvSpPr>
        <p:spPr>
          <a:xfrm>
            <a:off x="2195640" y="5486400"/>
            <a:ext cx="569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rbel"/>
              </a:rPr>
              <a:t>y = 264,000,000 * (1.009)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rbel"/>
              </a:rPr>
              <a:t>(2010</a:t>
            </a:r>
            <a:r>
              <a:rPr b="1" lang="en-US" sz="2800" spc="-1" strike="noStrike">
                <a:solidFill>
                  <a:srgbClr val="ff0000"/>
                </a:solidFill>
                <a:latin typeface="Corbel"/>
              </a:rPr>
              <a:t> 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rbel"/>
              </a:rPr>
              <a:t>–</a:t>
            </a:r>
            <a:r>
              <a:rPr b="1" lang="en-US" sz="2800" spc="-1" strike="noStrike">
                <a:solidFill>
                  <a:srgbClr val="ff0000"/>
                </a:solidFill>
                <a:latin typeface="Corbel"/>
              </a:rPr>
              <a:t> 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rbel"/>
              </a:rPr>
              <a:t>1995)</a:t>
            </a:r>
            <a:endParaRPr b="0" lang="en-US" sz="2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41" name="TextBox 5"/>
          <p:cNvSpPr/>
          <p:nvPr/>
        </p:nvSpPr>
        <p:spPr>
          <a:xfrm>
            <a:off x="2568600" y="6095880"/>
            <a:ext cx="280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rbe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orbel"/>
              </a:rPr>
              <a:t>y = 302 million</a:t>
            </a:r>
            <a:endParaRPr b="0" lang="en-US" sz="2800" spc="-1" strike="noStrike">
              <a:solidFill>
                <a:srgbClr val="6b3d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Compare and Contrast the graphs of the 3 functions f, g, and h, where 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F(x) = 6</a:t>
            </a:r>
            <a:r>
              <a:rPr b="0" lang="en-US" sz="3200" spc="-1" strike="noStrike" baseline="30000">
                <a:solidFill>
                  <a:srgbClr val="6b3d8c"/>
                </a:solidFill>
                <a:latin typeface="Corbel"/>
              </a:rPr>
              <a:t>x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G(x) = (1/6)</a:t>
            </a:r>
            <a:r>
              <a:rPr b="0" lang="en-US" sz="3200" spc="-1" strike="noStrike" baseline="30000">
                <a:solidFill>
                  <a:srgbClr val="6b3d8c"/>
                </a:solidFill>
                <a:latin typeface="Corbel"/>
              </a:rPr>
              <a:t>x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H(x) = 6</a:t>
            </a:r>
            <a:r>
              <a:rPr b="0" lang="en-US" sz="3200" spc="-1" strike="noStrike" baseline="30000">
                <a:solidFill>
                  <a:srgbClr val="6b3d8c"/>
                </a:solidFill>
                <a:latin typeface="Corbel"/>
              </a:rPr>
              <a:t>-x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pic>
        <p:nvPicPr>
          <p:cNvPr id="344" name="Picture 2" descr=""/>
          <p:cNvPicPr/>
          <p:nvPr/>
        </p:nvPicPr>
        <p:blipFill>
          <a:blip r:embed="rId2"/>
          <a:srcRect l="54377" t="10998" r="28125" b="69004"/>
          <a:stretch/>
        </p:blipFill>
        <p:spPr>
          <a:xfrm>
            <a:off x="4114800" y="2971800"/>
            <a:ext cx="4191120" cy="2994120"/>
          </a:xfrm>
          <a:prstGeom prst="rect">
            <a:avLst/>
          </a:prstGeom>
          <a:ln w="0">
            <a:noFill/>
          </a:ln>
        </p:spPr>
      </p:pic>
      <p:sp>
        <p:nvSpPr>
          <p:cNvPr id="345" name="Left Arrow 4"/>
          <p:cNvSpPr/>
          <p:nvPr/>
        </p:nvSpPr>
        <p:spPr>
          <a:xfrm rot="2137800">
            <a:off x="1998720" y="3855600"/>
            <a:ext cx="1844640" cy="1176480"/>
          </a:xfrm>
          <a:prstGeom prst="leftArrow">
            <a:avLst>
              <a:gd name="adj1" fmla="val 50000"/>
              <a:gd name="adj2" fmla="val 49992"/>
            </a:avLst>
          </a:prstGeom>
          <a:solidFill>
            <a:srgbClr val="ff00ff"/>
          </a:solidFill>
          <a:ln w="47880">
            <a:solidFill>
              <a:srgbClr val="bc00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orbel"/>
              </a:rPr>
              <a:t>G and H are the same!</a:t>
            </a: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46" name="TextBox 5"/>
          <p:cNvSpPr/>
          <p:nvPr/>
        </p:nvSpPr>
        <p:spPr>
          <a:xfrm>
            <a:off x="76320" y="5410080"/>
            <a:ext cx="482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b3d8c"/>
                </a:solidFill>
                <a:latin typeface="Corbel"/>
              </a:rPr>
              <a:t>*same y – intercept</a:t>
            </a:r>
            <a:endParaRPr b="0" lang="en-US" sz="2400" spc="-1" strike="noStrike">
              <a:solidFill>
                <a:srgbClr val="6b3d8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b3d8c"/>
                </a:solidFill>
                <a:latin typeface="Corbel"/>
              </a:rPr>
              <a:t>*reflection over y-axis</a:t>
            </a:r>
            <a:endParaRPr b="0" lang="en-US" sz="2400" spc="-1" strike="noStrike">
              <a:solidFill>
                <a:srgbClr val="6b3d8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b3d8c"/>
                </a:solidFill>
                <a:latin typeface="Corbel"/>
              </a:rPr>
              <a:t>*f is growth, g and h are decay</a:t>
            </a:r>
            <a:endParaRPr b="0" lang="en-US" sz="2400" spc="-1" strike="noStrike">
              <a:solidFill>
                <a:srgbClr val="6b3d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0" y="1143000"/>
            <a:ext cx="91440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78000"/>
          </a:bodyPr>
          <a:p>
            <a:pPr marL="341640" indent="-2487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6b3d8c"/>
                </a:solidFill>
                <a:latin typeface="Corbel"/>
              </a:rPr>
              <a:t>Pages 109 – 110</a:t>
            </a:r>
            <a:endParaRPr b="0" lang="en-US" sz="8800" spc="-1" strike="noStrike">
              <a:solidFill>
                <a:srgbClr val="6b3d8c"/>
              </a:solidFill>
              <a:latin typeface="Corbel"/>
            </a:endParaRPr>
          </a:p>
          <a:p>
            <a:pPr marL="341640" indent="-2487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6b3d8c"/>
                </a:solidFill>
                <a:latin typeface="Corbel"/>
              </a:rPr>
              <a:t>12 - 19</a:t>
            </a:r>
            <a:endParaRPr b="0" lang="en-US" sz="8800" spc="-1" strike="noStrike">
              <a:solidFill>
                <a:srgbClr val="6b3d8c"/>
              </a:solidFill>
              <a:latin typeface="Corbel"/>
            </a:endParaRPr>
          </a:p>
          <a:p>
            <a:pPr marL="341640" indent="-2487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6b3d8c"/>
              </a:solidFill>
              <a:latin typeface="Corbel"/>
            </a:endParaRPr>
          </a:p>
          <a:p>
            <a:pPr marL="341640" indent="-2487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b3d8c"/>
                </a:solidFill>
                <a:latin typeface="Corbel"/>
              </a:rPr>
              <a:t>21- extra credit!</a:t>
            </a:r>
            <a:endParaRPr b="0" lang="en-US" sz="6600" spc="-1" strike="noStrike">
              <a:solidFill>
                <a:srgbClr val="6b3d8c"/>
              </a:solidFill>
              <a:latin typeface="Corbel"/>
            </a:endParaRPr>
          </a:p>
          <a:p>
            <a:pPr marL="341640" indent="-2487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b3d8c"/>
                </a:solidFill>
                <a:latin typeface="Corbel"/>
              </a:rPr>
              <a:t>Must hand in your work!</a:t>
            </a:r>
            <a:endParaRPr b="0" lang="en-US" sz="6600" spc="-1" strike="noStrike">
              <a:solidFill>
                <a:srgbClr val="6b3d8c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Identify the variables, domain, and range of functions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38120" indent="-318960"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Describe properties of exponential functions.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38120" indent="-318960"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Find and interpret exponential models.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38120" indent="-318960"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Graph exponential functions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38120" indent="-318960"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Interpret properties of relations from graphs.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Exponential Function with base b: a function with a formula of the form:</a:t>
            </a: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f(x) = ab</a:t>
            </a:r>
            <a:r>
              <a:rPr b="0" lang="en-US" sz="3200" spc="-1" strike="noStrike" baseline="30000">
                <a:solidFill>
                  <a:srgbClr val="6b3d8c"/>
                </a:solidFill>
                <a:latin typeface="Corbel"/>
              </a:rPr>
              <a:t>x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Where a ≠ 0, b &gt;0, and b≠ 1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38120" indent="-318960"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Exponential growth function: base b &gt; 1, and a &gt;0.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38120" indent="-318960"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Exponential Decay:  0&lt; base b &lt; 1 and a &gt; 0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Title 1" descr=""/>
          <p:cNvPicPr/>
          <p:nvPr/>
        </p:nvPicPr>
        <p:blipFill>
          <a:blip r:embed="rId1"/>
          <a:stretch/>
        </p:blipFill>
        <p:spPr>
          <a:xfrm>
            <a:off x="298440" y="-79200"/>
            <a:ext cx="8242200" cy="98712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 txBox="1"/>
          <p:nvPr/>
        </p:nvSpPr>
        <p:spPr>
          <a:xfrm>
            <a:off x="457200" y="1676160"/>
            <a:ext cx="8229600" cy="47782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3000"/>
          </a:bodyPr>
          <a:p>
            <a:pPr marL="407160" indent="-296280"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Let b ≠ 1 be a positive real number.  Then positive real numbers x, y is the logarithm of x to the base b, written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07160" indent="-29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07160" indent="-29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y = log</a:t>
            </a:r>
            <a:r>
              <a:rPr b="0" lang="en-US" sz="3200" spc="-1" strike="noStrike" baseline="-25000">
                <a:solidFill>
                  <a:srgbClr val="6b3d8c"/>
                </a:solidFill>
                <a:latin typeface="Corbel"/>
              </a:rPr>
              <a:t>b</a:t>
            </a: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x      iff  x= b</a:t>
            </a:r>
            <a:r>
              <a:rPr b="0" lang="en-US" sz="3200" spc="-1" strike="noStrike" baseline="30000">
                <a:solidFill>
                  <a:srgbClr val="6b3d8c"/>
                </a:solidFill>
                <a:latin typeface="Corbel"/>
              </a:rPr>
              <a:t>y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07160" indent="-29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07160" indent="-296280">
              <a:buClr>
                <a:srgbClr val="ff00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When b = 10, the log of x is called the common logarithm 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07160" indent="-296280">
              <a:buClr>
                <a:srgbClr val="ff00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07160" indent="-296280">
              <a:buClr>
                <a:srgbClr val="ff00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Remember,  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1" name="Object 5"/>
              <p:cNvSpPr txBox="1"/>
              <p:nvPr/>
            </p:nvSpPr>
            <p:spPr>
              <a:xfrm>
                <a:off x="3483000" y="5692680"/>
                <a:ext cx="1920960" cy="11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13"/>
          <p:cNvSpPr/>
          <p:nvPr/>
        </p:nvSpPr>
        <p:spPr>
          <a:xfrm>
            <a:off x="2514600" y="1600200"/>
            <a:ext cx="3352680" cy="1219320"/>
          </a:xfrm>
          <a:prstGeom prst="rect">
            <a:avLst/>
          </a:prstGeom>
          <a:solidFill>
            <a:srgbClr val="002d2d"/>
          </a:solidFill>
          <a:ln w="47880">
            <a:solidFill>
              <a:srgbClr val="bc00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pic>
        <p:nvPicPr>
          <p:cNvPr id="313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38120" indent="-318960"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38120" indent="-318960"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Approximate log</a:t>
            </a:r>
            <a:r>
              <a:rPr b="0" lang="en-US" sz="3200" spc="-1" strike="noStrike" baseline="-25000">
                <a:solidFill>
                  <a:srgbClr val="6b3d8c"/>
                </a:solidFill>
                <a:latin typeface="Corbel"/>
              </a:rPr>
              <a:t>9</a:t>
            </a: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243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38120" indent="-318960"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31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0" y="1066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17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pic>
        <p:nvPicPr>
          <p:cNvPr id="318" name="Picture 4" descr=""/>
          <p:cNvPicPr/>
          <p:nvPr/>
        </p:nvPicPr>
        <p:blipFill>
          <a:blip r:embed="rId2"/>
          <a:stretch/>
        </p:blipFill>
        <p:spPr>
          <a:xfrm>
            <a:off x="2514600" y="1600200"/>
            <a:ext cx="3362400" cy="121932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6"/>
          <p:cNvSpPr/>
          <p:nvPr/>
        </p:nvSpPr>
        <p:spPr>
          <a:xfrm>
            <a:off x="0" y="1676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21" name="Rectangle 9"/>
          <p:cNvSpPr/>
          <p:nvPr/>
        </p:nvSpPr>
        <p:spPr>
          <a:xfrm>
            <a:off x="0" y="1676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22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23" name="TextBox 14"/>
          <p:cNvSpPr/>
          <p:nvPr/>
        </p:nvSpPr>
        <p:spPr>
          <a:xfrm>
            <a:off x="4952880" y="548640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3d8c"/>
                </a:solidFill>
                <a:latin typeface="Century Gothic"/>
              </a:rPr>
              <a:t>2.5</a:t>
            </a:r>
            <a:endParaRPr b="0" lang="en-US" sz="3200" spc="-1" strike="noStrike">
              <a:solidFill>
                <a:srgbClr val="6b3d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Object 15"/>
              <p:cNvSpPr txBox="1"/>
              <p:nvPr/>
            </p:nvSpPr>
            <p:spPr>
              <a:xfrm>
                <a:off x="2362320" y="3733920"/>
                <a:ext cx="3897360" cy="14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rPr>
                        <m:lit/>
                        <m:nor/>
                      </m:rPr>
                      <m:t xml:space="preserve">243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rPr>
                            <m:lit/>
                            <m:nor/>
                          </m:rPr>
                          <m:t xml:space="preserve">24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Title 1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092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5638680" y="2232000"/>
            <a:ext cx="32004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base b &gt; 1, and a &gt;0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38120" indent="-318960"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38120" indent="-318960"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Wingdings"/>
                <a:ea typeface="Wingdings"/>
              </a:rPr>
              <a:t></a:t>
            </a: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exponential growth curve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pic>
        <p:nvPicPr>
          <p:cNvPr id="327" name="Picture 2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5086440" cy="44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6171840" y="1752480"/>
            <a:ext cx="259092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1000"/>
          </a:bodyPr>
          <a:p>
            <a:pPr marL="398520" indent="-290160"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Notice that the y – intercept is equal to a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398520" indent="-290160"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398520" indent="-290160"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398520" indent="-290160"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The slope is based on b.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pic>
        <p:nvPicPr>
          <p:cNvPr id="330" name="Picture 2" descr=""/>
          <p:cNvPicPr/>
          <p:nvPr/>
        </p:nvPicPr>
        <p:blipFill>
          <a:blip r:embed="rId2"/>
          <a:srcRect l="18124" t="7998" r="63752" b="73005"/>
          <a:stretch/>
        </p:blipFill>
        <p:spPr>
          <a:xfrm>
            <a:off x="0" y="2209680"/>
            <a:ext cx="6280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3" descr=""/>
          <p:cNvPicPr/>
          <p:nvPr/>
        </p:nvPicPr>
        <p:blipFill>
          <a:blip r:embed="rId2"/>
          <a:stretch/>
        </p:blipFill>
        <p:spPr>
          <a:xfrm>
            <a:off x="457200" y="1752480"/>
            <a:ext cx="5105520" cy="46134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5638680" y="2232000"/>
            <a:ext cx="32004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base 0 &lt; b &lt; 1, and a &gt;0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38120" indent="-318960"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38120" indent="-318960"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Wingdings"/>
                <a:ea typeface="Wingdings"/>
              </a:rPr>
              <a:t></a:t>
            </a: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exponential decay curve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 txBox="1"/>
          <p:nvPr/>
        </p:nvSpPr>
        <p:spPr>
          <a:xfrm>
            <a:off x="5410080" y="1774800"/>
            <a:ext cx="327672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9000"/>
          </a:bodyPr>
          <a:p>
            <a:pPr marL="433440" indent="-315720">
              <a:lnSpc>
                <a:spcPct val="90000"/>
              </a:lnSpc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Domain and range are the same.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33440" indent="-315720">
              <a:lnSpc>
                <a:spcPct val="90000"/>
              </a:lnSpc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33440" indent="-315720">
              <a:lnSpc>
                <a:spcPct val="90000"/>
              </a:lnSpc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Y-intercept is the same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33440" indent="-315720">
              <a:lnSpc>
                <a:spcPct val="90000"/>
              </a:lnSpc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33440" indent="-315720">
              <a:lnSpc>
                <a:spcPct val="90000"/>
              </a:lnSpc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Neither graph intersects the x-axis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pic>
        <p:nvPicPr>
          <p:cNvPr id="336" name="Picture 2" descr=""/>
          <p:cNvPicPr/>
          <p:nvPr/>
        </p:nvPicPr>
        <p:blipFill>
          <a:blip r:embed="rId2"/>
          <a:stretch/>
        </p:blipFill>
        <p:spPr>
          <a:xfrm>
            <a:off x="152280" y="1600200"/>
            <a:ext cx="4572000" cy="44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" dur="20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" dur="2000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16:24:53Z</dcterms:created>
  <dc:creator>teacher</dc:creator>
  <dc:description/>
  <dc:language>en-US</dc:language>
  <cp:lastModifiedBy>Laura Helbing</cp:lastModifiedBy>
  <dcterms:modified xsi:type="dcterms:W3CDTF">2012-09-20T19:05:46Z</dcterms:modified>
  <cp:revision>8</cp:revision>
  <dc:subject/>
  <dc:title>Exponential Functions</dc:title>
</cp:coreProperties>
</file>